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94BC-1813-4EA3-AE08-F2F4B7D167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C260-2E22-43E2-A5C8-9E646AC3E3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AB5D-70DA-4B77-B914-90D52AC3A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670-AA18-420E-8231-B7A859C8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2E3F8-81CB-4D95-B1F8-B622A8BB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22A99-301F-4311-8825-0CD9E9BC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0DC15-207E-464E-904E-569BAE3D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A3920-5D0C-4134-ADEE-FD1FA5DF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6919B-C48F-4BBF-BFCD-F695F2E0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0B080-4042-4A02-B312-B1DCDA17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38A2F-7CE0-44C1-95B1-E309FDAA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FD20D-63D1-4C11-A50D-973F66E0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3D774-BCE1-4FB2-B6CE-D7E97239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3EB61-4052-481F-9C29-9F65BA08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EBD4-E470-430C-90EB-70DC439C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411ED-00BF-4825-9087-C68AF41C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84B67E-0240-4297-BEB5-F25370CB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B45BF-C5EF-490B-919C-189664C8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9342B-84B8-4AC4-AD4B-6F3D5A7C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E2FA2-B5C8-4F2F-9301-A7274371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F98B1-210A-44FB-B293-EB8FF80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F870A-ACD5-41E9-892A-5011877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F0538-3F74-49C7-BAC4-E23F4112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93328-964F-4932-AEC9-AFB14386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B17B6-B697-4FD2-8BE5-8D8CFB79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088-EE63-4FE5-87F8-8074986E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6E63C-512E-43C2-987D-B5FE9FB0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48B35-3A20-457C-A719-A040DEDE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9F5E2-8C9E-4C49-964F-72251BE9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122835-B6A0-4016-9227-8A5FFA4E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888AA-1033-46C0-BF57-12A32779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941A2-295F-4E8B-B6E6-877672D3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6E92E-5DA5-41A7-B008-4D8DD1C8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68375-7A22-46F8-801A-973C8495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A5B7F-F661-4E50-A168-5BB601F3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9C05F-5B0A-473B-A267-B7823EF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357F-B14B-42A5-9EF1-AC1EB4A3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209A1-9E79-41C9-A83F-1CBCD101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86619-4C89-4C4E-B6A2-44573FA1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58EC6-B5E8-439D-8E97-959676B0D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42C85-5237-4660-BA3F-F1DFCC34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209B5-69EF-43A8-B181-B178A524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9B3E4-EF58-4B15-AC9D-8B95CD48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4F63F-C822-43EB-870D-94BCB04E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DE52B-B33C-4AB9-AA98-14EFBEAA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8A0B4-3A2D-4A16-A916-F2532E6B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D12DC-EAE6-48FA-A6EF-84868DD7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AB0D-9156-4A6C-9F68-2A72D425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CE882-5CC5-4FA9-A61E-2C7862CA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5853A-4718-4282-BD98-B49A85E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818B98-9423-4C84-96CA-FA1217C4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03ADE-D2AA-4A3D-8F34-A4C6F45A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C7CBE-24D2-482D-AE90-1C72D55A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1035C-C2E6-470E-8352-24D8E983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1ABF1-FA5F-419B-8460-4935E17B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5BA5C-FEBE-4113-B389-51AC72F3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A0DBE0-1020-44EC-B9FB-73823BC0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B771C-4872-44E9-8329-106860B5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EFFF-68C4-4FE4-999A-2A153418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D16AE-B574-48E5-BFED-AAC061A2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2171E-2157-4E1B-AEB6-2C40E3A0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D1B5A7-2C47-46C6-B857-6248C82E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DAF05-8CA5-42D7-BD4E-F24BB619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087882-7019-480A-AA28-9526AC7D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92957-31B8-4598-B654-F46CD310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65681-73B8-41FB-B9D7-E902282D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05A1-996F-4D7C-B215-FF9AED79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BBA9-A7DD-4121-81A4-B78076A3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AC99-EE64-4E87-8837-4A3400E9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76EA-3417-4E3B-9F5C-3586FB2C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434D-1607-4B90-B265-8EAC2B25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73B5-57F5-42D9-9668-BE43FDD6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F20F-9018-4FCD-BD4B-5D8CB63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1582-CDE6-40D9-A106-CD451757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DE78-D314-478C-8A28-487123ED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CB9D-64BF-4411-BD31-401C9EB7D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40B97-F5FA-4ADC-8C42-CEE10662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29C6-C602-43B7-A291-CFD2A856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B637F-1F09-4D12-A1E9-64A42E70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D80CA-65A8-4491-A67A-95685514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9BD6-3C6C-46E9-98CE-FB8D5CBD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2D4-15B5-4EEE-8094-C692A208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B63D2-0703-4D64-8288-38DD7183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2D21E-5382-4AC5-9739-1B0C1473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E356A-8942-4445-B3CA-84D4F058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63FDD-4FB6-4BB7-8C18-E3EEAB44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2FBE3-DD98-4617-808D-5E6ADE66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3A24-8E1A-4319-A701-76086FF6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8876-4990-4582-B713-88EB117A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2A67-5271-4295-AB16-058D7E58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072E-5724-4DB5-87CD-EF7B3041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3639F-19BD-4A28-AFED-788D9EB0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9CD-1C77-4847-A2BF-42E0845E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60CD4-76FF-41B9-9775-612A004C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68627-1C2C-4119-8EB3-E6601CD3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95C2-BCEA-41BA-865E-B94AB8A5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B760-817F-47A9-834B-27A6562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3FD31-9A4A-4E7A-B90F-4F30E29C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262A9-FD6D-4FCF-A351-66491DF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A21DA-0319-45D5-B638-32F35EF6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4A45D-10DA-4F03-A9FC-D645D679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2E5B-64BB-4B60-AF6E-466C2BC3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706B6-E351-4572-9919-86FB60BA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7104-0480-48C1-9DE9-2B0DD6AB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4C34DB-3243-406D-8203-954C8C762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137D-5025-4FFB-82BD-5D2B9522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C6C58-9A24-4F37-B99A-5D5DAE94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E63A9-5433-4D86-BAF1-7489F1A4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06B65-47B6-4D93-AB25-1BCF95BE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7A43D-8C2B-4A70-8F93-729C3BF0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93B58-ABC7-47B0-8CB1-AFBE14D7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4CC9-F0D6-4688-B3EF-B4896FD1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0F67C-8C50-423A-BDB4-B798E260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EF9E7-7ED8-4AEA-A8AF-9219AD53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BEF-2DBB-43CD-98C6-E311F3E8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2C24C-43F6-419F-803A-771ABEEE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A67AE-CE53-4EA8-AAAD-A29AD335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78F8-0D39-4697-A317-9BF8BD3C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B6853-7337-4D00-AB04-CA24049F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743D4-49E1-485F-910E-7C580C0B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94C7B-D2DD-46D9-B3C8-7AE6653D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B3F38-04B2-4384-ADAA-253DC130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2B595-A3E2-417C-AB2C-BE674F83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296C4-8D63-4C73-AE08-9EE1020D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6B3D-409F-460C-9AF0-200B57FE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32C-5FB5-4E71-8AEF-94630995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42A2C-7D61-4E43-A6A1-5E3842A9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48B93-521F-45D8-B71E-2472D3F15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C956E-CBAC-417D-AB92-6995AEF5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CD891-7529-4DDD-882C-F22E9F6B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464A-83E7-4766-850A-6C0E2932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4C26E-2B7F-495C-A2D7-B30B4AB3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9B5A1-10D7-485F-AA92-A7C400C6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E7451-D55A-4397-B3A6-9F75DC58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EA828-935C-429F-BADA-6027B5DA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94A27-9228-4D02-9A2B-E31CEAA6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3BD-F02A-4AD0-936D-B1C5D7D1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5BD8-B360-47A6-9EBB-18C49249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02211-6BAF-4E57-ADD9-DA8C48F5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93047-CF60-4285-8EF6-07FAA987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F65C-F679-4EAC-A396-26EBFA27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361EF-6601-428B-A070-1D5AC809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ABADC-6EEA-4E55-8570-A8402417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2FFAD-947C-4734-98E4-9E351C6B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0C29-8F80-473E-9DE8-E678CFE3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4ECBA-75A4-44DD-ADDF-60AEB9A7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9E951-9937-4D15-82CA-BD7F4CD5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6122-1BC8-454C-A010-D7BA2EDF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321B1-E089-4011-B06B-60D1EB87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89F45-02F7-47FF-A888-E194B92F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BF933-F8AA-4C39-978C-661C3B0B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A949C-386F-4F33-8258-AC840D14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75390-7157-4466-911C-32386485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AA9B6-7DC6-4258-924C-717942DB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C1C0C-DBEE-4219-88A9-3993180C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233D88-020E-4172-B1C3-78839A86E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8996C-54CA-4054-8095-27EB440E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52B29-9FC0-4314-8891-E6FDFDD7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F133-DD36-4E3C-A24A-D2473B197F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BCF-3A8F-4D17-B761-E3950E81FFB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ABD0-4A5E-4FC9-9060-BCCFFAD8A76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17F0-6BA9-4AE0-8396-89B0CC45D60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EBAA-F005-453F-B2D2-CC0198CF2F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7A52-2DE8-4873-A370-4071EF99D4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7866-50EC-4B05-9BFF-2F22E1AE477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F7C-4566-4457-B130-B5CF508FAE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9548-92F6-41DD-945A-B3263A5AE8E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1430-C507-4B9E-9E92-FE29305FCA2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D1FD-736E-4395-8D02-E1A4C8FE3C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EB9F-4480-494E-85CC-82C0A26CDBE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04B7-FB9B-4ED5-8C7F-4253B675AF6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hyperlink" Target="http://www.1ppt.cn/" TargetMode="External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133720" y="2693880"/>
            <a:ext cx="4419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站 起 来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6"/>
          <p:cNvSpPr/>
          <p:nvPr/>
        </p:nvSpPr>
        <p:spPr>
          <a:xfrm>
            <a:off x="1592640" y="6019920"/>
            <a:ext cx="58093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网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WWW.1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11120" y="169704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QQ图片20141114180006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5410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57200" y="914400"/>
            <a:ext cx="830592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学习课文的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●  </a:t>
            </a: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齐读这两段，说一说：这两个自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然段主要写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●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由发言，说出段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位父亲觉得自己的孩子没有男子气概，想要摔跤教练训练自己的孩子。于是孩子住到了训练馆，教练要求父亲三个月内不能来看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6840" y="9144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学习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—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楷体_GBK"/>
              </a:rPr>
              <a:t>用心品读，体会感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、孩子在与巨人摔跤时，是怎样的表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、父亲看到孩子的表现时，开始是怎样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、带着问题，自由读文，并小组开展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楷体_GBK"/>
              </a:rPr>
              <a:t>孩子在与巨人摔跤时，是怎样的表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出表示动作的词，说明小男孩怎样的心理？表现出男孩的什么精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53352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男孩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毫无惧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走上前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双眼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瞪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又高又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巨人，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灵巧地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移动着脚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突然抱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对方的腰。可这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猛地吼了一声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但马上又被摔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（ 临危不惧、勇敢、冷静而灵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方正楷体_GBK"/>
              </a:rPr>
              <a:t>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方正楷体_GBK"/>
              </a:rPr>
              <a:t>父亲看到孩子的表现时，开始是怎样想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父亲说：“我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方正楷体_GBK"/>
              </a:rPr>
              <a:t>简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羞愧死了！想不到我送她来这里受训三个月，看到的结果是他这么不经打，一摔就倒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（结果真的是这样的吗？听到父亲这么说，你觉得他说得对吗？为什么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因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孩子被巨人重重的摔倒在地上的表现（找出来并说说你的感受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孩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奇迹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站了起来，他抹抹脸上的汗珠，又猛吼一声，扑向对方，但马上又被打倒，他又重新站起来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....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这样倒下去，站起来，站起来，倒下去，来来回回一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_GBK"/>
              </a:rPr>
              <a:t>人的一生会遇到许多困难，也会摔许多跤，我们该怎么办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"/>
          <p:cNvSpPr/>
          <p:nvPr/>
        </p:nvSpPr>
        <p:spPr>
          <a:xfrm>
            <a:off x="1590840" y="5584680"/>
            <a:ext cx="53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觉得这里写的最让人感动，你觉得呢？那么是什么感动了大家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男孩不怕失败，不怕跌倒的勇气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457200" y="91584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学习课文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（父亲后来是怎样想的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齐读课文第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然段，理解：勇气、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●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由谈体会：说一说什么才是真正的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子气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楷体_GBK"/>
                <a:ea typeface="方正楷体_GBK"/>
              </a:rPr>
              <a:t>男子气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毅力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勇气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一个人可以被打倒，但永远不能被打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一个人跌倒并不可耻，可耻的事他赖在地上不肯起来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遇到问题的时候，要学会去解决它，尽量用自己的能力去处理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巩固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讲述自己身边或在课外书中看到的有关男子气概的故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矩形 4"/>
          <p:cNvSpPr/>
          <p:nvPr/>
        </p:nvSpPr>
        <p:spPr>
          <a:xfrm>
            <a:off x="1547640" y="4437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www.1ppt.com/word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excel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www.1ppt.com/fanwe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论坛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n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0" y="2781360"/>
            <a:ext cx="9144000" cy="1584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9" descr=""/>
          <p:cNvPicPr/>
          <p:nvPr/>
        </p:nvPicPr>
        <p:blipFill>
          <a:blip r:embed="rId17"/>
          <a:stretch/>
        </p:blipFill>
        <p:spPr>
          <a:xfrm>
            <a:off x="1327320" y="981000"/>
            <a:ext cx="6489360" cy="12495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468360" y="3097080"/>
            <a:ext cx="41036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572000" y="309708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10" descr="png-0644"/>
          <p:cNvPicPr/>
          <p:nvPr/>
        </p:nvPicPr>
        <p:blipFill>
          <a:blip r:embed="rId18"/>
          <a:stretch/>
        </p:blipFill>
        <p:spPr>
          <a:xfrm>
            <a:off x="2916360" y="309708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1" descr="png-0652"/>
          <p:cNvPicPr/>
          <p:nvPr/>
        </p:nvPicPr>
        <p:blipFill>
          <a:blip r:embed="rId19"/>
          <a:stretch/>
        </p:blipFill>
        <p:spPr>
          <a:xfrm>
            <a:off x="7234200" y="309708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91F4-0D0D-416A-8C99-23D61CAEAC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2209680" y="76320"/>
            <a:ext cx="4724640" cy="68594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>
            <a:off x="193680" y="1143000"/>
            <a:ext cx="8756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6600" spc="-1" strike="noStrike">
                <a:solidFill>
                  <a:srgbClr val="ffcc00"/>
                </a:solidFill>
                <a:latin typeface="Arial"/>
              </a:rPr>
              <a:t>"stand up!”</a:t>
            </a:r>
            <a:r>
              <a:rPr b="1" i="1" lang="zh-CN" sz="6600" spc="-1" strike="noStrike">
                <a:solidFill>
                  <a:srgbClr val="ffcc00"/>
                </a:solidFill>
                <a:latin typeface="Arial"/>
              </a:rPr>
              <a:t>站起来 </a:t>
            </a: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文讲了什么故事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孩在失败面前一次次站起来的勇气和毅力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子气概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)&amp;(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方正楷体_GBK"/>
              </a:rPr>
              <a:t>摔跤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61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62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QQ图片20141114175303"/>
          <p:cNvPicPr/>
          <p:nvPr/>
        </p:nvPicPr>
        <p:blipFill>
          <a:blip r:embed="rId1"/>
          <a:stretch/>
        </p:blipFill>
        <p:spPr>
          <a:xfrm>
            <a:off x="366840" y="915840"/>
            <a:ext cx="8396280" cy="5123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533520" y="99180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nǎo gài zhù liàn xùn sà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恼  概   著  练  训  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jù  hǒu  jì xiū jīng yì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惧  吼   继  羞  精  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533520" y="83772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词语的意思与词语进行正确的连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苦恼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坚定持久的意志和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气概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丝毫没有害怕的样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毫无惧色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正直、豪迈的态度 。指在某种活动中或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生存方式中表现出来的态度、举动或气势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羞愧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楷体_GBK"/>
              </a:rPr>
              <a:t>痛苦烦恼。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毅力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害羞，惭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4T08:58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8:35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