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7.jpeg" ContentType="image/jpeg"/>
  <Override PartName="/ppt/media/image12.jpeg" ContentType="image/jpeg"/>
  <Override PartName="/ppt/media/image11.png" ContentType="image/png"/>
  <Override PartName="/ppt/media/image6.wmf" ContentType="image/x-wm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BB86-9C6A-4688-9EF5-47CF3EDCB45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E132-FF29-4402-84DF-85ACD0D8B31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296F-EC10-419C-97D2-9F765FAC083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5A34-F613-4FD4-86DA-0EBA55A3AED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57A9-F2EA-451F-9FED-5E02D6619D9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C3D7-8010-4C1D-9811-900623F2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5652-7B29-4AF2-AA11-8EBD6709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3F401-ABAD-4E57-A540-4767A905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F885C-53C0-40F7-A9A9-82DFBDE3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34BD1-3A45-4F50-AEE3-5708BF59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79841-DDFF-4B8E-A6BE-D21E03CC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147DD7-558A-49C7-A1AE-029D75E3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3E0F9-CC21-4F15-B7BA-F10ECD03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8DFFB-1CFB-4FB1-9109-33C68644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59E27-96DA-4B3F-8C68-1181779C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74BE0-6592-44A9-A0D0-B121B7013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DA101-4915-4349-BA5C-41D81AA4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2B46-1483-4940-9994-561960282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F8967C-7439-44F7-8043-7A486F60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57540-4D31-4C02-B68F-932BEA99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43D7C-E07B-43AB-8E67-581E2098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FBA40-DB44-4DBA-9A92-4D05CF0A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C8E47B-F144-46BF-902D-777A0D8B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16DD1B-E237-4514-B078-41653858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E9419A-EF92-40DC-93B6-A231505D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CD78C7-461C-4E93-877C-1DE8AF01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4E8C7-30AA-4F5C-AC5A-6A6C182A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96479-7C73-401D-9CF6-29B704B00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0301-40D2-45E4-9C19-7DC3BD36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6B347-36D7-419C-B6D3-BA93F5FCB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5DB11-0374-4DE8-AD6D-FC7DB71F3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F5B06-AB8C-4432-8565-E61E3231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B970A-F50B-49FD-BC1C-E7063723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255DE-29CD-4CAD-9FC2-CA2DD570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C48C1-B607-4BA9-A02C-C5535B46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A1D1D-CE53-4D31-860F-9141BDF7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00C70-E684-4E14-A9ED-6A5FAB02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E44CA-32BC-4EC4-A2E9-5CB70223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BB135-467A-47B8-BD96-6713EFC2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705D-11AF-4B34-B217-B6FD0EA2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F956B-E7C5-4F4F-9E8C-95060933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07B67-D462-4B07-AF96-EB5CA4A75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8F19C-0A23-47EB-8A9D-0605EDEAE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84055B-9A86-4FDD-BEB4-B98B1E881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AFCEA-A4AE-4377-97F1-E1DA318C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1D8A98-7199-4474-884E-6C7306FE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01F4E2-9991-4082-83BC-461820AA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39AB0-5D28-4685-A950-896F7D58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EFA2B-49D2-42D0-A7EE-4811958C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3629A-BC44-4228-A84F-8BF32448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8BC6-6253-41A8-ACCB-643B220D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91C49A-DC37-424D-9D08-ADAD3216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D62DD9-CBCD-4AC7-91B7-F30BD8C3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B5BB6F-D8B6-488E-A713-EA7FABC3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766D3E-1743-4B58-8F86-5D5C3FD22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9C5817-36BE-44A8-BBA7-D6626F571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4443-0E68-4D06-843C-5783A2FD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822E-E2D9-4A6B-94AA-72A49A3A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0251-E0F0-482D-9C6F-5384D1E4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B498-1EFA-439B-AE47-C876A974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011A-6110-48C3-B66F-6D8AF31D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AD45-2AE2-4BF9-90CB-9A761420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15AD-8454-4159-8597-99019D98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7294-CED6-4DCA-8441-32B311F1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B34A-F5F7-4DC8-AAB0-050CEA3B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BB3C-82E7-474B-BD20-62C4F9BD1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9EE1-DD34-43F7-9ADC-CBC1546BD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AB18B-30CC-4891-B9EE-5F8B6D931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502F0-C7CB-48B9-919B-D159C09B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EB6DE-0205-4FD4-B9E3-5023B3BB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34974-0D17-43C3-BB0A-BD0531E9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3C809-44E1-4256-A123-24F6EAC4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5656-672A-4E04-87BE-C4AE4B4B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BAD7A-57A4-4D4D-B54D-1893BF12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595A5-F76E-4ACB-BA5E-2F5FA385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2CD3A-D852-4EFD-B74F-2B41FFBE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ABE5C-7C0F-4AD1-90D3-7C6FE023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9D535-3B26-4128-AE3B-C9C1289B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B6914-E032-4A01-A070-4450786BE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3424D-094C-4BB5-B4EF-0DAE07764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83274-5136-4B87-8BB8-95C547F9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BFE56-A4E7-41CE-82DC-6E40EC13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66606-9078-44D5-B0D3-70142E32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9D1F-3C55-43A0-B784-8E836D8F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9B98F-9D39-4766-8D01-E417B434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081F2-2C73-4D6A-BB1D-AA78B91A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CC826-D4D5-475C-B41A-FF88A5E3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FC112-B5AE-4160-97AA-E8C72445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C2EA0-12B9-4B4E-B86E-74C61748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09922-F639-4DA1-BEFC-0EF7FECE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4D36F-AD4E-4BD9-B56B-2DA2B788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4A3DD-1C1D-4D7B-A0FD-B8F522066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D03F3-15D4-451F-A1F9-48AC8202D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AB300-A35B-47EE-A588-25CE5F4A1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0E43-9C43-47B2-B786-309F8981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31E57-27A4-4DFC-9982-CD9D43F0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8579D-BE53-4375-BC2D-BD1F129D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CEABB-39EF-4C49-9225-61071B88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F929A-411A-4D01-98FC-385589DC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4E207-C840-47A0-AE70-DD43F8E2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B0742-5970-4628-A4A4-DFE0AFAF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509FB-9E28-41CE-AF10-FECD165B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17B8A-6812-4E21-8AB1-DE52E3FE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E916B-3994-4F9E-80A5-6F04D6C0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1F2C6-9E39-4117-BB2C-43B9B594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7B98-CF90-4F21-A366-B224A46A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A63B2-9D72-4D4C-A7DA-34895A654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1AC38-075A-4601-A234-B72756A1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5ACC9-5AC7-4944-B64B-5610555F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C812B-63C9-4E51-808B-525703F0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A080A-C299-4F8C-8B86-CB13ABF0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52807-F72D-45D0-9BAF-ABF157CF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01D9E-6A08-42C0-86A3-D06CF756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D6FD4-A76E-497B-8539-0DBA31A8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E1E5A-F8BE-4E48-A463-02B29D47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C0EAF-447B-47F2-B827-0C5F0FC9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77D2-2221-4DBF-B6CC-A3E32B97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2A4C9-1DAA-41B3-8361-FE39E373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DD519-2444-43D3-9232-35FE42B8B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30DED-3533-49F1-863E-21E53869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E5A82-4C6C-4ED5-8826-075F2A982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5197F-B03C-41C1-B176-AA5B2703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9F6FC-E5C2-44E5-812A-BC8CA8CA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650D5-9DC9-4225-8736-FE623614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2CEEA-979C-4B73-8620-D588310A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29706-DA97-4034-BC2A-456357CE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DA124-C023-419F-931E-512A6654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407D-975D-49CF-95FA-73590377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7A7D6-9CBF-4DE4-A449-5BB9C336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AC346-4705-4BBA-A903-4BBB5E6E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AC282-FB7E-4FC6-BCA6-DCBEFD45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CD72F-8460-49DE-8FAA-3C8900CB9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A9162-621B-48D8-8504-1A37A385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1F69A-8D6C-4D24-A59E-47FF019D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49549-908B-4BA3-856C-101858F2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841A7-7FC7-4B20-95A0-423E294A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09AB3-3A22-4EF1-B460-DCB3E898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39445-40F6-4FEF-BDC0-725AFDF6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5C62-5FE6-4210-AE05-6AB647BF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64339-5E00-4750-B93D-710EE776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5DD2B-0275-4435-A6DC-B3C8B9E5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7E878-C499-401C-A503-97FB8E2E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A9CA4-DCEB-4E27-9731-78BD4FAB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698AB-5A79-4AB9-852C-0CB79FCF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0A54B-CA6A-45F1-AA4A-2BB8F7F9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14573-4E23-46AD-AB7B-D0E293F32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C388A-2807-4B9E-9491-33711EE77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1ED651-61DE-41AC-B047-BBD5BC48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3CDDB-37FE-462F-872C-EEC6E059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6A00-6271-48A4-A2A3-5A66EE0F44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416C-7A5B-4EFB-8B48-5563F5F4A25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A4DC-E4CF-47D9-BE75-7316CEF74D3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E6E8-4E64-4F72-A5CF-3597F12CEC1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B541-B8ED-4822-991B-206B13DBEC6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1027-D444-4970-A72E-FEF9CF42EA9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0BFF-064A-4579-AC58-E3CB6C3B012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BCC5-A28A-49C6-BB5B-71BB6F493CE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3A1F-5F6D-43DF-9D35-F9275DD5554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F805-1C3F-44DE-9D24-FB716B2EA66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9895-F503-45C5-96A6-7395A8100D7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12E4-9305-463F-B37C-2C12C6D10EC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0" name="Picture 5" descr="dddec22ab051d9195343c1d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1" name="WordArt 6"/>
          <p:cNvSpPr txBox="1"/>
          <p:nvPr/>
        </p:nvSpPr>
        <p:spPr>
          <a:xfrm>
            <a:off x="1219320" y="3429000"/>
            <a:ext cx="67640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中宋"/>
              </a:rPr>
              <a:t>准时的登陆表演</a:t>
            </a:r>
            <a:endParaRPr b="1" lang="en-US" sz="80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502" name="矩形 4"/>
          <p:cNvSpPr/>
          <p:nvPr/>
        </p:nvSpPr>
        <p:spPr>
          <a:xfrm>
            <a:off x="1874520" y="60958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5" descr="dddec22ab051d9195343c1da"/>
          <p:cNvPicPr/>
          <p:nvPr/>
        </p:nvPicPr>
        <p:blipFill>
          <a:blip r:embed="rId1">
            <a:alphaModFix amt="45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7"/>
          <p:cNvSpPr/>
          <p:nvPr/>
        </p:nvSpPr>
        <p:spPr>
          <a:xfrm>
            <a:off x="685800" y="1523880"/>
            <a:ext cx="7924680" cy="764280"/>
          </a:xfrm>
          <a:prstGeom prst="rect">
            <a:avLst/>
          </a:prstGeom>
          <a:solidFill>
            <a:srgbClr val="ccec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能这么准？有心人甚至不厌其烦地一次又一次看走时准确的手表，他们要亲自验证一下，仙企鹅到底能不能一分不差地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如期而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5" descr="12445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6" descr="整体感知"/>
          <p:cNvPicPr/>
          <p:nvPr/>
        </p:nvPicPr>
        <p:blipFill>
          <a:blip r:embed="rId2"/>
          <a:stretch/>
        </p:blipFill>
        <p:spPr>
          <a:xfrm>
            <a:off x="0" y="0"/>
            <a:ext cx="2017800" cy="41760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9"/>
          <p:cNvSpPr/>
          <p:nvPr/>
        </p:nvSpPr>
        <p:spPr>
          <a:xfrm>
            <a:off x="685800" y="1295280"/>
            <a:ext cx="7924680" cy="64260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仙企鹅的表演怎么样呢？请同学们默读第四自然段，小组讨论并将相关词句画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5" descr="12445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9"/>
          <p:cNvSpPr/>
          <p:nvPr/>
        </p:nvSpPr>
        <p:spPr>
          <a:xfrm>
            <a:off x="685800" y="1295280"/>
            <a:ext cx="7924680" cy="64260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它们全都站好以后，领队一声令下，队伍马上开拨，直扑金色沙滩。一对刚刚离开，另一对又扑上岸来。一对跟着一对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秩序井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5" descr="12445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Rectangle 9"/>
          <p:cNvSpPr/>
          <p:nvPr/>
        </p:nvSpPr>
        <p:spPr>
          <a:xfrm>
            <a:off x="685800" y="1066680"/>
            <a:ext cx="7924680" cy="143460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白胸黑翅的仙企鹅，仿佛身着燕尾服的绅士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步履蹒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，却又整整齐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图片 4" descr="4jpg.jpg"/>
          <p:cNvPicPr/>
          <p:nvPr/>
        </p:nvPicPr>
        <p:blipFill>
          <a:blip r:embed="rId1"/>
          <a:stretch/>
        </p:blipFill>
        <p:spPr>
          <a:xfrm>
            <a:off x="-285840" y="0"/>
            <a:ext cx="9429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10" descr="20061102081552297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6"/>
          <p:cNvSpPr/>
          <p:nvPr/>
        </p:nvSpPr>
        <p:spPr>
          <a:xfrm>
            <a:off x="1600200" y="68580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读第五自然段后，同学们知道仙企鹅为什么会准时登陆了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7" descr="xiong40"/>
          <p:cNvPicPr/>
          <p:nvPr/>
        </p:nvPicPr>
        <p:blipFill>
          <a:blip r:embed="rId2"/>
          <a:stretch/>
        </p:blipFill>
        <p:spPr>
          <a:xfrm>
            <a:off x="380880" y="228600"/>
            <a:ext cx="1228680" cy="175248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8"/>
          <p:cNvSpPr/>
          <p:nvPr/>
        </p:nvSpPr>
        <p:spPr>
          <a:xfrm>
            <a:off x="1371600" y="2743200"/>
            <a:ext cx="6934320" cy="1191240"/>
          </a:xfrm>
          <a:prstGeom prst="rect">
            <a:avLst/>
          </a:prstGeom>
          <a:solidFill>
            <a:srgbClr val="cce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隶书"/>
                <a:ea typeface="隶书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企鹅自己体内的生物钟在暗暗指挥它们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按点生活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。就像公鸡准时报晓，菊花在秋开放，习惯了午休的人到时犯困一样，都是生物钟在有规律地安排着动植物的生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6" descr="dddec22ab051d9195343c1d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2" name="TextBox 8"/>
          <p:cNvSpPr/>
          <p:nvPr/>
        </p:nvSpPr>
        <p:spPr>
          <a:xfrm>
            <a:off x="609480" y="1143000"/>
            <a:ext cx="7848720" cy="1434600"/>
          </a:xfrm>
          <a:prstGeom prst="rect">
            <a:avLst/>
          </a:prstGeom>
          <a:solidFill>
            <a:srgbClr val="ccec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生物钟又称生理钟。它是生物体内一种无形的“时钟”，实际上是生物体生命活动的内在节律性，它是由生物体内的时间结构所决定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7" descr="20061102081552297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5"/>
          <p:cNvSpPr/>
          <p:nvPr/>
        </p:nvSpPr>
        <p:spPr>
          <a:xfrm>
            <a:off x="838080" y="1066680"/>
            <a:ext cx="7848720" cy="1008360"/>
          </a:xfrm>
          <a:prstGeom prst="rect">
            <a:avLst/>
          </a:prstGeom>
          <a:solidFill>
            <a:srgbClr val="cce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宋体"/>
                <a:ea typeface="宋体"/>
              </a:rPr>
              <a:t>同学们还知道哪些“生物钟”现象呢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10" descr="拓展学习"/>
          <p:cNvPicPr/>
          <p:nvPr/>
        </p:nvPicPr>
        <p:blipFill>
          <a:blip r:embed="rId2"/>
          <a:stretch/>
        </p:blipFill>
        <p:spPr>
          <a:xfrm>
            <a:off x="0" y="0"/>
            <a:ext cx="2438280" cy="60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C65E-79F6-4251-86FE-43A170CB110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4" name="Picture 7" descr="1600penguin002"/>
          <p:cNvPicPr/>
          <p:nvPr/>
        </p:nvPicPr>
        <p:blipFill>
          <a:blip r:embed="rId1"/>
          <a:stretch/>
        </p:blipFill>
        <p:spPr>
          <a:xfrm>
            <a:off x="-376200" y="-76320"/>
            <a:ext cx="9520200" cy="713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图片 2" descr="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图片 2" descr="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8" descr="C:\Users\Administrator.PC-20110716HCOF\Pictures\1.jpg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  <a:ea typeface="隶书"/>
              </a:rPr>
              <a:t>读读下列词语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914400" y="1874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小巧玲珑  飘飘欲仙  赞叹不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    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不厌其烦  如期而至  秩序井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步履蹒跚  赞叹不已  发号施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矩形 7"/>
          <p:cNvSpPr/>
          <p:nvPr/>
        </p:nvSpPr>
        <p:spPr>
          <a:xfrm>
            <a:off x="2819520" y="487692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5" descr="dddec22ab051d9195343c1d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6" descr="阅读质疑"/>
          <p:cNvPicPr/>
          <p:nvPr/>
        </p:nvPicPr>
        <p:blipFill>
          <a:blip r:embed="rId2"/>
          <a:stretch/>
        </p:blipFill>
        <p:spPr>
          <a:xfrm>
            <a:off x="380880" y="152280"/>
            <a:ext cx="2057400" cy="117180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7"/>
          <p:cNvSpPr/>
          <p:nvPr/>
        </p:nvSpPr>
        <p:spPr>
          <a:xfrm>
            <a:off x="457200" y="1523880"/>
            <a:ext cx="8153280" cy="3141360"/>
          </a:xfrm>
          <a:prstGeom prst="rect">
            <a:avLst/>
          </a:prstGeom>
          <a:solidFill>
            <a:srgbClr val="cce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仙企鹅栖息在哪？它有什么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8"/>
          <p:cNvSpPr/>
          <p:nvPr/>
        </p:nvSpPr>
        <p:spPr>
          <a:xfrm>
            <a:off x="838080" y="2590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仙企鹅栖息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澳大利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，是企鹅家族中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最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的成员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小巧玲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的仙企鹅十分讨人喜欢。它们不仅走起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飘飘欲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，有一个很雅的名字，而且能准时无误地做登录表演，天生一身绝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5" descr="655389b3a4478783d9335aef"/>
          <p:cNvPicPr/>
          <p:nvPr/>
        </p:nvPicPr>
        <p:blipFill>
          <a:blip r:embed="rId1"/>
          <a:srcRect l="0" t="0" r="0" b="-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>
              <a:alpha val="42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Calibri"/>
                <a:ea typeface="隶书"/>
              </a:rPr>
              <a:t>介绍仙企鹅</a:t>
            </a:r>
            <a:r>
              <a:rPr b="0" lang="zh-CN" sz="6500" spc="-1" strike="noStrike">
                <a:solidFill>
                  <a:srgbClr val="000000"/>
                </a:solidFill>
                <a:latin typeface="Calibri"/>
                <a:ea typeface="隶书"/>
              </a:rPr>
              <a:t>：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09120" y="2133720"/>
            <a:ext cx="8148600" cy="4419360"/>
          </a:xfrm>
          <a:prstGeom prst="rect">
            <a:avLst/>
          </a:prstGeom>
          <a:solidFill>
            <a:srgbClr val="33ccff">
              <a:alpha val="4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仿宋"/>
                <a:ea typeface="仿宋"/>
              </a:rPr>
              <a:t>仙企鹅，俗称“小企鹅”，身体轻巧而得名。它是一种比较著名的企鹅，生活在澳大利亚的南部港口城市，动作既轻盈敏捷，又滑稽可爱，很受人们的喜爱。仙企鹅有很强的组织纪律性，经常排队前进。它最有名的地方就是它自带“生物钟”，能知道时间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5" descr="dddec22ab051d9195343c1d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4" descr="告示牌.jpg"/>
          <p:cNvPicPr/>
          <p:nvPr/>
        </p:nvPicPr>
        <p:blipFill>
          <a:blip r:embed="rId2"/>
          <a:stretch/>
        </p:blipFill>
        <p:spPr>
          <a:xfrm>
            <a:off x="1079640" y="1149480"/>
            <a:ext cx="6984720" cy="4559040"/>
          </a:xfrm>
          <a:prstGeom prst="rect">
            <a:avLst/>
          </a:prstGeom>
          <a:ln w="0">
            <a:noFill/>
          </a:ln>
        </p:spPr>
      </p:pic>
      <p:pic>
        <p:nvPicPr>
          <p:cNvPr id="520" name="图片 5" descr="告示牌.jpg"/>
          <p:cNvPicPr/>
          <p:nvPr/>
        </p:nvPicPr>
        <p:blipFill>
          <a:blip r:embed="rId3"/>
          <a:stretch/>
        </p:blipFill>
        <p:spPr>
          <a:xfrm>
            <a:off x="1066680" y="0"/>
            <a:ext cx="6985080" cy="6819840"/>
          </a:xfrm>
          <a:prstGeom prst="rect">
            <a:avLst/>
          </a:prstGeom>
          <a:ln w="0">
            <a:noFill/>
          </a:ln>
        </p:spPr>
      </p:pic>
      <p:sp>
        <p:nvSpPr>
          <p:cNvPr id="521" name="TextBox 6"/>
          <p:cNvSpPr/>
          <p:nvPr/>
        </p:nvSpPr>
        <p:spPr>
          <a:xfrm>
            <a:off x="1828800" y="266688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本月仙企鹅登录时间为下午八时零五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7"/>
          <p:cNvSpPr/>
          <p:nvPr/>
        </p:nvSpPr>
        <p:spPr>
          <a:xfrm>
            <a:off x="2590920" y="914400"/>
            <a:ext cx="4114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告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文本框 1"/>
          <p:cNvSpPr/>
          <p:nvPr/>
        </p:nvSpPr>
        <p:spPr>
          <a:xfrm>
            <a:off x="2203560" y="618336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5" descr="dddec22ab051d9195343c1d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6" descr="阅读质疑"/>
          <p:cNvPicPr/>
          <p:nvPr/>
        </p:nvPicPr>
        <p:blipFill>
          <a:blip r:embed="rId2"/>
          <a:stretch/>
        </p:blipFill>
        <p:spPr>
          <a:xfrm>
            <a:off x="380880" y="152280"/>
            <a:ext cx="2057400" cy="117180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7"/>
          <p:cNvSpPr/>
          <p:nvPr/>
        </p:nvSpPr>
        <p:spPr>
          <a:xfrm>
            <a:off x="495360" y="1676520"/>
            <a:ext cx="8153280" cy="764280"/>
          </a:xfrm>
          <a:prstGeom prst="rect">
            <a:avLst/>
          </a:prstGeom>
          <a:solidFill>
            <a:srgbClr val="ccecf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初来乍到的游人看到告示牌怎么想的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23:32:42Z</dcterms:modified>
  <cp:revision>1</cp:revision>
  <dc:subject/>
  <dc:title>幻灯片 1</dc:title>
</cp:coreProperties>
</file>