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07C-9B30-4FDF-976D-9D7DFA55BE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DCA3-8D40-42DC-839A-B8567E3823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462-D96A-4A6B-8724-5A9C5F93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178-9031-45EA-A874-BE512971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B1E-ED76-4D58-8E07-793C9135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DE2-11BE-4BA1-80A9-90B9C42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477C-34D5-4DB6-BF11-4DA3AE7E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6E28-C096-49DC-A76F-E49D2114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AA5E-F78C-4E2B-936D-1DA0494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5CDB-830E-45BE-8665-5C40A75F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7C8D-C075-43D6-AB57-9C7E09F5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15B7-CEA9-43F0-A4BD-F5F44537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2FB6-E226-4EDD-821F-4A42046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E9F-E7CD-4FD7-AF93-6504D1E9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380D-2E14-4063-BF1D-525DE36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23B4-B2F6-403F-A5CC-47A4B48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4D6-BDAA-4F1C-868F-2E482852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1E8B-D429-4472-A17B-6D44B3C0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36F0-934F-4F43-AD91-638616AB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246-C9CA-414F-9A1F-3103EA66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5EC-0CBF-4777-A614-4B680CF8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D6D-354D-4568-BFEF-51617158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801-171B-4B17-9DFD-729BFC1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083-98DD-48D3-97E2-AA251D0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09A-EC85-4F4B-9263-C2675A0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B9B-451F-49C0-A66C-5DE19CEF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E5CA-FC3D-41E1-A658-ABABBA06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BD0-8E22-436D-9B49-5CB1388E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600200" y="6858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938160" y="1238400"/>
            <a:ext cx="70866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在天晴了的时候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486400" y="3581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戴望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1893960" y="54864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2438280" y="4724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0" y="0"/>
            <a:ext cx="8991720" cy="53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体会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给雨润过的泥路，一定是凉爽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温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诗人采用拟人手法，用温柔一词描绘了泥路的柔软，表现了泥路的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炫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着新绿的小草，已一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洗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了尘垢，小草自豪地展露出雨后洗去尘埃与污垢的翠绿身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炫耀”写出了小草的快乐与自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洗净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出了雨后小草的洁净、清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2362320" y="7621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73152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再</a:t>
            </a:r>
            <a:r>
              <a:rPr b="1" i="1" lang="zh-CN" sz="4800" spc="-1" strike="noStrike">
                <a:solidFill>
                  <a:srgbClr val="cc00ff"/>
                </a:solidFill>
                <a:latin typeface="Arial"/>
              </a:rPr>
              <a:t>胆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的小白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Arial"/>
              </a:rPr>
              <a:t>慢慢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抬起它们的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Arial"/>
              </a:rPr>
              <a:t>试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寒，</a:t>
            </a:r>
            <a:r>
              <a:rPr b="1" i="1" lang="zh-CN" sz="4800" spc="-1" strike="noStrike">
                <a:solidFill>
                  <a:srgbClr val="cc00ff"/>
                </a:solidFill>
                <a:latin typeface="Arial"/>
              </a:rPr>
              <a:t>试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暖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i="1" lang="zh-CN" sz="4800" spc="-1" strike="noStrike">
                <a:solidFill>
                  <a:srgbClr val="cc00ff"/>
                </a:solidFill>
                <a:latin typeface="Arial"/>
              </a:rPr>
              <a:t>一瓣瓣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绽透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5410080" cy="3484440"/>
          </a:xfrm>
          <a:prstGeom prst="rect">
            <a:avLst/>
          </a:prstGeom>
          <a:solidFill>
            <a:srgbClr val="cc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抖去水珠的凤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在木叶间自在闲游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把它饰彩的智慧书页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曝着阳光一开一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5280" y="144360"/>
            <a:ext cx="8991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作者是怎样描写小白菊、凤蝶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诗人多么浪漫地采用拟人手法，运用“胆怯”形容小白菊经历了风吹雨打。运用“慢慢” “试试”描写小白菊的谨慎，表现了小白菊的可爱与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闲游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表现了凤蝶的自由与快乐，体现了雨后的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智慧书页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采用比喻的手法，形象地描绘了凤蝶翅膀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曝着阳光一开一收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描写了凤蝶的动态美显示了生命的活力，表现了小径的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743200" y="12193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节中诗人在初晴的小径上看到了什么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048120" y="281952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泥路      小草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小白菊   凤蝶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0"/>
            <a:ext cx="6248520" cy="4161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到小径中去走走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在天晴了的时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赤着脚，携着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踏着新泥，涉过溪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80880" y="380880"/>
            <a:ext cx="861084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朗读第一、第二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雨后的小径该怎样才能充分享受它的美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赤着脚”充分地享受泥路的温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携着手”与朋友家人一同出游，一齐享受雨后清新的空气和美好的景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85800" y="0"/>
            <a:ext cx="7467480" cy="4672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新阳推开阴霾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溪水在温风中晕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看山间移动的暗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云的脚迹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它也在闲游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85800" y="609480"/>
            <a:ext cx="73915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理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新阳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推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阴霾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溪水在温风中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晕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看山间移动啼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云的脚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它也在闲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雨后的太阳照耀着大地，云开雾散，溪水在微风中漾起美丽的波纹，山中的绿树在雨后显的更加翠绿，天上的云朵也在悠闲地飘动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057400" y="0"/>
            <a:ext cx="4038480" cy="1066680"/>
          </a:xfrm>
          <a:prstGeom prst="wedgeRoundRectCallout">
            <a:avLst>
              <a:gd name="adj1" fmla="val -49962"/>
              <a:gd name="adj2" fmla="val 94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拟人的手法描绘了太阳的力量是巨大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5105520" y="1143000"/>
            <a:ext cx="4038480" cy="1371600"/>
          </a:xfrm>
          <a:prstGeom prst="cloudCallout">
            <a:avLst>
              <a:gd name="adj1" fmla="val -82861"/>
              <a:gd name="adj2" fmla="val 30439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表现了溪水的陶醉与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724280" y="2819520"/>
            <a:ext cx="4038840" cy="1600200"/>
          </a:xfrm>
          <a:prstGeom prst="wedgeRoundRectCallout">
            <a:avLst>
              <a:gd name="adj1" fmla="val -86004"/>
              <a:gd name="adj2" fmla="val 8629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诗人的笔下，云是有脚的，云是浪漫的，云正在闲游的散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2819520" y="83808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诗人运用拟人的手法，描绘了天晴时小径上美丽的景物，表现了景物鲜活的生命力，表达了诗人轻松、愉悦的心情，表达了诗人对生活的热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914400" y="99072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雨歇林间凉自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穿径里晓逾清。         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杨万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90720" y="2590920"/>
            <a:ext cx="6476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山新雨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晚来秋。             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419720"/>
            <a:ext cx="32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990720" y="411480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条拂翠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雨后碧新肥。             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完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523880" y="1066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雨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戴望舒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撑着油纸伞，独自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彷徨在悠长、悠长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又寂寥的雨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我希望逢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一个丁香一样地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结着愁怨的姑娘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她是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丁香一样的颜色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丁香一样的芬芳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丁香一样的忧愁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在雨中哀怨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哀怨又彷徨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她彷徨在这寂寥的雨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撑着油纸伞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像我一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像我一样地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默默行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寒漠、凄清，又惆怅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7960" y="151920"/>
            <a:ext cx="4267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她默默地走近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走近，又投出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太息一般的眼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她飘过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梦一般地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梦一般地凄婉迷茫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像梦中飘过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枝丁香的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身旁飘过这女郎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她静默地远了、远了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了颓圮的篱墙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走尽这雨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雨的哀曲里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消了她的颜色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散了她的芬芳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消散了，甚至她的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太息般的眼光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丁香般的惆怅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撑着油纸伞，独自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彷徨在悠长、悠长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寂寥的雨巷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希望飘过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丁香一样地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着愁怨的姑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914400"/>
            <a:ext cx="163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9144000" cy="66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练习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看拼音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àn   yào      chén     gòu       pù   shài (               )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)        (     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ǎn  qiè          xié   shǒu    yīn    m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)            (               )      (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音字  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ǜ  (        )              pù  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绿                        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ù (         )            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o  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33520" y="5334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352680" y="53341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凉爽（           ） 温柔（           ） 炫耀（           ） 胆怯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人在小径上看到了那些景物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1771560" y="5710320"/>
            <a:ext cx="52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6BEC-2983-4EF5-B843-CAD7F20E65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914400" y="304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以上的诗句，发现它们写的都是什么时候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38080" y="312408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的诗句，采用了（               ）的表达方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旧体格律诗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1440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无一例外地描绘了雨后天晴怎样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962520" y="838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后天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276720" y="304920"/>
            <a:ext cx="5715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戴望舒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905—195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，原名戴朝安，又名戴梦鸥。笔名艾昂普、江思等。浙江杭县（今杭州市余杭区）人。现代诗人。代表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烦忧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狱中题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用残损的手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ki-20130701125826-2035196067"/>
          <p:cNvPicPr/>
          <p:nvPr/>
        </p:nvPicPr>
        <p:blipFill>
          <a:blip r:embed="rId2"/>
          <a:stretch/>
        </p:blipFill>
        <p:spPr>
          <a:xfrm>
            <a:off x="0" y="0"/>
            <a:ext cx="29257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bki-20130620132403-115022231"/>
          <p:cNvPicPr/>
          <p:nvPr/>
        </p:nvPicPr>
        <p:blipFill>
          <a:blip r:embed="rId3"/>
          <a:stretch/>
        </p:blipFill>
        <p:spPr>
          <a:xfrm>
            <a:off x="304920" y="365760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676520" y="457200"/>
            <a:ext cx="3504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WordArt 13"/>
          <p:cNvSpPr txBox="1"/>
          <p:nvPr/>
        </p:nvSpPr>
        <p:spPr>
          <a:xfrm>
            <a:off x="1295280" y="2590920"/>
            <a:ext cx="61722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炫  垢  怯  凤     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533520" y="46483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慧 携 皱 曝 霾   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5800" y="17524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uàn gòu  qiè  fè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80880" y="3809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uì   xié  zhòu pù   m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60480"/>
            <a:ext cx="70102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炫耀：指夸耀显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尘垢：指灰尘与污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胆怯：胆小怯弱。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智慧：聪明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曝：晒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携：带着带领。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阴霾：空气中悬挂着大量烟尘等微粒而形成的浑浊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66680" y="37339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阳光下的溪水、树林、云朵都是美丽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3049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归纳每节大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第一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第二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第三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66680" y="914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天晴了的时候到小径上走走会看到清爽又温柔的泥路、美丽的小菊、小草和凤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066680" y="25909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天晴了的时候，赤脚携手踏着新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涉过溪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066680" y="4572000"/>
            <a:ext cx="685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给雨润过的泥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一定是凉爽又温柔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219320" y="4038480"/>
            <a:ext cx="7467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新宋体"/>
              </a:rPr>
              <a:t>炫耀着新绿的小草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新宋体"/>
              </a:rPr>
              <a:t>已一下子洗净了尘垢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15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12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