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8.gif" ContentType="image/gif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D5FD-722F-4793-A259-BF53B6CF11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C316-3A39-44FB-A93D-F4B7B440A1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3698-B8D0-4DCA-ABD7-5FB8F34A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5A90-C929-49EB-9BA5-26E7EC0E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96A4-C5FA-4AF8-9997-44E5EBA4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61C8-4879-4E4D-ACAA-C2930E03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951E-ED6A-4B70-A8BA-2AC06FD5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AC5-804F-4E34-9E0D-7317E63C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848-A70B-4965-8329-10DEBF74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CF80-4DCE-4388-816D-33790165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54F-A2D4-4C9B-9670-46C58DC8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8190-5FB6-4C5C-8B34-6EA388C7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5AC-ACDC-4BC0-92E4-11E0E882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073-C102-4DDA-B824-37E01727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8E82-CD6A-4507-A9C2-1F44DE13E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914400" y="12938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条小鱼在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2611440" cy="2368440"/>
          </a:xfrm>
          <a:prstGeom prst="rect">
            <a:avLst/>
          </a:prstGeom>
          <a:ln w="0">
            <a:noFill/>
          </a:ln>
        </p:spPr>
      </p:pic>
      <p:sp>
        <p:nvSpPr>
          <p:cNvPr id="51" name="矩形 9"/>
          <p:cNvSpPr/>
          <p:nvPr/>
        </p:nvSpPr>
        <p:spPr>
          <a:xfrm>
            <a:off x="1474200" y="556884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-103320" y="-106200"/>
            <a:ext cx="9355320" cy="7037280"/>
            <a:chOff x="-103320" y="-106200"/>
            <a:chExt cx="9355320" cy="703728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tretch/>
          </p:blipFill>
          <p:spPr>
            <a:xfrm>
              <a:off x="-103320" y="-106200"/>
              <a:ext cx="9355320" cy="703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矩形 8"/>
            <p:cNvSpPr/>
            <p:nvPr/>
          </p:nvSpPr>
          <p:spPr>
            <a:xfrm>
              <a:off x="616320" y="2829240"/>
              <a:ext cx="5181480" cy="77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矩形 1"/>
          <p:cNvSpPr/>
          <p:nvPr/>
        </p:nvSpPr>
        <p:spPr>
          <a:xfrm>
            <a:off x="611280" y="2070000"/>
            <a:ext cx="3529080" cy="74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682560" y="2444760"/>
            <a:ext cx="4969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983160" y="317520"/>
            <a:ext cx="2065680" cy="2569680"/>
            <a:chOff x="983160" y="317520"/>
            <a:chExt cx="2065680" cy="2569680"/>
          </a:xfrm>
        </p:grpSpPr>
        <p:pic>
          <p:nvPicPr>
            <p:cNvPr id="97" name="Picture 8" descr="田字格"/>
            <p:cNvPicPr/>
            <p:nvPr/>
          </p:nvPicPr>
          <p:blipFill>
            <a:blip r:embed="rId2"/>
            <a:stretch/>
          </p:blipFill>
          <p:spPr>
            <a:xfrm>
              <a:off x="983160" y="555480"/>
              <a:ext cx="2065680" cy="23317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98" name="Text Box 9"/>
            <p:cNvSpPr/>
            <p:nvPr/>
          </p:nvSpPr>
          <p:spPr>
            <a:xfrm>
              <a:off x="1332000" y="317520"/>
              <a:ext cx="124740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忽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0"/>
          <p:cNvGrpSpPr/>
          <p:nvPr/>
        </p:nvGrpSpPr>
        <p:grpSpPr>
          <a:xfrm>
            <a:off x="3754800" y="231840"/>
            <a:ext cx="2065680" cy="2569680"/>
            <a:chOff x="3754800" y="231840"/>
            <a:chExt cx="2065680" cy="2569680"/>
          </a:xfrm>
        </p:grpSpPr>
        <p:pic>
          <p:nvPicPr>
            <p:cNvPr id="100" name="Picture 11" descr="田字格"/>
            <p:cNvPicPr/>
            <p:nvPr/>
          </p:nvPicPr>
          <p:blipFill>
            <a:blip r:embed="rId3"/>
            <a:stretch/>
          </p:blipFill>
          <p:spPr>
            <a:xfrm>
              <a:off x="3754800" y="469800"/>
              <a:ext cx="2065680" cy="23317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1" name="Text Box 12"/>
            <p:cNvSpPr/>
            <p:nvPr/>
          </p:nvSpPr>
          <p:spPr>
            <a:xfrm>
              <a:off x="4103640" y="231840"/>
              <a:ext cx="124740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停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3"/>
          <p:cNvGrpSpPr/>
          <p:nvPr/>
        </p:nvGrpSpPr>
        <p:grpSpPr>
          <a:xfrm>
            <a:off x="6455160" y="317520"/>
            <a:ext cx="2065680" cy="2569680"/>
            <a:chOff x="6455160" y="317520"/>
            <a:chExt cx="2065680" cy="2569680"/>
          </a:xfrm>
        </p:grpSpPr>
        <p:pic>
          <p:nvPicPr>
            <p:cNvPr id="103" name="Picture 14" descr="田字格"/>
            <p:cNvPicPr/>
            <p:nvPr/>
          </p:nvPicPr>
          <p:blipFill>
            <a:blip r:embed="rId4"/>
            <a:stretch/>
          </p:blipFill>
          <p:spPr>
            <a:xfrm>
              <a:off x="6455160" y="555480"/>
              <a:ext cx="2065680" cy="23317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4" name="Text Box 15"/>
            <p:cNvSpPr/>
            <p:nvPr/>
          </p:nvSpPr>
          <p:spPr>
            <a:xfrm>
              <a:off x="6804000" y="317520"/>
              <a:ext cx="124740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捡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6"/>
          <p:cNvGrpSpPr/>
          <p:nvPr/>
        </p:nvGrpSpPr>
        <p:grpSpPr>
          <a:xfrm>
            <a:off x="1162440" y="3343320"/>
            <a:ext cx="2065680" cy="2567880"/>
            <a:chOff x="1162440" y="3343320"/>
            <a:chExt cx="2065680" cy="2567880"/>
          </a:xfrm>
        </p:grpSpPr>
        <p:pic>
          <p:nvPicPr>
            <p:cNvPr id="106" name="Picture 17" descr="田字格"/>
            <p:cNvPicPr/>
            <p:nvPr/>
          </p:nvPicPr>
          <p:blipFill>
            <a:blip r:embed="rId5"/>
            <a:stretch/>
          </p:blipFill>
          <p:spPr>
            <a:xfrm>
              <a:off x="1162440" y="3580920"/>
              <a:ext cx="2065680" cy="2330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7" name="Text Box 18"/>
            <p:cNvSpPr/>
            <p:nvPr/>
          </p:nvSpPr>
          <p:spPr>
            <a:xfrm>
              <a:off x="1511280" y="3343320"/>
              <a:ext cx="124740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扔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9"/>
          <p:cNvGrpSpPr/>
          <p:nvPr/>
        </p:nvGrpSpPr>
        <p:grpSpPr>
          <a:xfrm>
            <a:off x="3646800" y="3255840"/>
            <a:ext cx="2066040" cy="2567880"/>
            <a:chOff x="3646800" y="3255840"/>
            <a:chExt cx="2066040" cy="2567880"/>
          </a:xfrm>
        </p:grpSpPr>
        <p:pic>
          <p:nvPicPr>
            <p:cNvPr id="109" name="Picture 20" descr="田字格"/>
            <p:cNvPicPr/>
            <p:nvPr/>
          </p:nvPicPr>
          <p:blipFill>
            <a:blip r:embed="rId6"/>
            <a:stretch/>
          </p:blipFill>
          <p:spPr>
            <a:xfrm>
              <a:off x="3646800" y="3493440"/>
              <a:ext cx="2066040" cy="2330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10" name="Text Box 21"/>
            <p:cNvSpPr/>
            <p:nvPr/>
          </p:nvSpPr>
          <p:spPr>
            <a:xfrm>
              <a:off x="3995640" y="3255840"/>
              <a:ext cx="124740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抬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12" descr=""/>
          <p:cNvPicPr/>
          <p:nvPr/>
        </p:nvPicPr>
        <p:blipFill>
          <a:blip r:embed="rId7"/>
          <a:stretch/>
        </p:blipFill>
        <p:spPr>
          <a:xfrm>
            <a:off x="1676520" y="2971800"/>
            <a:ext cx="609480" cy="552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"/>
          <p:cNvPicPr/>
          <p:nvPr/>
        </p:nvPicPr>
        <p:blipFill>
          <a:blip r:embed="rId8"/>
          <a:stretch/>
        </p:blipFill>
        <p:spPr>
          <a:xfrm>
            <a:off x="4495680" y="5791320"/>
            <a:ext cx="609840" cy="55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/>
          <p:cNvPicPr/>
          <p:nvPr/>
        </p:nvPicPr>
        <p:blipFill>
          <a:blip r:embed="rId9"/>
          <a:stretch/>
        </p:blipFill>
        <p:spPr>
          <a:xfrm>
            <a:off x="7238880" y="2895480"/>
            <a:ext cx="609840" cy="552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10"/>
          <a:stretch/>
        </p:blipFill>
        <p:spPr>
          <a:xfrm>
            <a:off x="4495680" y="2971800"/>
            <a:ext cx="60984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"/>
          <p:cNvPicPr/>
          <p:nvPr/>
        </p:nvPicPr>
        <p:blipFill>
          <a:blip r:embed="rId11"/>
          <a:stretch/>
        </p:blipFill>
        <p:spPr>
          <a:xfrm>
            <a:off x="1905120" y="5867280"/>
            <a:ext cx="60948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7"/>
          <p:cNvSpPr/>
          <p:nvPr/>
        </p:nvSpPr>
        <p:spPr>
          <a:xfrm>
            <a:off x="762120" y="762120"/>
            <a:ext cx="8153280" cy="3484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a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由朗读第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然段，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勾画出表示小男孩动作的词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试着带动作读一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91440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看到面临死亡的小鱼，文中的小男孩是怎么做的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这条小鱼在乎"/>
          <p:cNvPicPr/>
          <p:nvPr/>
        </p:nvPicPr>
        <p:blipFill>
          <a:blip r:embed="rId1"/>
          <a:srcRect l="-2870" t="0" r="-2049" b="-7808"/>
          <a:stretch/>
        </p:blipFill>
        <p:spPr>
          <a:xfrm>
            <a:off x="2195640" y="2209680"/>
            <a:ext cx="4746600" cy="425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25440"/>
            <a:ext cx="7772400" cy="14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6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20097272145334000"/>
          <p:cNvPicPr/>
          <p:nvPr/>
        </p:nvPicPr>
        <p:blipFill>
          <a:blip r:embed="rId2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762120" y="1143000"/>
            <a:ext cx="8001000" cy="703440"/>
          </a:xfrm>
          <a:prstGeom prst="rect">
            <a:avLst/>
          </a:prstGeom>
          <a:gradFill rotWithShape="0">
            <a:gsLst>
              <a:gs pos="0">
                <a:srgbClr val="ffff66">
                  <a:alpha val="54117"/>
                </a:srgbClr>
              </a:gs>
              <a:gs pos="100000">
                <a:srgbClr val="ffff77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继续朝前走，忽然看见一个小男孩，在一个个小水洼旁，不停地捡起被困的小鱼，并用力把他们扔回大海。我停了下来，注视着小男孩，看他拯救小鱼的生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643280" y="465300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"/>
          <p:cNvPicPr/>
          <p:nvPr/>
        </p:nvPicPr>
        <p:blipFill>
          <a:blip r:embed="rId3"/>
          <a:stretch/>
        </p:blipFill>
        <p:spPr>
          <a:xfrm>
            <a:off x="3352680" y="4648320"/>
            <a:ext cx="990720" cy="898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4"/>
          <a:stretch/>
        </p:blipFill>
        <p:spPr>
          <a:xfrm>
            <a:off x="6248520" y="4419720"/>
            <a:ext cx="685800" cy="622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"/>
          <p:cNvPicPr/>
          <p:nvPr/>
        </p:nvPicPr>
        <p:blipFill>
          <a:blip r:embed="rId5"/>
          <a:stretch/>
        </p:blipFill>
        <p:spPr>
          <a:xfrm>
            <a:off x="8229600" y="4952880"/>
            <a:ext cx="457200" cy="371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2"/>
          <p:cNvSpPr/>
          <p:nvPr/>
        </p:nvSpPr>
        <p:spPr>
          <a:xfrm>
            <a:off x="7391520" y="175248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不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762120" y="23623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地捡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762120" y="29718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5867280" y="2362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用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dur="indefinite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"/>
          <p:cNvSpPr/>
          <p:nvPr/>
        </p:nvSpPr>
        <p:spPr>
          <a:xfrm>
            <a:off x="228600" y="228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物对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85800" y="7621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孩子，这些水洼里有成百上千条小鱼儿，你救不过来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685800" y="198108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我知道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3"/>
          <p:cNvSpPr/>
          <p:nvPr/>
        </p:nvSpPr>
        <p:spPr>
          <a:xfrm>
            <a:off x="609480" y="266688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哦？那你为什么还要这样做呢？谁在乎呢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685800" y="40384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这条小鱼儿在乎！”“这条在乎，这条在乎，还有这一条，这一条，这一条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…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image00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F{UHGR4$3PMP)DVDI5JN]8K"/>
          <p:cNvPicPr/>
          <p:nvPr/>
        </p:nvPicPr>
        <p:blipFill>
          <a:blip r:embed="rId2"/>
          <a:stretch/>
        </p:blipFill>
        <p:spPr>
          <a:xfrm>
            <a:off x="4572000" y="4114800"/>
            <a:ext cx="4419720" cy="25639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533520" y="380880"/>
            <a:ext cx="739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52280" y="3808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小男孩知道浅水洼里的小鱼很多，救不过来，为什么还要把小鱼一条条地扔进大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6600cc"/>
                </a:solidFill>
                <a:latin typeface="Arial"/>
              </a:rPr>
              <a:t>这条小鱼在乎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6600cc"/>
                </a:solidFill>
                <a:latin typeface="Arial"/>
              </a:rPr>
              <a:t>课件设计                伊丹镇中心校  李欣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25440"/>
            <a:ext cx="7772400" cy="147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61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2009727214533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380880" y="685800"/>
            <a:ext cx="8382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在他的心目中，每一条小鱼都是独立、完整的生命个体，都和人一样有生存的权利，有获得同情、关爱和帮助、呵护的需要。救活一条小鱼就是救活一条生命。尽管这么多小鱼他救不过来，可是对于被救的小鱼来说，他的新生不就意味着重新获得了整个世界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560" y="1197000"/>
            <a:ext cx="7402680" cy="20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这位“我”听了小男孩的</a:t>
            </a:r>
            <a:br>
              <a:rPr sz="4000"/>
            </a:b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话会怎么做呢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395280" y="3284640"/>
            <a:ext cx="8280360" cy="2089080"/>
            <a:chOff x="395280" y="3284640"/>
            <a:chExt cx="8280360" cy="2089080"/>
          </a:xfrm>
        </p:grpSpPr>
        <p:pic>
          <p:nvPicPr>
            <p:cNvPr id="147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3284640"/>
              <a:ext cx="2016000" cy="20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5" descr=""/>
            <p:cNvPicPr/>
            <p:nvPr/>
          </p:nvPicPr>
          <p:blipFill>
            <a:blip r:embed="rId2"/>
            <a:stretch/>
          </p:blipFill>
          <p:spPr>
            <a:xfrm>
              <a:off x="2411280" y="3284640"/>
              <a:ext cx="22338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6" descr=""/>
            <p:cNvPicPr/>
            <p:nvPr/>
          </p:nvPicPr>
          <p:blipFill>
            <a:blip r:embed="rId3"/>
            <a:stretch/>
          </p:blipFill>
          <p:spPr>
            <a:xfrm>
              <a:off x="4716360" y="3284640"/>
              <a:ext cx="216072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7" descr=""/>
            <p:cNvPicPr/>
            <p:nvPr/>
          </p:nvPicPr>
          <p:blipFill>
            <a:blip r:embed="rId4"/>
            <a:stretch/>
          </p:blipFill>
          <p:spPr>
            <a:xfrm>
              <a:off x="6804000" y="3284640"/>
              <a:ext cx="1871640" cy="1871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image00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F{UHGR4$3PMP)DVDI5JN]8K"/>
          <p:cNvPicPr/>
          <p:nvPr/>
        </p:nvPicPr>
        <p:blipFill>
          <a:blip r:embed="rId2"/>
          <a:stretch/>
        </p:blipFill>
        <p:spPr>
          <a:xfrm>
            <a:off x="4572000" y="4114800"/>
            <a:ext cx="4419720" cy="2563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533520" y="380880"/>
            <a:ext cx="739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52280" y="3808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838080" y="5335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你觉得“这条小鱼在乎”什么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838080" y="2057400"/>
            <a:ext cx="6858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鱼最在乎的就是生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"/>
          <p:cNvSpPr/>
          <p:nvPr/>
        </p:nvSpPr>
        <p:spPr>
          <a:xfrm>
            <a:off x="152280" y="6313320"/>
            <a:ext cx="59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118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762120" y="1066680"/>
            <a:ext cx="7848360" cy="376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每天清晨，当我们看到小鸟在歌唱，那有多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每到河边，当我们看到小鱼在游戏，那有多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每到之处，鲜花盛开，小草碧绿，那有多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生命只有一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鱼在乎，小鸟在乎，花儿在乎，我也在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让我们大家一起善待生命，珍爱生命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U`UX]Y)IM$04G6DL1A04KG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499308_142346495323_2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Text Box 7"/>
          <p:cNvSpPr/>
          <p:nvPr/>
        </p:nvSpPr>
        <p:spPr>
          <a:xfrm>
            <a:off x="457200" y="457200"/>
            <a:ext cx="845820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课后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把这个故事分享给更多的人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请以”我是一条被困在浅水洼里的小鱼”开头，写一段话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5F14-956A-4487-B024-8ABBFBDC36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}P650GH)5NJT3EI$303RZJA"/>
          <p:cNvPicPr/>
          <p:nvPr/>
        </p:nvPicPr>
        <p:blipFill>
          <a:blip r:embed="rId1"/>
          <a:stretch/>
        </p:blipFill>
        <p:spPr>
          <a:xfrm>
            <a:off x="0" y="0"/>
            <a:ext cx="97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228600" y="1295280"/>
            <a:ext cx="84582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晨    散    浅     昨    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忽    停    捡    扔     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28600" y="1371600"/>
            <a:ext cx="84582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浅水洼    咫尺    蒸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忍不住    拯救    注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6"/>
          <p:cNvSpPr/>
          <p:nvPr/>
        </p:nvSpPr>
        <p:spPr>
          <a:xfrm>
            <a:off x="3200400" y="38736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image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F{UHGR4$3PMP)DVDI5JN]8K"/>
          <p:cNvPicPr/>
          <p:nvPr/>
        </p:nvPicPr>
        <p:blipFill>
          <a:blip r:embed="rId2"/>
          <a:stretch/>
        </p:blipFill>
        <p:spPr>
          <a:xfrm>
            <a:off x="4572000" y="4114800"/>
            <a:ext cx="4419720" cy="2563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6"/>
          <p:cNvSpPr/>
          <p:nvPr/>
        </p:nvSpPr>
        <p:spPr>
          <a:xfrm>
            <a:off x="533520" y="38088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浅水洼里的小鱼情况怎么样？文中是怎么写的？请大家默读第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自然段，画出描写小鱼的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14200" y="91440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发现，在沙滩的浅水洼里，有许多被昨夜的暴风雨卷上岸来的小鱼。 小鱼被困在浅水洼里，虽然大海近在咫尺，但是它们回不去了。  被困的小鱼有几百条，几千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不了多久，浅水洼里的水就会被沙粒吸尽，被太阳蒸干，这些小鱼都会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585800" y="22860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3567240" y="552276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065240" y="3657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900080" y="43704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3708360" y="1557360"/>
            <a:ext cx="5435640" cy="3816360"/>
            <a:chOff x="3708360" y="1557360"/>
            <a:chExt cx="5435640" cy="3816360"/>
          </a:xfrm>
        </p:grpSpPr>
        <p:pic>
          <p:nvPicPr>
            <p:cNvPr id="70" name="Picture 3" descr="upload179"/>
            <p:cNvPicPr/>
            <p:nvPr/>
          </p:nvPicPr>
          <p:blipFill>
            <a:blip r:embed="rId1"/>
            <a:stretch/>
          </p:blipFill>
          <p:spPr>
            <a:xfrm>
              <a:off x="3708360" y="3286080"/>
              <a:ext cx="1008000" cy="10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4" descr="upload179"/>
            <p:cNvPicPr/>
            <p:nvPr/>
          </p:nvPicPr>
          <p:blipFill>
            <a:blip r:embed="rId2"/>
            <a:stretch/>
          </p:blipFill>
          <p:spPr>
            <a:xfrm>
              <a:off x="5867280" y="4510080"/>
              <a:ext cx="86364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5" descr="upload179"/>
            <p:cNvPicPr/>
            <p:nvPr/>
          </p:nvPicPr>
          <p:blipFill>
            <a:blip r:embed="rId3"/>
            <a:stretch/>
          </p:blipFill>
          <p:spPr>
            <a:xfrm>
              <a:off x="4680000" y="3859200"/>
              <a:ext cx="108108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6" descr="upload179"/>
            <p:cNvPicPr/>
            <p:nvPr/>
          </p:nvPicPr>
          <p:blipFill>
            <a:blip r:embed="rId4"/>
            <a:stretch/>
          </p:blipFill>
          <p:spPr>
            <a:xfrm>
              <a:off x="4753080" y="2781360"/>
              <a:ext cx="1008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7" descr="upload179"/>
            <p:cNvPicPr/>
            <p:nvPr/>
          </p:nvPicPr>
          <p:blipFill>
            <a:blip r:embed="rId5"/>
            <a:stretch/>
          </p:blipFill>
          <p:spPr>
            <a:xfrm>
              <a:off x="3960720" y="220356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8" descr="upload179"/>
            <p:cNvPicPr/>
            <p:nvPr/>
          </p:nvPicPr>
          <p:blipFill>
            <a:blip r:embed="rId6"/>
            <a:stretch/>
          </p:blipFill>
          <p:spPr>
            <a:xfrm>
              <a:off x="5689440" y="3716280"/>
              <a:ext cx="86364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9" descr="upload179"/>
            <p:cNvPicPr/>
            <p:nvPr/>
          </p:nvPicPr>
          <p:blipFill>
            <a:blip r:embed="rId7"/>
            <a:stretch/>
          </p:blipFill>
          <p:spPr>
            <a:xfrm>
              <a:off x="4968720" y="1557360"/>
              <a:ext cx="1224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0" descr="upload179"/>
            <p:cNvPicPr/>
            <p:nvPr/>
          </p:nvPicPr>
          <p:blipFill>
            <a:blip r:embed="rId8"/>
            <a:stretch/>
          </p:blipFill>
          <p:spPr>
            <a:xfrm>
              <a:off x="6480000" y="3211560"/>
              <a:ext cx="86544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1" descr="upload179"/>
            <p:cNvPicPr/>
            <p:nvPr/>
          </p:nvPicPr>
          <p:blipFill>
            <a:blip r:embed="rId9"/>
            <a:stretch/>
          </p:blipFill>
          <p:spPr>
            <a:xfrm>
              <a:off x="5689440" y="2708280"/>
              <a:ext cx="100836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2" descr="upload179"/>
            <p:cNvPicPr/>
            <p:nvPr/>
          </p:nvPicPr>
          <p:blipFill>
            <a:blip r:embed="rId10"/>
            <a:stretch/>
          </p:blipFill>
          <p:spPr>
            <a:xfrm>
              <a:off x="6553080" y="2421000"/>
              <a:ext cx="86364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3" descr="upload179"/>
            <p:cNvPicPr/>
            <p:nvPr/>
          </p:nvPicPr>
          <p:blipFill>
            <a:blip r:embed="rId11"/>
            <a:stretch/>
          </p:blipFill>
          <p:spPr>
            <a:xfrm>
              <a:off x="6769080" y="4076640"/>
              <a:ext cx="86364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4" descr="upload179"/>
            <p:cNvPicPr/>
            <p:nvPr/>
          </p:nvPicPr>
          <p:blipFill>
            <a:blip r:embed="rId12"/>
            <a:stretch/>
          </p:blipFill>
          <p:spPr>
            <a:xfrm>
              <a:off x="7272360" y="3141720"/>
              <a:ext cx="86364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5" descr="upload179"/>
            <p:cNvPicPr/>
            <p:nvPr/>
          </p:nvPicPr>
          <p:blipFill>
            <a:blip r:embed="rId13"/>
            <a:stretch/>
          </p:blipFill>
          <p:spPr>
            <a:xfrm>
              <a:off x="7345440" y="2276640"/>
              <a:ext cx="86364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16" descr="upload179"/>
            <p:cNvPicPr/>
            <p:nvPr/>
          </p:nvPicPr>
          <p:blipFill>
            <a:blip r:embed="rId14"/>
            <a:stretch/>
          </p:blipFill>
          <p:spPr>
            <a:xfrm>
              <a:off x="6121440" y="1773360"/>
              <a:ext cx="86364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7" descr="upload179"/>
            <p:cNvPicPr/>
            <p:nvPr/>
          </p:nvPicPr>
          <p:blipFill>
            <a:blip r:embed="rId15"/>
            <a:stretch/>
          </p:blipFill>
          <p:spPr>
            <a:xfrm>
              <a:off x="7129440" y="1557360"/>
              <a:ext cx="86364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18" descr="upload179"/>
            <p:cNvPicPr/>
            <p:nvPr/>
          </p:nvPicPr>
          <p:blipFill>
            <a:blip r:embed="rId16"/>
            <a:stretch/>
          </p:blipFill>
          <p:spPr>
            <a:xfrm>
              <a:off x="8280360" y="3357720"/>
              <a:ext cx="86364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19" descr="upload179"/>
            <p:cNvPicPr/>
            <p:nvPr/>
          </p:nvPicPr>
          <p:blipFill>
            <a:blip r:embed="rId17"/>
            <a:stretch/>
          </p:blipFill>
          <p:spPr>
            <a:xfrm>
              <a:off x="8064360" y="2421000"/>
              <a:ext cx="863640" cy="86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20" descr=""/>
          <p:cNvPicPr/>
          <p:nvPr/>
        </p:nvPicPr>
        <p:blipFill>
          <a:blip r:embed="rId18"/>
          <a:stretch/>
        </p:blipFill>
        <p:spPr>
          <a:xfrm>
            <a:off x="324000" y="333360"/>
            <a:ext cx="3600360" cy="4967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1"/>
          <p:cNvSpPr/>
          <p:nvPr/>
        </p:nvSpPr>
        <p:spPr>
          <a:xfrm>
            <a:off x="4103640" y="404640"/>
            <a:ext cx="504036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6699"/>
                </a:solidFill>
                <a:latin typeface="Arial"/>
              </a:rPr>
              <a:t>近在咫尺”是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99"/>
                </a:solidFill>
                <a:latin typeface="Arial"/>
              </a:rPr>
              <a:t>么意思</a:t>
            </a: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33520" y="5084640"/>
            <a:ext cx="814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假如你就是沙滩上的小鱼，此时此刻你心里会想些什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264960" y="83808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发现，在沙滩的浅水洼里，有许多被昨夜的暴风雨卷上岸来的小鱼。 小鱼被困在浅水洼里，虽然大海近在咫尺，但是它们回不去了。  被困的小鱼有几百条，几千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不了多久，浅水洼里的水就会被沙粒吸尽，被太阳蒸干，这些小鱼都会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29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3:14Z</dcterms:modified>
  <cp:revision>5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