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505F-48F0-42DA-9855-EB5EC27778C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1FA8-AFCD-40EB-A973-B1DCF3E1F34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AD6-52F6-44F8-B51F-2F5DDB64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C9C-1BD1-421C-97C4-2DCEDEC3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61A-18D0-4AB0-984E-9F193CEF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E1A-E617-46C1-9A82-61AF6A2B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54A-25C3-4F92-9020-96B344AA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4325-C23C-4284-BD59-38991664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DDC-DCDF-45DD-A7D0-3937EB7B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798-CBFB-4578-BCC5-A793339F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72F-B334-4B0B-AD13-15D4F983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4DB-A524-4B21-B070-F4C21475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F78B-5B49-4525-9B8B-8B543773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7E6-7D34-445F-8B54-3C9F34FE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AB63-A17D-4DEE-B3E1-15D97313D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_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_2_17"/>
          <p:cNvPicPr/>
          <p:nvPr/>
        </p:nvPicPr>
        <p:blipFill>
          <a:blip r:embed="rId2"/>
          <a:stretch/>
        </p:blipFill>
        <p:spPr>
          <a:xfrm>
            <a:off x="2771640" y="5195880"/>
            <a:ext cx="648000" cy="58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d_2_07"/>
          <p:cNvPicPr/>
          <p:nvPr/>
        </p:nvPicPr>
        <p:blipFill>
          <a:blip r:embed="rId3"/>
          <a:stretch/>
        </p:blipFill>
        <p:spPr>
          <a:xfrm>
            <a:off x="800280" y="5307120"/>
            <a:ext cx="1511280" cy="82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_2_11"/>
          <p:cNvPicPr/>
          <p:nvPr/>
        </p:nvPicPr>
        <p:blipFill>
          <a:blip r:embed="rId4"/>
          <a:srcRect l="39799" t="39936" r="39786" b="40118"/>
          <a:stretch/>
        </p:blipFill>
        <p:spPr>
          <a:xfrm>
            <a:off x="3897360" y="5211720"/>
            <a:ext cx="1584360" cy="116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_2_12"/>
          <p:cNvPicPr/>
          <p:nvPr/>
        </p:nvPicPr>
        <p:blipFill>
          <a:blip r:embed="rId5"/>
          <a:stretch/>
        </p:blipFill>
        <p:spPr>
          <a:xfrm>
            <a:off x="4616280" y="4869000"/>
            <a:ext cx="1368720" cy="78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_2_14"/>
          <p:cNvPicPr/>
          <p:nvPr/>
        </p:nvPicPr>
        <p:blipFill>
          <a:blip r:embed="rId6"/>
          <a:srcRect l="37428" t="37214" r="30590" b="29211"/>
          <a:stretch/>
        </p:blipFill>
        <p:spPr>
          <a:xfrm>
            <a:off x="6227640" y="4940280"/>
            <a:ext cx="1584360" cy="124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d_2_16"/>
          <p:cNvPicPr/>
          <p:nvPr/>
        </p:nvPicPr>
        <p:blipFill>
          <a:blip r:embed="rId7"/>
          <a:stretch/>
        </p:blipFill>
        <p:spPr>
          <a:xfrm>
            <a:off x="7805880" y="5195880"/>
            <a:ext cx="1368360" cy="1176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800280" y="148428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条小鱼在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矩形 11"/>
          <p:cNvSpPr/>
          <p:nvPr/>
        </p:nvSpPr>
        <p:spPr>
          <a:xfrm>
            <a:off x="1820520" y="6199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E37B80D5E2BF77F13388407E20447BFA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468360" y="692280"/>
            <a:ext cx="8280360" cy="167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先生看见前面有一个小男孩，走得很慢，而且不停地在每一个水洼旁弯下腰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捡水洼里的小鱼，并且用力把它们扔回大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3635280" y="2421000"/>
            <a:ext cx="5050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2556000" y="1700280"/>
            <a:ext cx="576000" cy="7207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7667640" y="2421000"/>
            <a:ext cx="576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7667640" y="3213000"/>
            <a:ext cx="576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0" y="765000"/>
            <a:ext cx="903600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终于，他忍不住走过去：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孩子，这水洼里有几百几千条小鱼，你救不过来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我知道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小男孩头也不回地回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哦？那你为什么还在扔？谁在乎呢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这条小鱼在乎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男孩一边回答，一边拾起一条小鱼扔进大海。“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这条在乎，这条  也在乎！还有这一条、这一条、这一条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楷体_GB2312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11280" y="76500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692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一比，读出句子的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孩子，这水洼里有几百几千条小鱼，你救不过来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孩子，这水洼里有几百几千条小鱼，你怎么救得过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619280" y="3500280"/>
            <a:ext cx="3168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1547640" y="5877000"/>
            <a:ext cx="38163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684360" y="1989000"/>
            <a:ext cx="7993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条小鱼在乎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一边回答，一边拾起一条小鱼扔进大海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条在乎，这条也在乎！还有这一条、这一条、这一条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…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1979640" y="1773360"/>
            <a:ext cx="4140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24000" y="1268280"/>
            <a:ext cx="8351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每条小鱼都是一条生命，生命是可贵的，要珍爱生命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84360" y="42210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条小鱼在乎（          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476280"/>
            <a:ext cx="9036000" cy="489996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终于，他忍不住走过去：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孩子，这水洼里有几百几千条小鱼，你救不过来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我知道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小男孩头也不回地回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哦？那你为什么还在扔？谁在乎呢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这条小鱼在乎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男孩一边回答，一边拾起一条小鱼扔进大海。“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这条在乎，这条  也在乎！还有这一条、这一条、这一条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  <a:ea typeface="楷体_GB2312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05"/>
          <p:cNvPicPr/>
          <p:nvPr/>
        </p:nvPicPr>
        <p:blipFill>
          <a:blip r:embed="rId1"/>
          <a:stretch/>
        </p:blipFill>
        <p:spPr>
          <a:xfrm>
            <a:off x="-228600" y="-138240"/>
            <a:ext cx="10056960" cy="723924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/>
          <p:cNvSpPr/>
          <p:nvPr/>
        </p:nvSpPr>
        <p:spPr>
          <a:xfrm>
            <a:off x="1547640" y="1916280"/>
            <a:ext cx="6409080" cy="439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5e">
                  <a:alpha val="24313"/>
                </a:srgbClr>
              </a:gs>
              <a:gs pos="50000">
                <a:srgbClr val="ffcccc">
                  <a:alpha val="21176"/>
                </a:srgbClr>
              </a:gs>
              <a:gs pos="100000">
                <a:srgbClr val="765e5e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059280" y="2924280"/>
            <a:ext cx="331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3333cc"/>
                </a:solidFill>
                <a:latin typeface="Times New Roman"/>
                <a:ea typeface="黑体"/>
              </a:rPr>
              <a:t>在乎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33480" y="567072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7" descr="09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4"/>
          <p:cNvSpPr/>
          <p:nvPr/>
        </p:nvSpPr>
        <p:spPr>
          <a:xfrm>
            <a:off x="71280" y="1994040"/>
            <a:ext cx="8748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男孩一边回答，一边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边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395280" y="981000"/>
            <a:ext cx="13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FCA8-7AE5-478C-A8ED-1137C37372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539640" y="620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8" descr="09134847"/>
          <p:cNvPicPr/>
          <p:nvPr/>
        </p:nvPicPr>
        <p:blipFill>
          <a:blip r:embed="rId1">
            <a:lum bright="24000"/>
          </a:blip>
          <a:srcRect l="0" t="0" r="16577" b="69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24000" y="1197000"/>
            <a:ext cx="8280360" cy="374976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7560" indent="-8175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7560" indent="-8175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由轻声读课文，注意读准字音，读通句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7560" indent="-8175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7560" indent="-8175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思考：课文主要讲了件什么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7560" indent="-8175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______ _______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24000" y="4941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什么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556000" y="4941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427640" y="4941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哪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372360" y="4941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什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8"/>
          <p:cNvSpPr/>
          <p:nvPr/>
        </p:nvSpPr>
        <p:spPr>
          <a:xfrm>
            <a:off x="1530720" y="476280"/>
            <a:ext cx="28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暴风雨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33"/>
          <p:cNvGrpSpPr/>
          <p:nvPr/>
        </p:nvGrpSpPr>
        <p:grpSpPr>
          <a:xfrm>
            <a:off x="5508720" y="1341360"/>
            <a:ext cx="3166920" cy="3403800"/>
            <a:chOff x="5508720" y="1341360"/>
            <a:chExt cx="3166920" cy="3403800"/>
          </a:xfrm>
        </p:grpSpPr>
        <p:pic>
          <p:nvPicPr>
            <p:cNvPr id="66" name="Picture 30" descr="田字格"/>
            <p:cNvPicPr/>
            <p:nvPr/>
          </p:nvPicPr>
          <p:blipFill>
            <a:blip r:embed="rId2"/>
            <a:stretch/>
          </p:blipFill>
          <p:spPr>
            <a:xfrm>
              <a:off x="5508720" y="1341360"/>
              <a:ext cx="3166920" cy="34038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7" name="Text Box 32"/>
            <p:cNvSpPr/>
            <p:nvPr/>
          </p:nvSpPr>
          <p:spPr>
            <a:xfrm>
              <a:off x="5797440" y="1413000"/>
              <a:ext cx="266400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暴</a:t>
              </a:r>
              <a:endParaRPr b="0" lang="en-US" sz="2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34"/>
          <p:cNvSpPr/>
          <p:nvPr/>
        </p:nvSpPr>
        <p:spPr>
          <a:xfrm>
            <a:off x="5724360" y="40464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bà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5" descr="71877444"/>
          <p:cNvPicPr/>
          <p:nvPr/>
        </p:nvPicPr>
        <p:blipFill>
          <a:blip r:embed="rId3"/>
          <a:stretch/>
        </p:blipFill>
        <p:spPr>
          <a:xfrm>
            <a:off x="324000" y="1557360"/>
            <a:ext cx="504000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395280" y="11574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雨后的一个早晨，一位先生来到海边散步。他看到沙滩的浅水洼里，有许多被暴风雨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岸来的小鱼。虽然大海近在咫尺，但它们却回不去了。被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鱼，也许有几百条，甚至几千条，用不了多久，它们都会干死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539640" y="3645000"/>
            <a:ext cx="79930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539640" y="429264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39640" y="4869000"/>
            <a:ext cx="79930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468360" y="5516640"/>
            <a:ext cx="1152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1547640" y="4292640"/>
            <a:ext cx="698508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5">
            <a:hlinkClick r:id="rId2" action="ppaction://hlinksldjump"/>
          </p:cNvPr>
          <p:cNvSpPr/>
          <p:nvPr/>
        </p:nvSpPr>
        <p:spPr>
          <a:xfrm>
            <a:off x="8028000" y="6165720"/>
            <a:ext cx="431640" cy="4762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6">
            <a:hlinkClick r:id="" action="ppaction://hlinkshowjump?jump=nextslide"/>
          </p:cNvPr>
          <p:cNvSpPr/>
          <p:nvPr/>
        </p:nvSpPr>
        <p:spPr>
          <a:xfrm>
            <a:off x="7093080" y="6237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0250" y="3794"/>
                </a:moveTo>
                <a:lnTo>
                  <a:pt x="24263" y="10800"/>
                </a:lnTo>
                <a:lnTo>
                  <a:pt x="1025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9"/>
          <p:cNvSpPr/>
          <p:nvPr/>
        </p:nvSpPr>
        <p:spPr>
          <a:xfrm>
            <a:off x="2484360" y="3068640"/>
            <a:ext cx="2160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FOfficeDoc1" descr=""/>
          <p:cNvPicPr/>
          <p:nvPr/>
        </p:nvPicPr>
        <p:blipFill>
          <a:blip r:embed="rId1"/>
          <a:stretch/>
        </p:blipFill>
        <p:spPr>
          <a:xfrm>
            <a:off x="0" y="260280"/>
            <a:ext cx="7885080" cy="630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32"/>
          <p:cNvGrpSpPr/>
          <p:nvPr/>
        </p:nvGrpSpPr>
        <p:grpSpPr>
          <a:xfrm>
            <a:off x="179280" y="2378160"/>
            <a:ext cx="9648720" cy="2419920"/>
            <a:chOff x="179280" y="2378160"/>
            <a:chExt cx="9648720" cy="2419920"/>
          </a:xfrm>
        </p:grpSpPr>
        <p:sp>
          <p:nvSpPr>
            <p:cNvPr id="81" name="Text Box 24"/>
            <p:cNvSpPr/>
            <p:nvPr/>
          </p:nvSpPr>
          <p:spPr>
            <a:xfrm>
              <a:off x="179280" y="3314520"/>
              <a:ext cx="9648720" cy="14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虽然天气很热，但 </a:t>
              </a:r>
              <a:r>
                <a:rPr b="1" lang="zh-CN" sz="3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　　　　　　　</a:t>
              </a:r>
              <a:r>
                <a:rPr b="1" lang="zh-CN" sz="3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虽然</a:t>
              </a:r>
              <a:r>
                <a:rPr b="1" lang="zh-CN" sz="3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　　　　　</a:t>
              </a:r>
              <a:r>
                <a:rPr b="1" lang="zh-CN" sz="3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但是</a:t>
              </a:r>
              <a:r>
                <a:rPr b="1" lang="zh-CN" sz="3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　　　     　</a:t>
              </a:r>
              <a:r>
                <a:rPr b="1" lang="zh-CN" sz="3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25"/>
            <p:cNvSpPr/>
            <p:nvPr/>
          </p:nvSpPr>
          <p:spPr>
            <a:xfrm>
              <a:off x="423000" y="2378160"/>
              <a:ext cx="145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练习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26"/>
          <p:cNvSpPr/>
          <p:nvPr/>
        </p:nvSpPr>
        <p:spPr>
          <a:xfrm>
            <a:off x="4514760" y="1241280"/>
            <a:ext cx="5526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虽然大海近在咫尺，但它们却回不去了。</a:t>
            </a:r>
            <a:r>
              <a:rPr b="0" lang="zh-CN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35"/>
          <p:cNvGrpSpPr/>
          <p:nvPr/>
        </p:nvGrpSpPr>
        <p:grpSpPr>
          <a:xfrm>
            <a:off x="539640" y="1917720"/>
            <a:ext cx="4536720" cy="142560"/>
            <a:chOff x="539640" y="1917720"/>
            <a:chExt cx="4536720" cy="142560"/>
          </a:xfrm>
        </p:grpSpPr>
        <p:sp>
          <p:nvSpPr>
            <p:cNvPr id="85" name="Oval 28"/>
            <p:cNvSpPr/>
            <p:nvPr/>
          </p:nvSpPr>
          <p:spPr>
            <a:xfrm>
              <a:off x="539640" y="1917720"/>
              <a:ext cx="99720" cy="142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3"/>
            <p:cNvSpPr/>
            <p:nvPr/>
          </p:nvSpPr>
          <p:spPr>
            <a:xfrm>
              <a:off x="943560" y="1917720"/>
              <a:ext cx="100080" cy="142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4"/>
            <p:cNvSpPr/>
            <p:nvPr/>
          </p:nvSpPr>
          <p:spPr>
            <a:xfrm>
              <a:off x="4976640" y="1917720"/>
              <a:ext cx="99720" cy="142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1125360"/>
            <a:ext cx="82072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虽然大海近在咫尺，但它们却回不去了。被困的小鱼，也许有几百条，甚至几千条，用不了多久，它们都会干死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58920" y="51577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被困在浅水洼里的小鱼会说些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E37B80D5E2BF77F13388407E20447BFA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468360" y="620640"/>
            <a:ext cx="8280360" cy="2469960"/>
          </a:xfrm>
          <a:prstGeom prst="rect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忽然，这位先生看见前面有一个小男孩，走得很慢，而且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在每一个水洼旁弯下腰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洼里的小鱼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并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力把它们扔回大海。这位先生停下来，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小男孩，看他拯救着小鱼们的生命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877080" y="1268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tí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7380360" y="3645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sh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44440" y="278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jiǎ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284720" y="2781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bì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003640" y="2781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qi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3059280" y="1557360"/>
            <a:ext cx="576000" cy="7920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6"/>
          <p:cNvSpPr/>
          <p:nvPr/>
        </p:nvSpPr>
        <p:spPr>
          <a:xfrm>
            <a:off x="4140360" y="2349360"/>
            <a:ext cx="576000" cy="6480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17"/>
          <p:cNvSpPr/>
          <p:nvPr/>
        </p:nvSpPr>
        <p:spPr>
          <a:xfrm>
            <a:off x="468360" y="3284640"/>
            <a:ext cx="647640" cy="5760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8"/>
          <p:cNvSpPr/>
          <p:nvPr/>
        </p:nvSpPr>
        <p:spPr>
          <a:xfrm>
            <a:off x="539640" y="4005360"/>
            <a:ext cx="576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29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3:09Z</dcterms:modified>
  <cp:revision>1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