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42A9-F81A-4EBC-87F5-1467B1DAF3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637D-C695-4103-B33D-86E0F19452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8AF-95C1-46A4-BE32-4EE6AC7A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04D-3088-4C88-91B4-8AA48F10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AA3-A0ED-42AB-97DF-E94CCDBD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5B6-9DE5-461A-AE6D-76DA756C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AAEB-DF35-40AF-B921-BF6480A1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CF5C-9014-4D53-B18E-4BA14447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47B6-C4B6-43A9-B83A-C9D4AFAB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B1E1-AA1F-4E66-9FCD-F9CB7B3A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5C18-5677-4953-935C-495AA3DC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59C7-C8CF-46ED-A171-E2111659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B9A5-AD7F-4F53-9E11-E93ED7D5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351-6303-4406-8BE3-67BEC9F0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5758-3F28-4169-BDAA-D04A8BD4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7F1A-1AB1-4D8D-A556-B0C231C0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BD33-4A46-4667-B41A-30A19A55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3619-D92E-4938-84B0-CDEFEF6C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52D7-EC33-4290-9505-C25258CC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AD2CE-E0D7-444B-8701-87A6A3E4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0967-5D8E-42A3-A0D2-D7E42D73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C67F-21C9-4EA4-BA45-FBC9C20A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E3F4-7D08-40C2-A52B-BE9C1FF8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5EEDE-0F01-403A-B7FA-AAB12C10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CDD-FE3E-4607-8357-4B19FD87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9D98-81A4-40C5-99B5-06F55835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1E52-7E4A-4882-93EA-51F9B4B6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2F8B-BFCB-453B-B4F8-5AB3CE04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38FA-A438-4689-9DAB-4A174998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563E9-58A5-4764-9F40-C5DA97CB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86EC-EC3E-415A-AC49-600320B6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0B8E8-C1E5-44DD-AB86-B093D837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4F7-EF06-4DD3-AB51-623F1700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048-4E84-4A3B-AD02-738F19C8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B7E-1157-452C-84AD-128814EA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E1E-805C-4C24-B2E3-0B05015A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2F0-FB78-4CE2-8467-A73CD8AE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14B-9ED7-48F2-B7BC-A2843AF4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04C4-7742-49F5-BB5B-74B7C2F724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fff"/>
            </a:gs>
            <a:gs pos="100000">
              <a:srgbClr val="d3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DD6C-4F7F-4402-B2BC-7DE467224E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9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BD48-146F-4553-B7DC-31A97FAC89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29492;&#23376;&#25438;&#26376;.swf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hyperlink" Target="file:///019&#25688;&#26376;&#20142;.swf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95280" y="476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湘教版语文二年级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1678680" y="57326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79280" y="4726080"/>
            <a:ext cx="8569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小猴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地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上树。他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住树枝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荡过来荡过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可月亮总躲在前面的树梢上，和他捉迷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猴.wmv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704000" cy="4608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0" y="620640"/>
            <a:ext cx="11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小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24000" y="4870440"/>
            <a:ext cx="900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猫望着月亮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想啊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哦，明亮的天空，就像小主人的那面镜子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小猫灵机一动，迅速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回家去，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出小主人的镜子，对着月亮一照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小猫1.wmv" descr=""/>
          <p:cNvPicPr/>
          <p:nvPr/>
        </p:nvPicPr>
        <p:blipFill>
          <a:blip r:embed="rId1"/>
          <a:stretch/>
        </p:blipFill>
        <p:spPr>
          <a:xfrm>
            <a:off x="1044720" y="-96840"/>
            <a:ext cx="7559640" cy="44337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6360" y="4064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小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24000" y="5013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嘿！月亮钻到镜子里啦！小猫高兴得又跳又叫：“妙妙妙，月亮被我摘下来了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小猫2.wmv" descr=""/>
          <p:cNvPicPr/>
          <p:nvPr/>
        </p:nvPicPr>
        <p:blipFill>
          <a:blip r:embed="rId1"/>
          <a:stretch/>
        </p:blipFill>
        <p:spPr>
          <a:xfrm>
            <a:off x="826920" y="0"/>
            <a:ext cx="7560000" cy="446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00000" y="198900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猫摘到了月亮，我想对小猫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——————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95280" y="404280"/>
            <a:ext cx="82296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一想，还有什么办法也能摘到月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96720" y="189000"/>
            <a:ext cx="83505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名言</a:t>
            </a:r>
            <a:r>
              <a:rPr b="1" i="1" lang="zh-CN" sz="3200" spc="-1" strike="noStrike">
                <a:solidFill>
                  <a:srgbClr val="ff0066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下决心培养思考习惯的人，便失去了生活中最大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迪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人年轻的时候不会思索，他将一无所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迪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340000" y="242100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谢谢指导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33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6921-C433-4ED8-AC1F-4EF9F041F2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30"/>
          <p:cNvPicPr/>
          <p:nvPr/>
        </p:nvPicPr>
        <p:blipFill>
          <a:blip r:embed="rId1"/>
          <a:stretch/>
        </p:blipFill>
        <p:spPr>
          <a:xfrm>
            <a:off x="0" y="-23760"/>
            <a:ext cx="9448920" cy="7083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1332000" y="1486080"/>
            <a:ext cx="4608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时落在山腰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时挂在树梢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时像个圆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时像把镰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997680" y="3897360"/>
            <a:ext cx="2040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292720" y="51577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谜底：</a:t>
            </a:r>
            <a:r>
              <a:rPr b="1" i="1" lang="zh-CN" sz="4000" spc="-1" strike="noStrike">
                <a:solidFill>
                  <a:srgbClr val="3333ff"/>
                </a:solidFill>
                <a:latin typeface="Arial"/>
              </a:rPr>
              <a:t>月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88800" y="423720"/>
            <a:ext cx="25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谜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snapshot20091118002438"/>
          <p:cNvPicPr/>
          <p:nvPr/>
        </p:nvPicPr>
        <p:blipFill>
          <a:blip r:embed="rId1"/>
          <a:stretch/>
        </p:blipFill>
        <p:spPr>
          <a:xfrm>
            <a:off x="-33480" y="-23760"/>
            <a:ext cx="9129960" cy="68562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"/>
          <p:cNvSpPr/>
          <p:nvPr/>
        </p:nvSpPr>
        <p:spPr>
          <a:xfrm>
            <a:off x="195120" y="5738760"/>
            <a:ext cx="11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96720" y="333360"/>
            <a:ext cx="8352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āi                     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           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苹果      竹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钩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zh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k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图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住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ɡō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s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o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撒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铁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     树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梢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ánɡ      jìnɡ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捉迷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  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迅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41240" y="765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听碟读课文，思考下面的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187280" y="2133720"/>
            <a:ext cx="727416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3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 action="ppaction://hlinksldjump"/>
              </a:rPr>
              <a:t>故事中讲了哪几只小动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它们分别是用什么方法摘月亮的？它们为什么会用这样的方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>
            <a:hlinkClick r:id="rId3"/>
          </p:cNvPr>
          <p:cNvSpPr/>
          <p:nvPr/>
        </p:nvSpPr>
        <p:spPr>
          <a:xfrm>
            <a:off x="7667640" y="5950080"/>
            <a:ext cx="576360" cy="35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0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15"/>
          <p:cNvPicPr/>
          <p:nvPr/>
        </p:nvPicPr>
        <p:blipFill>
          <a:blip r:embed="rId1"/>
          <a:stretch/>
        </p:blipFill>
        <p:spPr>
          <a:xfrm>
            <a:off x="-34920" y="0"/>
            <a:ext cx="9142560" cy="6858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48" name="Text Box 5"/>
          <p:cNvSpPr/>
          <p:nvPr/>
        </p:nvSpPr>
        <p:spPr>
          <a:xfrm>
            <a:off x="1046880" y="19414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447920" y="609480"/>
            <a:ext cx="6238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读一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黄狗，黑熊和小猫在草地上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332000" y="2637000"/>
            <a:ext cx="612144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会照样子说一说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操场上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是水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541240" y="765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听碟读课文，思考下面的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187280" y="2133720"/>
            <a:ext cx="727416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3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 action="ppaction://hlinksldjump"/>
              </a:rPr>
              <a:t>故事中讲了哪几只小动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它们分别是用什么方法摘月亮的？它们为什么会用这样的方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4797000"/>
            <a:ext cx="82440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99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汪汪汪，月亮就站在山尖上。”黄狗</a:t>
            </a:r>
            <a:r>
              <a:rPr b="1" lang="zh-CN" sz="4800" spc="-1" strike="noStrike">
                <a:solidFill>
                  <a:srgbClr val="cc0000"/>
                </a:solidFill>
                <a:latin typeface="宋体"/>
              </a:rPr>
              <a:t>撒腿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向山坡</a:t>
            </a:r>
            <a:r>
              <a:rPr b="1" lang="zh-CN" sz="4800" spc="-1" strike="noStrike">
                <a:solidFill>
                  <a:srgbClr val="cc0000"/>
                </a:solidFill>
                <a:latin typeface="宋体"/>
              </a:rPr>
              <a:t>跑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狗.wmv" descr=""/>
          <p:cNvPicPr/>
          <p:nvPr/>
        </p:nvPicPr>
        <p:blipFill>
          <a:blip r:embed="rId1"/>
          <a:stretch/>
        </p:blipFill>
        <p:spPr>
          <a:xfrm>
            <a:off x="1044720" y="117360"/>
            <a:ext cx="7488000" cy="48499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34920" y="549360"/>
            <a:ext cx="12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黄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79280" y="4508640"/>
            <a:ext cx="8748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黑熊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来一根又粗又长的竹竿，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上铁钩子，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用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去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钩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挂在树梢的月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黑熊.mpg" descr=""/>
          <p:cNvPicPr/>
          <p:nvPr/>
        </p:nvPicPr>
        <p:blipFill>
          <a:blip r:embed="rId1"/>
          <a:stretch/>
        </p:blipFill>
        <p:spPr>
          <a:xfrm>
            <a:off x="1044720" y="44280"/>
            <a:ext cx="7343640" cy="43434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0" y="549360"/>
            <a:ext cx="13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黑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3:29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4:52Z</dcterms:modified>
  <cp:revision>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