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7B16-8942-4C90-BCF9-47964769DE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708A-36C1-4EB7-9866-4DE6F2D708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F8A-839E-4210-BB7F-A492B5CB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21E-F059-4297-858A-572D587C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286-60D0-4F1C-AAB0-DD56D298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FBF-649E-4968-8C56-7CA3D681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4E05-FA18-4D9E-AA5C-89A716F7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D4F-456B-4F48-8C12-9A33F670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7703-F0C1-4648-9638-D71DB15E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38B-7027-423F-BA30-5002EA0E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F96-ABCA-4529-A671-0F7C638B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C91-FE8F-4819-AC0B-0E9D9FDD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22D-8774-4F52-A287-7E060555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827-5DD3-42F9-8078-D6EEE84C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71A4-CAD4-4788-A780-8E17529A8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76720" y="15876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 婷婷的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799560" y="58928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79240" y="30481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婷婷的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2025720" y="152388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36640" y="16765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205160" y="16765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枝比干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712960" y="26668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兔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129200" y="26668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红色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636640" y="365760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129200" y="36576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有翅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712960" y="4648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母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281480" y="46483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蛋比母鸡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6292800" y="1600200"/>
            <a:ext cx="228600" cy="3581280"/>
          </a:xfrm>
          <a:custGeom>
            <a:avLst/>
            <a:gdLst>
              <a:gd name="textAreaLeft" fmla="*/ 0 w 228600"/>
              <a:gd name="textAreaRight" fmla="*/ 82440 w 22860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7056360" y="30481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想象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380880" y="0"/>
            <a:ext cx="3124440" cy="1676520"/>
          </a:xfrm>
          <a:prstGeom prst="cloudCallout">
            <a:avLst>
              <a:gd name="adj1" fmla="val -48018"/>
              <a:gd name="adj2" fmla="val 678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婷婷的画为什么能获得一等奖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677960" y="2057400"/>
            <a:ext cx="162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爷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677960" y="2971800"/>
            <a:ext cx="162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爸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097680" y="2057400"/>
            <a:ext cx="162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画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097680" y="2971800"/>
            <a:ext cx="162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鱼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073880" y="6858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一比，再组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677960" y="2057400"/>
            <a:ext cx="162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匹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677960" y="2971800"/>
            <a:ext cx="162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四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097680" y="2057400"/>
            <a:ext cx="162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枝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097680" y="2971800"/>
            <a:ext cx="162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支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073880" y="5335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一比，再组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808200" y="1136520"/>
            <a:ext cx="7610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婷  摇  更  翅  膀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80880" y="743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ín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111560" y="74304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è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6239520" y="76212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484280" y="3935520"/>
            <a:ext cx="6467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  展  等  奖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2193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053160" y="350532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zh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286000" y="762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967640" y="350532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ě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6887880" y="35053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iǎ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7940520" y="76212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ǎ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hockwaveFlash1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ShockwaveFlash2" descr=""/>
          <p:cNvPicPr/>
          <p:nvPr/>
        </p:nvPicPr>
        <p:blipFill>
          <a:blip r:embed="rId3"/>
          <a:stretch/>
        </p:blipFill>
        <p:spPr>
          <a:xfrm>
            <a:off x="24382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ShockwaveFlash3" descr=""/>
          <p:cNvPicPr/>
          <p:nvPr/>
        </p:nvPicPr>
        <p:blipFill>
          <a:blip r:embed="rId4"/>
          <a:stretch/>
        </p:blipFill>
        <p:spPr>
          <a:xfrm>
            <a:off x="434340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ShockwaveFlash4" descr=""/>
          <p:cNvPicPr/>
          <p:nvPr/>
        </p:nvPicPr>
        <p:blipFill>
          <a:blip r:embed="rId5"/>
          <a:stretch/>
        </p:blipFill>
        <p:spPr>
          <a:xfrm>
            <a:off x="62485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ShockwaveFlash5" descr=""/>
          <p:cNvPicPr/>
          <p:nvPr/>
        </p:nvPicPr>
        <p:blipFill>
          <a:blip r:embed="rId6"/>
          <a:stretch/>
        </p:blipFill>
        <p:spPr>
          <a:xfrm>
            <a:off x="81532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ShockwaveFlash6" descr=""/>
          <p:cNvPicPr/>
          <p:nvPr/>
        </p:nvPicPr>
        <p:blipFill>
          <a:blip r:embed="rId7"/>
          <a:stretch/>
        </p:blipFill>
        <p:spPr>
          <a:xfrm>
            <a:off x="137160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23" name="ShockwaveFlash7" descr=""/>
          <p:cNvPicPr/>
          <p:nvPr/>
        </p:nvPicPr>
        <p:blipFill>
          <a:blip r:embed="rId8"/>
          <a:stretch/>
        </p:blipFill>
        <p:spPr>
          <a:xfrm>
            <a:off x="320040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ShockwaveFlash8" descr=""/>
          <p:cNvPicPr/>
          <p:nvPr/>
        </p:nvPicPr>
        <p:blipFill>
          <a:blip r:embed="rId9"/>
          <a:stretch/>
        </p:blipFill>
        <p:spPr>
          <a:xfrm>
            <a:off x="518148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25" name="ShockwaveFlash9" descr=""/>
          <p:cNvPicPr/>
          <p:nvPr/>
        </p:nvPicPr>
        <p:blipFill>
          <a:blip r:embed="rId10"/>
          <a:stretch/>
        </p:blipFill>
        <p:spPr>
          <a:xfrm>
            <a:off x="7086600" y="51055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3917160" y="632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朋友画的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20071224084158868"/>
          <p:cNvPicPr/>
          <p:nvPr/>
        </p:nvPicPr>
        <p:blipFill>
          <a:blip r:embed="rId1"/>
          <a:stretch/>
        </p:blipFill>
        <p:spPr>
          <a:xfrm>
            <a:off x="2514600" y="571680"/>
            <a:ext cx="4114800" cy="5715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17160" y="632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朋友画的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20071224083742851"/>
          <p:cNvPicPr/>
          <p:nvPr/>
        </p:nvPicPr>
        <p:blipFill>
          <a:blip r:embed="rId1"/>
          <a:stretch/>
        </p:blipFill>
        <p:spPr>
          <a:xfrm>
            <a:off x="762120" y="752400"/>
            <a:ext cx="76197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917160" y="632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朋友画的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20071224084326205"/>
          <p:cNvPicPr/>
          <p:nvPr/>
        </p:nvPicPr>
        <p:blipFill>
          <a:blip r:embed="rId1"/>
          <a:stretch/>
        </p:blipFill>
        <p:spPr>
          <a:xfrm>
            <a:off x="2519280" y="571680"/>
            <a:ext cx="4105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3855960" y="1951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D17A-FA92-4456-9B3A-7B0FCFA0D1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0071224084454757"/>
          <p:cNvPicPr/>
          <p:nvPr/>
        </p:nvPicPr>
        <p:blipFill>
          <a:blip r:embed="rId1"/>
          <a:stretch/>
        </p:blipFill>
        <p:spPr>
          <a:xfrm>
            <a:off x="762120" y="681120"/>
            <a:ext cx="7619760" cy="5495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3917160" y="632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朋友画的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2790720" y="1295280"/>
            <a:ext cx="191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婷婷的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huà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590400" y="3645000"/>
            <a:ext cx="80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tínɡ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婷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yé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爷是个画家。婷婷也喜欢画画，她想当个小画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婷婷画了一棵树。爷爷看了，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yáo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摇头说：“树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zhī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怎么能比树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干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ɡàn)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cū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呢？”婷婷说：“我希望长出这样的树来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"/>
          <p:cNvSpPr/>
          <p:nvPr/>
        </p:nvSpPr>
        <p:spPr>
          <a:xfrm>
            <a:off x="1512720" y="5880240"/>
            <a:ext cx="59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561960" y="380880"/>
            <a:ext cx="802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婷婷画了一只小兔子。爷爷看了，瞪大眼睛说：“哦，你画的兔子怎么是红色的呢？”婷婷说：“我觉得红色的兔子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ɡènɡ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漂亮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婷婷画了一匹马。爷爷看了，点点头，笑着说：“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hā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你画的马有翅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chì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bǎnɡ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啊！”婷婷说：“我想让马像鸟儿一样飞起来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婷婷画了一只老母鸡，老母鸡下了一个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dà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那蛋比老母鸡还大。后来，这幅画参加国际儿童画展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zhǎ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结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jié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果得了一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děnɡ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奖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jiǎnɡ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024440" y="1219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婷婷的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152280" y="1219320"/>
            <a:ext cx="3657600" cy="2057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婷婷画的树、兔子、马、老母鸡与我们平时见到的有什么不同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561960" y="365760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婷婷的爷爷是个画家。婷婷也喜欢画画，她想当个小画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5638680" y="1371600"/>
            <a:ext cx="3048120" cy="1676520"/>
          </a:xfrm>
          <a:prstGeom prst="cloudCallout">
            <a:avLst>
              <a:gd name="adj1" fmla="val 53333"/>
              <a:gd name="adj2" fmla="val 62500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婷婷是靠什么画出了树枝比树干粗的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561960" y="373392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婷婷画了一棵树。爷爷看了，摇摇头说：“树枝怎么能比树干粗呢？”婷婷说：“我希望长出这样的树来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>
            <a:off x="4267080" y="449568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7010280" y="411480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685800" y="449568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79240" y="30481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婷婷的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2025720" y="152388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636640" y="16765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4205160" y="16765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枝比干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>
            <a:off x="685800" y="1066680"/>
            <a:ext cx="3048120" cy="1905120"/>
          </a:xfrm>
          <a:prstGeom prst="cloudCallout">
            <a:avLst>
              <a:gd name="adj1" fmla="val -55208"/>
              <a:gd name="adj2" fmla="val 46083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爷爷看了婷婷画的兔子，为什么会瞪大眼睛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561960" y="342900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婷婷画了一只小兔子。爷爷看了，瞪大眼睛说：“哦，你画的兔子怎么是红色的呢？”婷婷说：“我觉得红色的兔子更漂亮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5943600" y="380988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7010280" y="4191120"/>
            <a:ext cx="14479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6"/>
          <p:cNvSpPr/>
          <p:nvPr/>
        </p:nvSpPr>
        <p:spPr>
          <a:xfrm>
            <a:off x="5029200" y="3809880"/>
            <a:ext cx="3276720" cy="1905120"/>
          </a:xfrm>
          <a:prstGeom prst="cloudCallout">
            <a:avLst>
              <a:gd name="adj1" fmla="val 44523"/>
              <a:gd name="adj2" fmla="val 54583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爷爷看了婷婷画的马，为什么会点头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8458200" y="7924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700200" y="612720"/>
            <a:ext cx="78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婷婷画了一匹马。爷爷看了，点点头，笑着说：“哈，你画的马有翅膀啊！”婷婷说：“我想让马像鸟儿一样飞起来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婷婷画了一只老母鸡，老母鸡下了一个蛋，那蛋比老母鸡还大。后来，这幅画参加国际儿童画展，结果得了一等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5410080" y="990720"/>
            <a:ext cx="22100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438280" y="137160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>
            <a:off x="7543800" y="213372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838080" y="251460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6:57:36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23:53:12Z</dcterms:modified>
  <cp:revision>12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