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6A91-B484-4AA0-BCD4-FB707E004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382F-9D7A-473C-9408-0FC50DDF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4691-7226-4412-9722-EE59ADC6E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444F-968D-4299-98DD-13B52CC81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A3D8-18B1-4558-8264-FC9267208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E0CC-E3EC-489B-931F-6D5ADE9E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E9AB-9C4B-4E5B-AC02-0538E680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8371-1DD3-450E-8CB3-35E54E46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6A48-E83D-4232-985E-D6683202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40B8-4E60-4BD1-9BAC-CD7C24E8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7914-A4E5-4432-8F26-D11D0D96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77AD-AD20-49EA-98C3-5AC46355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D7D0-104A-4ADF-BC61-435DCC20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E10F-ABA9-411F-8E93-C27A04DF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D5FC-5683-4E06-B63F-E69F96EA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C1B8-E2E3-4ED6-B548-6C1832442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4839-836A-4019-954C-3BA0C1C43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D5FD-B128-4905-A74E-62CEA7A7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E077-17CB-42F0-9859-CDF1AC27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816A-7587-4CCF-BBAA-248A8070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AE07-C9C4-4852-B5C3-882EDB50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7BFE-D825-4FAF-8468-E8AEE566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5A84-4E44-4F6C-8753-34BF08BD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81F6-1119-409D-A886-ACD86119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715F-AB4A-408B-9FCE-365EF14E390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4628-2D66-4450-86B8-F5C6C09CCC45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bluehaitun.photo.hexun.com/9301692_d.html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F:/&#25105;/&#35838;&#20214;/&#22823;&#23398;&#35821;&#25991;PPT/&#33977;&#33901;/&#22823;&#23398;&#35821;&#25991;&#25945;&#26696;/&#22312;&#27700;&#19968;&#26041;(&#37011;&#20029;&#21531;).mpga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Picture 5" descr="286bcf98115b7b2b6e068ca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Rectangle 6" descr=""/>
          <p:cNvPicPr/>
          <p:nvPr/>
        </p:nvPicPr>
        <p:blipFill>
          <a:blip r:embed="rId2"/>
          <a:stretch/>
        </p:blipFill>
        <p:spPr>
          <a:xfrm>
            <a:off x="1535040" y="552600"/>
            <a:ext cx="6048360" cy="2317680"/>
          </a:xfrm>
          <a:prstGeom prst="rect">
            <a:avLst/>
          </a:prstGeom>
          <a:ln w="0">
            <a:noFill/>
          </a:ln>
        </p:spPr>
      </p:pic>
      <p:sp>
        <p:nvSpPr>
          <p:cNvPr id="102" name="矩形 7"/>
          <p:cNvSpPr/>
          <p:nvPr/>
        </p:nvSpPr>
        <p:spPr>
          <a:xfrm>
            <a:off x="1928160" y="62373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0" name="Picture 3" descr="530aa189be65b0b7a4c272aa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530aa189be65b0b7a4c272a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（一）关于主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6920" y="2349360"/>
            <a:ext cx="1373400" cy="411480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 fontScale="80000"/>
          </a:bodyPr>
          <a:p>
            <a:pPr marL="274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中心意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伊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6" descr="查看更多精彩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1280" y="1844640"/>
            <a:ext cx="417816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  <a:ea typeface="楷体_GB2312"/>
              </a:rPr>
              <a:t>朱熹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  <a:ea typeface="楷体_GB2312"/>
              </a:rPr>
              <a:t>诗集传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  <a:ea typeface="楷体_GB2312"/>
              </a:rPr>
              <a:t>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  <a:ea typeface="楷体_GB2312"/>
              </a:rPr>
              <a:t>伊人，犹彼人也。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刺襄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诗序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云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蒹葭，刺襄公也。未能用周礼，将无以固其国焉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就是说，用伊人来隐喻周王朝礼制。如果逆周礼而治国，那走不通、治不好的。如果顺从周礼，那治国有希望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招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。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伊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贤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隐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仿宋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贤人隐居水滨，慕而思见之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仿宋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姚际恒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诗经通论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仿宋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征求逸隐不以其道，隐者避而不见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方玉润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诗经原始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。如有人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一首恋歌，由于所追求的心上人可望而不可即，诗人陷入烦恼。说河水阻隔，是含蓄的隐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翻译家就将这首诗翻译成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 love so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伊人是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he lov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总结：多义，怀人诗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很难确定它究竟是招隐还是怀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觉得它百读不厌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闻一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隶书"/>
                <a:ea typeface="隶书"/>
              </a:rPr>
              <a:t>（二）文本细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520" y="20574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时间的延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蒹葭苍苍，白露为霜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蒹葭萋萋，白露未晞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蒹葭采采，白露未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Picture 16" descr="p021"/>
          <p:cNvPicPr/>
          <p:nvPr/>
        </p:nvPicPr>
        <p:blipFill>
          <a:blip r:embed="rId2"/>
          <a:stretch/>
        </p:blipFill>
        <p:spPr>
          <a:xfrm>
            <a:off x="5257800" y="2362320"/>
            <a:ext cx="35812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3" descr="00000352"/>
          <p:cNvPicPr/>
          <p:nvPr/>
        </p:nvPicPr>
        <p:blipFill>
          <a:blip r:embed="rId1"/>
          <a:stretch/>
        </p:blipFill>
        <p:spPr>
          <a:xfrm>
            <a:off x="971640" y="1197000"/>
            <a:ext cx="775476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609480" y="1235160"/>
            <a:ext cx="6054480" cy="4389480"/>
            <a:chOff x="609480" y="1235160"/>
            <a:chExt cx="6054480" cy="4389480"/>
          </a:xfrm>
        </p:grpSpPr>
        <p:sp>
          <p:nvSpPr>
            <p:cNvPr id="188" name="Rectangle 5"/>
            <p:cNvSpPr/>
            <p:nvPr/>
          </p:nvSpPr>
          <p:spPr>
            <a:xfrm>
              <a:off x="609480" y="1235160"/>
              <a:ext cx="6054480" cy="4389480"/>
            </a:xfrm>
            <a:prstGeom prst="rect">
              <a:avLst/>
            </a:prstGeom>
            <a:solidFill>
              <a:srgbClr val="c9e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grpSp>
          <p:nvGrpSpPr>
            <p:cNvPr id="189" name="Group 6"/>
            <p:cNvGrpSpPr/>
            <p:nvPr/>
          </p:nvGrpSpPr>
          <p:grpSpPr>
            <a:xfrm>
              <a:off x="609480" y="1235160"/>
              <a:ext cx="6054120" cy="4389480"/>
              <a:chOff x="609480" y="1235160"/>
              <a:chExt cx="6054120" cy="4389480"/>
            </a:xfrm>
          </p:grpSpPr>
          <p:sp>
            <p:nvSpPr>
              <p:cNvPr id="190" name="Rectangle 7"/>
              <p:cNvSpPr/>
              <p:nvPr/>
            </p:nvSpPr>
            <p:spPr>
              <a:xfrm>
                <a:off x="609480" y="1235160"/>
                <a:ext cx="6054120" cy="360"/>
              </a:xfrm>
              <a:prstGeom prst="rect">
                <a:avLst/>
              </a:prstGeom>
              <a:solidFill>
                <a:srgbClr val="c9ee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just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grpSp>
            <p:nvGrpSpPr>
              <p:cNvPr id="191" name="Group 8"/>
              <p:cNvGrpSpPr/>
              <p:nvPr/>
            </p:nvGrpSpPr>
            <p:grpSpPr>
              <a:xfrm>
                <a:off x="609480" y="1235160"/>
                <a:ext cx="6053760" cy="4389480"/>
                <a:chOff x="609480" y="1235160"/>
                <a:chExt cx="6053760" cy="4389480"/>
              </a:xfrm>
            </p:grpSpPr>
            <p:sp>
              <p:nvSpPr>
                <p:cNvPr id="192" name="Rectangle 9"/>
                <p:cNvSpPr/>
                <p:nvPr/>
              </p:nvSpPr>
              <p:spPr>
                <a:xfrm>
                  <a:off x="609480" y="1235160"/>
                  <a:ext cx="6053760" cy="179640"/>
                </a:xfrm>
                <a:prstGeom prst="rect">
                  <a:avLst/>
                </a:prstGeom>
                <a:solidFill>
                  <a:srgbClr val="c9ee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grpSp>
              <p:nvGrpSpPr>
                <p:cNvPr id="193" name="Group 10"/>
                <p:cNvGrpSpPr/>
                <p:nvPr/>
              </p:nvGrpSpPr>
              <p:grpSpPr>
                <a:xfrm>
                  <a:off x="609480" y="1235160"/>
                  <a:ext cx="5912280" cy="4389480"/>
                  <a:chOff x="609480" y="1235160"/>
                  <a:chExt cx="5912280" cy="4389480"/>
                </a:xfrm>
              </p:grpSpPr>
              <p:sp>
                <p:nvSpPr>
                  <p:cNvPr id="194" name="Rectangle 11"/>
                  <p:cNvSpPr/>
                  <p:nvPr/>
                </p:nvSpPr>
                <p:spPr>
                  <a:xfrm>
                    <a:off x="609480" y="1235160"/>
                    <a:ext cx="5912280" cy="4389480"/>
                  </a:xfrm>
                  <a:prstGeom prst="rect">
                    <a:avLst/>
                  </a:prstGeom>
                  <a:solidFill>
                    <a:srgbClr val="c9eef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  <p:sp>
                <p:nvSpPr>
                  <p:cNvPr id="195" name="Rectangle 12"/>
                  <p:cNvSpPr/>
                  <p:nvPr/>
                </p:nvSpPr>
                <p:spPr>
                  <a:xfrm>
                    <a:off x="609480" y="1235160"/>
                    <a:ext cx="5912280" cy="4389480"/>
                  </a:xfrm>
                  <a:prstGeom prst="rect">
                    <a:avLst/>
                  </a:prstGeom>
                  <a:solidFill>
                    <a:srgbClr val="c9eef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 </a:t>
                    </a:r>
                    <a:r>
                      <a:rPr b="0" lang="zh-CN" sz="26200" spc="-1" strike="noStrike">
                        <a:solidFill>
                          <a:srgbClr val="000000"/>
                        </a:solidFill>
                        <a:latin typeface="Arial"/>
                      </a:rPr>
                      <a:t> </a:t>
                    </a:r>
                    <a:r>
                      <a:rPr b="0" lang="zh-CN" sz="1000" spc="-1" strike="noStrike">
                        <a:solidFill>
                          <a:srgbClr val="000000"/>
                        </a:solidFill>
                        <a:latin typeface="Arial"/>
                      </a:rPr>
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宋体"/>
                    </a:endParaRPr>
                  </a:p>
                </p:txBody>
              </p:sp>
            </p:grpSp>
          </p:grpSp>
        </p:grpSp>
      </p:grpSp>
      <p:pic>
        <p:nvPicPr>
          <p:cNvPr id="196" name="Picture 13" descr="200303050577_288818"/>
          <p:cNvPicPr/>
          <p:nvPr/>
        </p:nvPicPr>
        <p:blipFill>
          <a:blip r:embed="rId1"/>
          <a:stretch/>
        </p:blipFill>
        <p:spPr>
          <a:xfrm>
            <a:off x="609480" y="1295280"/>
            <a:ext cx="83059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8" name="Picture 4" descr="4859d35a66a75fab810a1844"/>
          <p:cNvPicPr/>
          <p:nvPr/>
        </p:nvPicPr>
        <p:blipFill>
          <a:blip r:embed="rId1"/>
          <a:stretch/>
        </p:blipFill>
        <p:spPr>
          <a:xfrm>
            <a:off x="250920" y="907920"/>
            <a:ext cx="867564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7" descr="3.jpg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65200" y="3933720"/>
            <a:ext cx="80042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《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诗经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》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本名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《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诗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》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，又称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诗三百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，是我国第一部诗歌总集，共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305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篇。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42920" y="748800"/>
            <a:ext cx="7772400" cy="10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84b1e"/>
                </a:solidFill>
                <a:latin typeface="Tahoma"/>
                <a:ea typeface="隶书"/>
              </a:rPr>
              <a:t>一、背景材料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826920" y="3645000"/>
            <a:ext cx="6840720" cy="23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首章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6600"/>
                </a:solidFill>
                <a:latin typeface="Tahoma"/>
                <a:ea typeface="楷体_GB2312"/>
              </a:rPr>
              <a:t>苍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，次章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6600"/>
                </a:solidFill>
                <a:latin typeface="Tahoma"/>
                <a:ea typeface="楷体_GB2312"/>
              </a:rPr>
              <a:t>凄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，末章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6600"/>
                </a:solidFill>
                <a:latin typeface="Tahoma"/>
                <a:ea typeface="楷体_GB2312"/>
              </a:rPr>
              <a:t>采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，写出芦苇的颜色由苍青至凄青到泛白，把深秋凄凉的气氛渲染得越来越浓。同时也暗示、象征了诗人的孤寂彷徨、幽思百结的心绪，从而将</a:t>
            </a:r>
            <a:r>
              <a:rPr b="1" lang="zh-CN" sz="3200" spc="-1" strike="noStrike">
                <a:solidFill>
                  <a:srgbClr val="006600"/>
                </a:solidFill>
                <a:latin typeface="Tahoma"/>
                <a:ea typeface="楷体_GB2312"/>
              </a:rPr>
              <a:t>情与景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很好地</a:t>
            </a:r>
            <a:r>
              <a:rPr b="1" lang="zh-CN" sz="3200" spc="-1" strike="noStrike">
                <a:solidFill>
                  <a:srgbClr val="006600"/>
                </a:solidFill>
                <a:latin typeface="Tahoma"/>
                <a:ea typeface="楷体_GB2312"/>
              </a:rPr>
              <a:t>结合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起来了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Picture 4" descr="ty109_jpg"/>
          <p:cNvPicPr/>
          <p:nvPr/>
        </p:nvPicPr>
        <p:blipFill>
          <a:blip r:embed="rId1"/>
          <a:stretch/>
        </p:blipFill>
        <p:spPr>
          <a:xfrm>
            <a:off x="6172200" y="4952880"/>
            <a:ext cx="1646280" cy="12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99640" y="2060640"/>
            <a:ext cx="74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露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为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露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未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露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未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是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时间的推移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一天从早到晚的变化，象征着抒情主人公凝望追寻时间之长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Picture 5" descr="paint0030s"/>
          <p:cNvPicPr/>
          <p:nvPr/>
        </p:nvPicPr>
        <p:blipFill>
          <a:blip r:embed="rId1"/>
          <a:stretch/>
        </p:blipFill>
        <p:spPr>
          <a:xfrm>
            <a:off x="7093080" y="4076640"/>
            <a:ext cx="1371600" cy="22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09480" y="201780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</a:rPr>
              <a:t>空间的转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谓伊人，在水一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谓伊人，在水之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谓伊人，在水之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4" name="Group 1034"/>
          <p:cNvGrpSpPr/>
          <p:nvPr/>
        </p:nvGrpSpPr>
        <p:grpSpPr>
          <a:xfrm>
            <a:off x="1130400" y="2133720"/>
            <a:ext cx="6885000" cy="2590560"/>
            <a:chOff x="1130400" y="2133720"/>
            <a:chExt cx="6885000" cy="2590560"/>
          </a:xfrm>
        </p:grpSpPr>
        <p:sp>
          <p:nvSpPr>
            <p:cNvPr id="205" name="Rectangle 1029"/>
            <p:cNvSpPr/>
            <p:nvPr/>
          </p:nvSpPr>
          <p:spPr>
            <a:xfrm>
              <a:off x="1130400" y="2133720"/>
              <a:ext cx="6885000" cy="19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grpSp>
          <p:nvGrpSpPr>
            <p:cNvPr id="206" name="Group 1033"/>
            <p:cNvGrpSpPr/>
            <p:nvPr/>
          </p:nvGrpSpPr>
          <p:grpSpPr>
            <a:xfrm>
              <a:off x="1130400" y="2133720"/>
              <a:ext cx="2679840" cy="2590560"/>
              <a:chOff x="1130400" y="2133720"/>
              <a:chExt cx="2679840" cy="2590560"/>
            </a:xfrm>
          </p:grpSpPr>
          <p:sp>
            <p:nvSpPr>
              <p:cNvPr id="207" name="Rectangle 1030"/>
              <p:cNvSpPr/>
              <p:nvPr/>
            </p:nvSpPr>
            <p:spPr>
              <a:xfrm>
                <a:off x="1130400" y="2133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just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08" name="Rectangle 1031"/>
              <p:cNvSpPr/>
              <p:nvPr/>
            </p:nvSpPr>
            <p:spPr>
              <a:xfrm>
                <a:off x="1130400" y="2133720"/>
                <a:ext cx="2679840" cy="259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zh-CN" sz="152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</a:t>
                </a:r>
                <a:endParaRPr b="0" lang="en-US" sz="12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</p:grpSp>
      <p:pic>
        <p:nvPicPr>
          <p:cNvPr id="209" name="Picture 1032" descr="xin_37210021115464181728818"/>
          <p:cNvPicPr/>
          <p:nvPr/>
        </p:nvPicPr>
        <p:blipFill>
          <a:blip r:embed="rId1"/>
          <a:stretch/>
        </p:blipFill>
        <p:spPr>
          <a:xfrm>
            <a:off x="5029200" y="2133720"/>
            <a:ext cx="38098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182240" y="2017800"/>
            <a:ext cx="7637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水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一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水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之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再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水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之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宛在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水中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宛在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水中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再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宛在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水中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是地点的转换，象征着伊人的飘渺难寻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6084720" y="3573360"/>
            <a:ext cx="215928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685440" y="2017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努力追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溯洄从之，道阻且长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溯洄从之，道阻且跻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溯洄从之，道阻且右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Picture 4" descr="images6"/>
          <p:cNvPicPr/>
          <p:nvPr/>
        </p:nvPicPr>
        <p:blipFill>
          <a:blip r:embed="rId1"/>
          <a:stretch/>
        </p:blipFill>
        <p:spPr>
          <a:xfrm>
            <a:off x="5410080" y="2209680"/>
            <a:ext cx="286380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隶书"/>
                <a:ea typeface="隶书"/>
              </a:rPr>
              <a:t>可望不可即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溯洄从之，道阻且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，这是述写逆流追寻时的困境：艰难险阻无穷，征途漫漫无尽，终不可达也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溯游从之，宛在水中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，这是描画顺流追寻时的幻象：行程处处顺畅，伊人时时宛在，然而终不可近也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这里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字可谓是点晴之笔，它摹写了诗人在徘徊寻觅中产生的迷离的眼神和恍惚的幻觉，活现了诗人对伊人的痴迷的心态和执著的追求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（三）艺术特色分析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悦耳悠扬的音乐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语言形式上， 采用重章叠句的形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具有回环往复、一唱三叹之美，从听觉上强化了音乐旋律感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意境朦胧的画面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伊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朦胧、虚幻、求之而不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蒹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萧疏清冷、彷徨凄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河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苍茫浩渺、飘忽不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伊人之所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虚无缥缈，可望不可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赋兴运用的韵味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每章开头赋中见兴，以景托情，增加了诗的韵味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（一）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《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诗经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》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的编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  <a:ea typeface="华文新魏"/>
              </a:rPr>
              <a:t>约五百多年间的诗歌创作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  <a:ea typeface="华文新魏"/>
              </a:rPr>
              <a:t>产生的地域范围广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  <a:ea typeface="华文新魏"/>
              </a:rPr>
              <a:t>作家包括了从贵族到平民的社会各阶层的人士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文本框 1"/>
          <p:cNvSpPr/>
          <p:nvPr/>
        </p:nvSpPr>
        <p:spPr>
          <a:xfrm>
            <a:off x="-12600" y="5870520"/>
            <a:ext cx="833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更多免费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模板下载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1182600" y="2133720"/>
            <a:ext cx="506592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绿草苍苍，白雾茫茫， </a:t>
            </a:r>
            <a:br>
              <a:rPr sz="2800"/>
            </a:b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有位佳人，在水一方。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绿草萋萋，白雾迷离， </a:t>
            </a:r>
            <a:br>
              <a:rPr sz="2800"/>
            </a:b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有位佳人，靠水而居。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我愿逆流而上， </a:t>
            </a:r>
            <a:br>
              <a:rPr sz="2800"/>
            </a:b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依偎在她身旁。 </a:t>
            </a:r>
            <a:br>
              <a:rPr sz="2800"/>
            </a:b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无奈前有险滩， </a:t>
            </a:r>
            <a:br>
              <a:rPr sz="2800"/>
            </a:b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道路又远又长。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1219320" y="380880"/>
            <a:ext cx="723888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imes New Roman"/>
                <a:ea typeface="隶书"/>
              </a:rPr>
              <a:t>   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  <a:hlinkClick r:id="rId1"/>
              </a:rPr>
              <a:t>在水一方</a:t>
            </a:r>
            <a:endParaRPr b="0" lang="en-US" sz="4000" spc="-1" strike="noStrike">
              <a:solidFill>
                <a:srgbClr val="000000"/>
              </a:solidFill>
              <a:latin typeface="宋体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imes New Roman"/>
                <a:ea typeface="隶书"/>
              </a:rPr>
              <a:t> 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琼瑶作词   邓丽君演唱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23" name="Picture 8" descr="paint140"/>
          <p:cNvPicPr/>
          <p:nvPr/>
        </p:nvPicPr>
        <p:blipFill>
          <a:blip r:embed="rId2"/>
          <a:stretch/>
        </p:blipFill>
        <p:spPr>
          <a:xfrm>
            <a:off x="5508720" y="3284640"/>
            <a:ext cx="251928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1904760" y="456840"/>
            <a:ext cx="5181480" cy="56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我愿顺流而下， </a:t>
            </a:r>
            <a:br>
              <a:rPr sz="2400"/>
            </a:b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找寻她的方向。 </a:t>
            </a:r>
            <a:br>
              <a:rPr sz="2400"/>
            </a:b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却见依稀仿佛， </a:t>
            </a:r>
            <a:br>
              <a:rPr sz="2400"/>
            </a:b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她在水的中央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我愿逆流而上， </a:t>
            </a:r>
            <a:br>
              <a:rPr sz="2400"/>
            </a:b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与她轻言细语。 </a:t>
            </a:r>
            <a:br>
              <a:rPr sz="2400"/>
            </a:b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无奈前有险滩， </a:t>
            </a:r>
            <a:br>
              <a:rPr sz="2400"/>
            </a:b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道路曲折无已。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我愿顺流而下， </a:t>
            </a:r>
            <a:br>
              <a:rPr sz="2400"/>
            </a:b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找寻她的足迹。 </a:t>
            </a:r>
            <a:br>
              <a:rPr sz="2400"/>
            </a:b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却见仿佛依稀， </a:t>
            </a:r>
            <a:br>
              <a:rPr sz="2400"/>
            </a:b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她在水中伫立。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绿草苍苍，白雾茫茫， </a:t>
            </a:r>
            <a:br>
              <a:rPr sz="2400"/>
            </a:b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有位佳人，在水一方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Picture 4" descr="paint140"/>
          <p:cNvPicPr/>
          <p:nvPr/>
        </p:nvPicPr>
        <p:blipFill>
          <a:blip r:embed="rId1"/>
          <a:stretch/>
        </p:blipFill>
        <p:spPr>
          <a:xfrm>
            <a:off x="5292720" y="1752480"/>
            <a:ext cx="3394080" cy="232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r>
              <a:rPr b="0" lang="zh-CN" sz="1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ahoma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22E6-231A-4F4C-BF5C-D27E4CB6E91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素雅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1547640" y="981000"/>
            <a:ext cx="79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—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3600" spc="-1" strike="noStrike">
                <a:solidFill>
                  <a:srgbClr val="a50021"/>
                </a:solidFill>
                <a:latin typeface="华文彩云"/>
                <a:ea typeface="华文彩云"/>
              </a:rPr>
              <a:t>周</a:t>
            </a:r>
            <a:r>
              <a:rPr b="1" lang="zh-CN" sz="3200" spc="-1" strike="noStrike">
                <a:solidFill>
                  <a:srgbClr val="a50021"/>
                </a:solidFill>
                <a:latin typeface="华文宋体"/>
                <a:ea typeface="华文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2086200" y="1773360"/>
            <a:ext cx="5367960" cy="2210400"/>
            <a:chOff x="2086200" y="1773360"/>
            <a:chExt cx="5367960" cy="2210400"/>
          </a:xfrm>
        </p:grpSpPr>
        <p:sp>
          <p:nvSpPr>
            <p:cNvPr id="113" name="Line 5"/>
            <p:cNvSpPr/>
            <p:nvPr/>
          </p:nvSpPr>
          <p:spPr>
            <a:xfrm>
              <a:off x="4506840" y="177336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14" name="Text Box 6"/>
            <p:cNvSpPr/>
            <p:nvPr/>
          </p:nvSpPr>
          <p:spPr>
            <a:xfrm>
              <a:off x="2964960" y="2335320"/>
              <a:ext cx="359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b7cff"/>
                  </a:solidFill>
                  <a:latin typeface="Times New Roman"/>
                  <a:ea typeface="华文楷体"/>
                </a:rPr>
                <a:t>西周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——————</a:t>
              </a:r>
              <a:r>
                <a:rPr b="1" lang="zh-CN" sz="3200" spc="-1" strike="noStrike">
                  <a:solidFill>
                    <a:srgbClr val="3b7cff"/>
                  </a:solidFill>
                  <a:latin typeface="Times New Roman"/>
                  <a:ea typeface="华文楷体"/>
                </a:rPr>
                <a:t>东周</a:t>
              </a:r>
              <a:endParaRPr b="0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grpSp>
          <p:nvGrpSpPr>
            <p:cNvPr id="115" name="Group 7"/>
            <p:cNvGrpSpPr/>
            <p:nvPr/>
          </p:nvGrpSpPr>
          <p:grpSpPr>
            <a:xfrm>
              <a:off x="2086200" y="2992680"/>
              <a:ext cx="5367960" cy="991080"/>
              <a:chOff x="2086200" y="2992680"/>
              <a:chExt cx="5367960" cy="991080"/>
            </a:xfrm>
          </p:grpSpPr>
          <p:sp>
            <p:nvSpPr>
              <p:cNvPr id="116" name="Text Box 8"/>
              <p:cNvSpPr/>
              <p:nvPr/>
            </p:nvSpPr>
            <p:spPr>
              <a:xfrm>
                <a:off x="5273640" y="3402360"/>
                <a:ext cx="2180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3b7cff"/>
                    </a:solidFill>
                    <a:latin typeface="Times New Roman"/>
                    <a:ea typeface="华文楷体"/>
                  </a:rPr>
                  <a:t>春秋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—— </a:t>
                </a:r>
                <a:r>
                  <a:rPr b="1" lang="zh-CN" sz="3200" spc="-1" strike="noStrike">
                    <a:solidFill>
                      <a:srgbClr val="3b7cff"/>
                    </a:solidFill>
                    <a:latin typeface="Times New Roman"/>
                    <a:ea typeface="华文楷体"/>
                  </a:rPr>
                  <a:t>战国</a:t>
                </a:r>
                <a:endParaRPr b="0" lang="en-US" sz="32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17" name="Line 9"/>
              <p:cNvSpPr/>
              <p:nvPr/>
            </p:nvSpPr>
            <p:spPr>
              <a:xfrm>
                <a:off x="6360840" y="299268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18" name="Text Box 10"/>
              <p:cNvSpPr/>
              <p:nvPr/>
            </p:nvSpPr>
            <p:spPr>
              <a:xfrm>
                <a:off x="2086200" y="3402360"/>
                <a:ext cx="2180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3b7cff"/>
                    </a:solidFill>
                    <a:latin typeface="Times New Roman"/>
                    <a:ea typeface="华文楷体"/>
                  </a:rPr>
                  <a:t>初期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—— </a:t>
                </a:r>
                <a:r>
                  <a:rPr b="1" lang="zh-CN" sz="3200" spc="-1" strike="noStrike">
                    <a:solidFill>
                      <a:srgbClr val="3b7cff"/>
                    </a:solidFill>
                    <a:latin typeface="Times New Roman"/>
                    <a:ea typeface="华文楷体"/>
                  </a:rPr>
                  <a:t>末期</a:t>
                </a:r>
                <a:endParaRPr b="0" lang="en-US" sz="32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19" name="Line 11"/>
              <p:cNvSpPr/>
              <p:nvPr/>
            </p:nvSpPr>
            <p:spPr>
              <a:xfrm>
                <a:off x="3205080" y="299268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</p:grpSp>
      <p:grpSp>
        <p:nvGrpSpPr>
          <p:cNvPr id="120" name="Group 12"/>
          <p:cNvGrpSpPr/>
          <p:nvPr/>
        </p:nvGrpSpPr>
        <p:grpSpPr>
          <a:xfrm>
            <a:off x="2656080" y="4260960"/>
            <a:ext cx="3522960" cy="1150920"/>
            <a:chOff x="2656080" y="4260960"/>
            <a:chExt cx="3522960" cy="1150920"/>
          </a:xfrm>
        </p:grpSpPr>
        <p:sp>
          <p:nvSpPr>
            <p:cNvPr id="121" name="Rectangle 13"/>
            <p:cNvSpPr/>
            <p:nvPr/>
          </p:nvSpPr>
          <p:spPr>
            <a:xfrm>
              <a:off x="3089520" y="4830480"/>
              <a:ext cx="294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33"/>
                  </a:solidFill>
                  <a:latin typeface="华文新魏"/>
                  <a:ea typeface="华文新魏"/>
                </a:rPr>
                <a:t>西周初年</a:t>
              </a:r>
              <a:r>
                <a:rPr b="1" lang="en-US" sz="3200" spc="-1" strike="noStrike">
                  <a:solidFill>
                    <a:srgbClr val="990033"/>
                  </a:solidFill>
                  <a:latin typeface="Times New Roman"/>
                  <a:ea typeface="华文新魏"/>
                </a:rPr>
                <a:t>——</a:t>
              </a:r>
              <a:r>
                <a:rPr b="1" lang="zh-CN" sz="3200" spc="-1" strike="noStrike">
                  <a:solidFill>
                    <a:srgbClr val="990033"/>
                  </a:solidFill>
                  <a:latin typeface="华文新魏"/>
                  <a:ea typeface="华文新魏"/>
                </a:rPr>
                <a:t>春秋中叶</a:t>
              </a:r>
              <a:endParaRPr b="0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grpSp>
          <p:nvGrpSpPr>
            <p:cNvPr id="122" name="Group 14"/>
            <p:cNvGrpSpPr/>
            <p:nvPr/>
          </p:nvGrpSpPr>
          <p:grpSpPr>
            <a:xfrm>
              <a:off x="2656080" y="4260960"/>
              <a:ext cx="3522960" cy="380520"/>
              <a:chOff x="2656080" y="4260960"/>
              <a:chExt cx="3522960" cy="380520"/>
            </a:xfrm>
          </p:grpSpPr>
          <p:grpSp>
            <p:nvGrpSpPr>
              <p:cNvPr id="123" name="Group 15"/>
              <p:cNvGrpSpPr/>
              <p:nvPr/>
            </p:nvGrpSpPr>
            <p:grpSpPr>
              <a:xfrm>
                <a:off x="2656440" y="4260960"/>
                <a:ext cx="3522240" cy="380520"/>
                <a:chOff x="2656440" y="4260960"/>
                <a:chExt cx="3522240" cy="380520"/>
              </a:xfrm>
            </p:grpSpPr>
            <p:sp>
              <p:nvSpPr>
                <p:cNvPr id="124" name="Line 16"/>
                <p:cNvSpPr/>
                <p:nvPr/>
              </p:nvSpPr>
              <p:spPr>
                <a:xfrm>
                  <a:off x="2656440" y="426096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25" name="Line 17"/>
                <p:cNvSpPr/>
                <p:nvPr/>
              </p:nvSpPr>
              <p:spPr>
                <a:xfrm>
                  <a:off x="6178680" y="426096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126" name="Line 18"/>
                <p:cNvSpPr/>
                <p:nvPr/>
              </p:nvSpPr>
              <p:spPr>
                <a:xfrm>
                  <a:off x="2656440" y="4641480"/>
                  <a:ext cx="3522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just"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sp>
            <p:nvSpPr>
              <p:cNvPr id="127" name="Line 19"/>
              <p:cNvSpPr/>
              <p:nvPr/>
            </p:nvSpPr>
            <p:spPr>
              <a:xfrm flipH="1">
                <a:off x="2656080" y="4260960"/>
                <a:ext cx="40932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28" name="Line 20"/>
              <p:cNvSpPr/>
              <p:nvPr/>
            </p:nvSpPr>
            <p:spPr>
              <a:xfrm flipH="1">
                <a:off x="2819880" y="4260960"/>
                <a:ext cx="40968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29" name="Line 21"/>
              <p:cNvSpPr/>
              <p:nvPr/>
            </p:nvSpPr>
            <p:spPr>
              <a:xfrm flipH="1">
                <a:off x="2983680" y="4260960"/>
                <a:ext cx="40932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30" name="Line 22"/>
              <p:cNvSpPr/>
              <p:nvPr/>
            </p:nvSpPr>
            <p:spPr>
              <a:xfrm flipH="1">
                <a:off x="3147480" y="4260960"/>
                <a:ext cx="40932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31" name="Line 23"/>
              <p:cNvSpPr/>
              <p:nvPr/>
            </p:nvSpPr>
            <p:spPr>
              <a:xfrm flipH="1">
                <a:off x="3311640" y="4260960"/>
                <a:ext cx="40968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32" name="Line 24"/>
              <p:cNvSpPr/>
              <p:nvPr/>
            </p:nvSpPr>
            <p:spPr>
              <a:xfrm flipH="1">
                <a:off x="3475440" y="4260960"/>
                <a:ext cx="40932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33" name="Line 25"/>
              <p:cNvSpPr/>
              <p:nvPr/>
            </p:nvSpPr>
            <p:spPr>
              <a:xfrm flipH="1">
                <a:off x="3638880" y="4260960"/>
                <a:ext cx="40932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34" name="Line 26"/>
              <p:cNvSpPr/>
              <p:nvPr/>
            </p:nvSpPr>
            <p:spPr>
              <a:xfrm flipH="1">
                <a:off x="3803040" y="4260960"/>
                <a:ext cx="40968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35" name="Line 27"/>
              <p:cNvSpPr/>
              <p:nvPr/>
            </p:nvSpPr>
            <p:spPr>
              <a:xfrm flipH="1">
                <a:off x="3966840" y="4260960"/>
                <a:ext cx="40932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36" name="Line 28"/>
              <p:cNvSpPr/>
              <p:nvPr/>
            </p:nvSpPr>
            <p:spPr>
              <a:xfrm flipH="1">
                <a:off x="4130640" y="4260960"/>
                <a:ext cx="40932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37" name="Line 29"/>
              <p:cNvSpPr/>
              <p:nvPr/>
            </p:nvSpPr>
            <p:spPr>
              <a:xfrm flipH="1">
                <a:off x="4294800" y="4260960"/>
                <a:ext cx="40968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38" name="Line 30"/>
              <p:cNvSpPr/>
              <p:nvPr/>
            </p:nvSpPr>
            <p:spPr>
              <a:xfrm flipH="1">
                <a:off x="4458240" y="4260960"/>
                <a:ext cx="40932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39" name="Line 31"/>
              <p:cNvSpPr/>
              <p:nvPr/>
            </p:nvSpPr>
            <p:spPr>
              <a:xfrm flipH="1">
                <a:off x="4622040" y="4260960"/>
                <a:ext cx="40932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40" name="Line 32"/>
              <p:cNvSpPr/>
              <p:nvPr/>
            </p:nvSpPr>
            <p:spPr>
              <a:xfrm flipH="1">
                <a:off x="4786200" y="4260960"/>
                <a:ext cx="40968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41" name="Line 33"/>
              <p:cNvSpPr/>
              <p:nvPr/>
            </p:nvSpPr>
            <p:spPr>
              <a:xfrm flipH="1">
                <a:off x="4950000" y="4260960"/>
                <a:ext cx="40932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42" name="Line 34"/>
              <p:cNvSpPr/>
              <p:nvPr/>
            </p:nvSpPr>
            <p:spPr>
              <a:xfrm flipH="1">
                <a:off x="5113800" y="4260960"/>
                <a:ext cx="40932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43" name="Line 35"/>
              <p:cNvSpPr/>
              <p:nvPr/>
            </p:nvSpPr>
            <p:spPr>
              <a:xfrm flipH="1">
                <a:off x="5277600" y="4260960"/>
                <a:ext cx="40968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44" name="Line 36"/>
              <p:cNvSpPr/>
              <p:nvPr/>
            </p:nvSpPr>
            <p:spPr>
              <a:xfrm flipH="1">
                <a:off x="5441400" y="4260960"/>
                <a:ext cx="40932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45" name="Line 37"/>
              <p:cNvSpPr/>
              <p:nvPr/>
            </p:nvSpPr>
            <p:spPr>
              <a:xfrm flipH="1">
                <a:off x="5605200" y="4260960"/>
                <a:ext cx="40932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46" name="Line 38"/>
              <p:cNvSpPr/>
              <p:nvPr/>
            </p:nvSpPr>
            <p:spPr>
              <a:xfrm flipH="1">
                <a:off x="5769360" y="4260960"/>
                <a:ext cx="40968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47" name="Line 39"/>
              <p:cNvSpPr/>
              <p:nvPr/>
            </p:nvSpPr>
            <p:spPr>
              <a:xfrm flipH="1">
                <a:off x="5933520" y="4413240"/>
                <a:ext cx="245520" cy="22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48" name="Line 40"/>
              <p:cNvSpPr/>
              <p:nvPr/>
            </p:nvSpPr>
            <p:spPr>
              <a:xfrm flipH="1">
                <a:off x="2656440" y="4260960"/>
                <a:ext cx="245520" cy="22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</p:grpSp>
      <p:sp>
        <p:nvSpPr>
          <p:cNvPr id="149" name="Text Box 41"/>
          <p:cNvSpPr/>
          <p:nvPr/>
        </p:nvSpPr>
        <p:spPr>
          <a:xfrm>
            <a:off x="2195640" y="5445000"/>
            <a:ext cx="78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（公元前</a:t>
            </a:r>
            <a:r>
              <a:rPr b="1" lang="en-US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世纪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公元前</a:t>
            </a:r>
            <a:r>
              <a:rPr b="1" lang="en-US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世纪）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《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诗经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》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地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1" name="Picture 5" descr="插图-诗经地图"/>
          <p:cNvPicPr/>
          <p:nvPr/>
        </p:nvPicPr>
        <p:blipFill>
          <a:blip r:embed="rId1"/>
          <a:stretch/>
        </p:blipFill>
        <p:spPr>
          <a:xfrm>
            <a:off x="611280" y="1932120"/>
            <a:ext cx="7921440" cy="4464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9"/>
          <p:cNvSpPr/>
          <p:nvPr/>
        </p:nvSpPr>
        <p:spPr>
          <a:xfrm>
            <a:off x="1332000" y="4653000"/>
            <a:ext cx="503280" cy="504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AutoShape 11">
            <a:hlinkClick r:id="rId2" action="ppaction://hlinksldjump"/>
          </p:cNvPr>
          <p:cNvSpPr/>
          <p:nvPr/>
        </p:nvSpPr>
        <p:spPr>
          <a:xfrm>
            <a:off x="6659640" y="5589720"/>
            <a:ext cx="1584360" cy="647640"/>
          </a:xfrm>
          <a:custGeom>
            <a:avLst/>
            <a:gdLst>
              <a:gd name="textAreaLeft" fmla="*/ 41760 w 1584360"/>
              <a:gd name="textAreaRight" fmla="*/ 1542600 w 1584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2824" h="21600">
                <a:moveTo>
                  <a:pt x="0" y="0"/>
                </a:moveTo>
                <a:lnTo>
                  <a:pt x="52824" y="0"/>
                </a:lnTo>
                <a:lnTo>
                  <a:pt x="52824" y="21600"/>
                </a:lnTo>
                <a:lnTo>
                  <a:pt x="0" y="21600"/>
                </a:lnTo>
                <a:close/>
              </a:path>
              <a:path fill="lightenLess" w="52824" h="21600">
                <a:moveTo>
                  <a:pt x="0" y="0"/>
                </a:moveTo>
                <a:lnTo>
                  <a:pt x="52824" y="0"/>
                </a:lnTo>
                <a:lnTo>
                  <a:pt x="51424" y="1400"/>
                </a:lnTo>
                <a:lnTo>
                  <a:pt x="1400" y="1400"/>
                </a:lnTo>
                <a:close/>
              </a:path>
              <a:path fill="darken" w="52824" h="21600">
                <a:moveTo>
                  <a:pt x="52824" y="0"/>
                </a:moveTo>
                <a:lnTo>
                  <a:pt x="52824" y="21600"/>
                </a:lnTo>
                <a:lnTo>
                  <a:pt x="51424" y="20200"/>
                </a:lnTo>
                <a:lnTo>
                  <a:pt x="51424" y="1400"/>
                </a:lnTo>
                <a:close/>
              </a:path>
              <a:path fill="darkenLess" w="52824" h="21600">
                <a:moveTo>
                  <a:pt x="5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424" y="20200"/>
                </a:lnTo>
                <a:close/>
              </a:path>
              <a:path fill="lighten" w="5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00"/>
                </a:solidFill>
                <a:uFillTx/>
                <a:latin typeface="Arial"/>
                <a:ea typeface="华文行楷"/>
                <a:hlinkClick r:id="rId3" action="ppaction://hlinksldjump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7524720" y="2997360"/>
            <a:ext cx="432000" cy="368280"/>
          </a:xfrm>
          <a:prstGeom prst="rect">
            <a:avLst/>
          </a:prstGeom>
          <a:solidFill>
            <a:srgbClr val="d9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齐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6732720" y="3645000"/>
            <a:ext cx="1008000" cy="520560"/>
          </a:xfrm>
          <a:prstGeom prst="rect">
            <a:avLst/>
          </a:prstGeom>
          <a:solidFill>
            <a:srgbClr val="d9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山东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5003640" y="3645000"/>
            <a:ext cx="432000" cy="368280"/>
          </a:xfrm>
          <a:prstGeom prst="rect">
            <a:avLst/>
          </a:prstGeom>
          <a:solidFill>
            <a:srgbClr val="d9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卫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5364000" y="4508640"/>
            <a:ext cx="432000" cy="368280"/>
          </a:xfrm>
          <a:prstGeom prst="rect">
            <a:avLst/>
          </a:prstGeom>
          <a:solidFill>
            <a:srgbClr val="d9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郑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5796000" y="4869000"/>
            <a:ext cx="431640" cy="368280"/>
          </a:xfrm>
          <a:prstGeom prst="rect">
            <a:avLst/>
          </a:prstGeom>
          <a:solidFill>
            <a:srgbClr val="d9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陈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4572000" y="4869000"/>
            <a:ext cx="431640" cy="368280"/>
          </a:xfrm>
          <a:prstGeom prst="rect">
            <a:avLst/>
          </a:prstGeom>
          <a:solidFill>
            <a:srgbClr val="d9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桧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、献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、采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、删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ahoma"/>
              </a:rPr>
              <a:t>（二）</a:t>
            </a: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《</a:t>
            </a:r>
            <a:r>
              <a:rPr b="1" lang="zh-CN" sz="4400" spc="-1" strike="noStrike">
                <a:solidFill>
                  <a:srgbClr val="3333cc"/>
                </a:solidFill>
                <a:latin typeface="Tahoma"/>
              </a:rPr>
              <a:t>诗经</a:t>
            </a: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》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3333cc"/>
                </a:solidFill>
                <a:latin typeface="Tahoma"/>
              </a:rPr>
              <a:t>六义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2692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风：即指当时诸侯国所辖各地域的乐曲，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国风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6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篇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雅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王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之乐，分为大雅、小雅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篇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颂：用于宗庙祭祀的音乐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篇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赋：铺陈直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比：以彼物比此物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兴：先言他物以引起所咏之词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（三）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《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诗经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》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的句式和章法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71640" y="2276280"/>
            <a:ext cx="7772400" cy="26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句式：以四言为主，二二节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章法：重章叠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7" descr="3.jpg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187280" y="69048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84b1e"/>
                </a:solidFill>
                <a:latin typeface="Tahoma"/>
                <a:ea typeface="隶书"/>
              </a:rPr>
              <a:t>二、文本内涵解析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826920" y="3645000"/>
            <a:ext cx="6840720" cy="23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68" name="Picture 6" descr="16c049d0275dc8f0572c84b9"/>
          <p:cNvPicPr/>
          <p:nvPr/>
        </p:nvPicPr>
        <p:blipFill>
          <a:blip r:embed="rId2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7T07:18:3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2:00:37Z</dcterms:modified>
  <cp:revision>34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6</vt:r8>
  </property>
</Properties>
</file>