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6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8.png" ContentType="image/png"/>
  <Override PartName="/ppt/media/image20.png" ContentType="image/png"/>
  <Override PartName="/ppt/media/image15.gif" ContentType="image/gif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945-A107-439A-A351-4080D9CE95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3C8-9D72-49B1-91B8-62A72A2793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107-DF2C-4009-B4F2-97A7D2C5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5A5-A4C0-41DE-B0BC-BFE4810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F1B-B73E-4A94-BE83-7422090C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C6F-11E6-4234-B0BE-3423DEF1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F9E-50F1-4556-A5AF-5A363B8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C3D-892F-4A6C-BE72-0F094F2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06D-52C6-44F6-8262-0BD29C03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5DD-9ED9-4355-B09C-5A10CB99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25E-CD4D-46F4-BD6D-7902CF0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B37-02FD-426B-97F8-730618A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B6E-DA81-4837-B1FE-8565329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77A-6296-4B07-BBDB-0194C06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904A-D66D-4DF7-A3AC-7EC9E963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424240" y="7509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在世界地图前的少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3" descr=""/>
          <p:cNvPicPr/>
          <p:nvPr/>
        </p:nvPicPr>
        <p:blipFill>
          <a:blip r:embed="rId2"/>
          <a:stretch/>
        </p:blipFill>
        <p:spPr>
          <a:xfrm>
            <a:off x="1865160" y="594360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010032008351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12005326153416"/>
          <p:cNvPicPr/>
          <p:nvPr/>
        </p:nvPicPr>
        <p:blipFill>
          <a:blip r:embed="rId2"/>
          <a:stretch/>
        </p:blipFill>
        <p:spPr>
          <a:xfrm>
            <a:off x="7238880" y="5791320"/>
            <a:ext cx="190512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600200" y="90864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智则国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富则国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强则国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独立则国独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自由则国自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进步则国进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胜于欧洲则国胜于欧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少年雄于地球则国雄于地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4405320" y="50292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2010102121260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969840" y="1676520"/>
            <a:ext cx="2832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下定决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要为全中国痛苦的人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世界痛苦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贡献自己的全部力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x1pGg9EMswqL-_GEyFkmGUAuMa8JEpXGvyukQnI2K57Op14YaKn_ry6v3c0ddRdJ3bHfwuvOF5R3dcjRUJBIw-OW1HpzCXWrBLSfjGl8k_8EyVs46ZLNAxMgEdr3k5Jf79WHMKp57pEXfuc2t2lK8"/>
          <p:cNvPicPr/>
          <p:nvPr/>
        </p:nvPicPr>
        <p:blipFill>
          <a:blip r:embed="rId2"/>
          <a:stretch/>
        </p:blipFill>
        <p:spPr>
          <a:xfrm>
            <a:off x="15228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x1pGg9EMswqL-_GEyFkmGUAuMa8JEpXGvyukQnI2K57Op14YaKn_ry6v3c0ddRdJ3bHfwuvOF5R3dcjRUJBIw-OW1HpzCXWrBLSfjGl8k_8EyVs46ZLNAxMgEdr3k5Jf79WHMKp57pEXfuc2t2lK8"/>
          <p:cNvPicPr/>
          <p:nvPr/>
        </p:nvPicPr>
        <p:blipFill>
          <a:blip r:embed="rId3"/>
          <a:stretch/>
        </p:blipFill>
        <p:spPr>
          <a:xfrm>
            <a:off x="2819520" y="259092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x1pGg9EMswqL-_GEyFkmGUAuMa8JEpXGvyukQnI2K57Op14YaKn_ry6v3c0ddRdJ3bHfwuvOF5R3dcjRUJBIw-OW1HpzCXWrBLSfjGl8k_8EyVs46ZLNAxMgEdr3k5Jf79WHMKp57pEXfuc2t2lK8"/>
          <p:cNvPicPr/>
          <p:nvPr/>
        </p:nvPicPr>
        <p:blipFill>
          <a:blip r:embed="rId4"/>
          <a:stretch/>
        </p:blipFill>
        <p:spPr>
          <a:xfrm>
            <a:off x="6705720" y="15228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u=1096855340,1525231269&amp;fm=0&amp;gp=0"/>
          <p:cNvPicPr/>
          <p:nvPr/>
        </p:nvPicPr>
        <p:blipFill>
          <a:blip r:embed="rId5"/>
          <a:stretch/>
        </p:blipFill>
        <p:spPr>
          <a:xfrm>
            <a:off x="-76320" y="-7632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2011020613545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0110225151852539"/>
          <p:cNvPicPr/>
          <p:nvPr/>
        </p:nvPicPr>
        <p:blipFill>
          <a:blip r:embed="rId2"/>
          <a:stretch/>
        </p:blipFill>
        <p:spPr>
          <a:xfrm rot="19264200">
            <a:off x="228240" y="5562360"/>
            <a:ext cx="95256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370520" y="1447920"/>
            <a:ext cx="310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正是因为有毛主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才推翻了不合理的制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们才能过上幸福美好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看到他的相片，你想对他说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0100409103743603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x1pGg9EMswqL-_GEyFkmGUAuMa8JEpXGvyukQnI2K57Op14YaKn_ry6v3c0ddRdJ3bHfwuvOF5R3dcjRUJBIw-OW1HpzCXWrBLSfjGl8k_8EyVs46ZLNAxMgEdr3k5Jf79WHMKp57pEXfuc2t2lK8"/>
          <p:cNvPicPr/>
          <p:nvPr/>
        </p:nvPicPr>
        <p:blipFill>
          <a:blip r:embed="rId4"/>
          <a:stretch/>
        </p:blipFill>
        <p:spPr>
          <a:xfrm>
            <a:off x="5029200" y="32004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x1pGg9EMswqL-_GEyFkmGUAuMa8JEpXGvyukQnI2K57Op14YaKn_ry6v3c0ddRdJ3bHfwuvOF5R3dcjRUJBIw-OW1HpzCXWrBLSfjGl8k_8EyVs46ZLNAxMgEdr3k5Jf79WHMKp57pEXfuc2t2lK8"/>
          <p:cNvPicPr/>
          <p:nvPr/>
        </p:nvPicPr>
        <p:blipFill>
          <a:blip r:embed="rId5"/>
          <a:stretch/>
        </p:blipFill>
        <p:spPr>
          <a:xfrm>
            <a:off x="6858000" y="26668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x1pGg9EMswqL-_GEyFkmGUAuMa8JEpXGvyukQnI2K57Op14YaKn_ry6v3c0ddRdJ3bHfwuvOF5R3dcjRUJBIw-OW1HpzCXWrBLSfjGl8k_8EyVs46ZLNAxMgEdr3k5Jf79WHMKp57pEXfuc2t2lK8"/>
          <p:cNvPicPr/>
          <p:nvPr/>
        </p:nvPicPr>
        <p:blipFill>
          <a:blip r:embed="rId6"/>
          <a:stretch/>
        </p:blipFill>
        <p:spPr>
          <a:xfrm>
            <a:off x="533520" y="251460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x1pGg9EMswqL-_GEyFkmGUAuMa8JEpXGvyukQnI2K57Op14YaKn_ry6v3c0ddRdJ3bHfwuvOF5R3dcjRUJBIw-OW1HpzCXWrBLSfjGl8k_8EyVs46ZLNAxMgEdr3k5Jf79WHMKp57pEXfuc2t2lK8"/>
          <p:cNvPicPr/>
          <p:nvPr/>
        </p:nvPicPr>
        <p:blipFill>
          <a:blip r:embed="rId7"/>
          <a:stretch/>
        </p:blipFill>
        <p:spPr>
          <a:xfrm>
            <a:off x="2209680" y="449568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762f534f60ef17d0b55a9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"/>
          <p:cNvSpPr/>
          <p:nvPr/>
        </p:nvSpPr>
        <p:spPr>
          <a:xfrm>
            <a:off x="673200" y="6356520"/>
            <a:ext cx="55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01220161239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1295280" y="53352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>
                        <a:alpha val="76078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>
                      <a:alpha val="76078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200" y="1979640"/>
            <a:ext cx="5668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毛泽东在地图前能思考出那么深刻的问题，与他酷爱读书是分不开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现将其爱读书的地方总结成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小标题，请在文中找出它们相应的语句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设法自学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争分抢秒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克服困难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种类繁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837080" y="3936960"/>
            <a:ext cx="4942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读下面的两句，你认为哪句好，并说说你的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韶山冲的情形是这样，全世界的情形，恐怕也差不多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韶山冲的情形是这样，全湘潭县、全湖南省、全中国、全世界的情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恐怕也差不多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2A79-B856-4BD4-8811-65937646D9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2009120408495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479960" y="2016000"/>
            <a:ext cx="164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孩儿立志出乡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不成名誓不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埋骨何须桑梓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生无处不青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3276720" y="224172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8944"/>
                </a:lnTo>
                <a:cubicBezTo>
                  <a:pt x="10800" y="9843"/>
                  <a:pt x="16200" y="10741"/>
                  <a:pt x="21600" y="10741"/>
                </a:cubicBezTo>
                <a:cubicBezTo>
                  <a:pt x="16200" y="10741"/>
                  <a:pt x="10800" y="11640"/>
                  <a:pt x="10800" y="12538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345200" y="300348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学习 有理想 有志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4"/>
          <p:cNvSpPr txBox="1"/>
          <p:nvPr/>
        </p:nvSpPr>
        <p:spPr>
          <a:xfrm rot="21109200">
            <a:off x="1085400" y="107424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>
                    <a:alpha val="69000"/>
                  </a:srgbClr>
                </a:solidFill>
                <a:latin typeface="宋体"/>
              </a:rPr>
              <a:t>读一读</a:t>
            </a:r>
            <a:endParaRPr b="0" lang="en-US" sz="1800" spc="-1" strike="noStrike">
              <a:ln w="0">
                <a:noFill/>
              </a:ln>
              <a:solidFill>
                <a:srgbClr val="ff0000">
                  <a:alpha val="69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6" name="Picture 15" descr="00bOOOPIC271"/>
          <p:cNvPicPr/>
          <p:nvPr/>
        </p:nvPicPr>
        <p:blipFill>
          <a:blip r:embed="rId2"/>
          <a:stretch/>
        </p:blipFill>
        <p:spPr>
          <a:xfrm>
            <a:off x="4038480" y="685800"/>
            <a:ext cx="1067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010122016042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808640" y="2517840"/>
            <a:ext cx="579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毛泽东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生于湖南省湘潭县韶山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普通的农民家庭。他是伟大的马克思主义者，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阶级革命家，战略家和理论家。中国共产党、中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解放军和中华人民共和国的主要领导人 ，第一届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席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在北京逝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0101220161237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304920" y="304920"/>
            <a:ext cx="297180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宋体"/>
              </a:rPr>
              <a:t>动动脑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61" name="Picture 7" descr="173012576"/>
          <p:cNvPicPr/>
          <p:nvPr/>
        </p:nvPicPr>
        <p:blipFill>
          <a:blip r:embed="rId2"/>
          <a:stretch/>
        </p:blipFill>
        <p:spPr>
          <a:xfrm rot="1440000">
            <a:off x="533160" y="3045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057840" y="2693880"/>
            <a:ext cx="377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毛泽东在地图前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在课文的那一部分？具体是怎么描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06"/>
          <p:cNvPicPr/>
          <p:nvPr/>
        </p:nvPicPr>
        <p:blipFill>
          <a:blip r:embed="rId3"/>
          <a:stretch/>
        </p:blipFill>
        <p:spPr>
          <a:xfrm rot="20403000">
            <a:off x="6553080" y="54864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世界地图中文版8开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20101220155918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0110226173233566_S"/>
          <p:cNvPicPr/>
          <p:nvPr/>
        </p:nvPicPr>
        <p:blipFill>
          <a:blip r:embed="rId2"/>
          <a:stretch/>
        </p:blipFill>
        <p:spPr>
          <a:xfrm>
            <a:off x="7848720" y="6000840"/>
            <a:ext cx="123804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2485800" y="1295280"/>
            <a:ext cx="328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但从这幅地图上看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只占世界一小部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湖南省更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湘潭县已经看不见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韶山冲当然更没有影子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世界原来这么大，他这时才完全明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3006720" y="5560920"/>
            <a:ext cx="466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世界之大，中国之小。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9" name="Picture 11" descr="08102103480379387"/>
          <p:cNvPicPr/>
          <p:nvPr/>
        </p:nvPicPr>
        <p:blipFill>
          <a:blip r:embed="rId5"/>
          <a:stretch/>
        </p:blipFill>
        <p:spPr>
          <a:xfrm rot="783600">
            <a:off x="1371240" y="5770440"/>
            <a:ext cx="16002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010032008351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x1pGg9EMswqL-_GEyFkmGUAuMa8JEpXGvyukQnI2K57Op14YaKn_ry6v3c0ddRdJ3bHfwuvOF5R3dcjRUJBIw-OW1HpzCXWrBLSfjGl8k_8EyVs46ZLNAxMgEdr3k5Jf79WHMKp57pEXfuc2t2lK8"/>
          <p:cNvPicPr/>
          <p:nvPr/>
        </p:nvPicPr>
        <p:blipFill>
          <a:blip r:embed="rId2"/>
          <a:stretch/>
        </p:blipFill>
        <p:spPr>
          <a:xfrm>
            <a:off x="457200" y="106668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5"/>
          <p:cNvSpPr/>
          <p:nvPr/>
        </p:nvSpPr>
        <p:spPr>
          <a:xfrm>
            <a:off x="3963960" y="19033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他想到他的家乡韶山冲，一般人过的都很痛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是挨饿，就是挨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991960" y="3008160"/>
            <a:ext cx="34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有因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钱吃药眼睁睁看着病死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也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交不起租谷钱粮，被送进牢狱活活折磨死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还有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家庭里，相邻间为着大大小小的纠纷吵嘴、打架、闹得鸡犬不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演出投塘、上吊悲剧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08102103480379387"/>
          <p:cNvPicPr/>
          <p:nvPr/>
        </p:nvPicPr>
        <p:blipFill>
          <a:blip r:embed="rId3"/>
          <a:stretch/>
        </p:blipFill>
        <p:spPr>
          <a:xfrm rot="4972200">
            <a:off x="3975120" y="2574000"/>
            <a:ext cx="684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010122016072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541760" y="12193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他进一步想：人生活在世界上，难道个个都要过痛苦的生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决不！这是制度不好，政治不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347640" y="268920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因为世界上存在人剥削人、人压迫人、人吃人的现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所以使世界上最大多数的人都陷入痛苦的深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039840" y="4365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这是不合理的。是应该彻底推翻、彻底改造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00bOOOPIC271"/>
          <p:cNvPicPr/>
          <p:nvPr/>
        </p:nvPicPr>
        <p:blipFill>
          <a:blip r:embed="rId2"/>
          <a:stretch/>
        </p:blipFill>
        <p:spPr>
          <a:xfrm>
            <a:off x="7620120" y="4699080"/>
            <a:ext cx="152388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22005326153163"/>
          <p:cNvPicPr/>
          <p:nvPr/>
        </p:nvPicPr>
        <p:blipFill>
          <a:blip r:embed="rId3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2010122015574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12005326153416"/>
          <p:cNvPicPr/>
          <p:nvPr/>
        </p:nvPicPr>
        <p:blipFill>
          <a:blip r:embed="rId2"/>
          <a:stretch/>
        </p:blipFill>
        <p:spPr>
          <a:xfrm>
            <a:off x="7238880" y="5791320"/>
            <a:ext cx="190512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800000" y="914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他又想：世界的变化，不会自己发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必须通过变革， 通过人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348640" y="22096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理想、有志气的青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就应该担当起这种改造世界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914400" y="4419720"/>
            <a:ext cx="5486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由这句话，你想到了什么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6" name="Picture 11" descr="08102103480239114"/>
          <p:cNvPicPr/>
          <p:nvPr/>
        </p:nvPicPr>
        <p:blipFill>
          <a:blip r:embed="rId3"/>
          <a:stretch/>
        </p:blipFill>
        <p:spPr>
          <a:xfrm rot="5128200">
            <a:off x="1556280" y="3926520"/>
            <a:ext cx="16844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4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7:2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