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8C07-297B-4905-9ABD-9CB1E66FB1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CFEF-8669-4E45-B4F3-0420611584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712-9246-4F77-8A2D-1B0DC496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BBC-8C62-4E84-9020-F399F802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E62-9FF1-4AB1-B360-33CF8BDD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191-5A83-4C47-9FFA-002E0F01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164E-FB1C-484E-BAA3-397ACCF6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1EA-A0A4-4CDC-961F-75712859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B49-CF99-4348-A02F-1148C1C4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5CC-D7AA-41B8-9C84-0664E824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AAE-2E55-4B27-A5E4-FD15296B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9C6-771A-47CB-AD3A-06985F3F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E20-7EA4-4315-9724-DF846D01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63D-E6FC-439C-993C-0403A6DB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5A45-8037-4657-B891-6F3207967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2050920" y="2421000"/>
            <a:ext cx="51134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囫囵吞枣</a:t>
            </a:r>
            <a:endParaRPr b="1" lang="en-US" sz="6600" spc="1" strike="noStrike">
              <a:ln w="12600">
                <a:solidFill>
                  <a:srgbClr val="3333cc"/>
                </a:solidFill>
                <a:round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82700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281320" y="1243080"/>
            <a:ext cx="45813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271600" y="1266840"/>
            <a:ext cx="46008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281320" y="1266840"/>
            <a:ext cx="4581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281320" y="1271520"/>
            <a:ext cx="4581360" cy="431496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1"/>
          <p:cNvSpPr/>
          <p:nvPr/>
        </p:nvSpPr>
        <p:spPr>
          <a:xfrm>
            <a:off x="561960" y="600228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延伸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篇课文不但短小，但读起来却朗朗上口，现在同学们再读课文，边读边画出文中的成语，一会儿我们共同欣赏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73DB-CDD5-427B-A332-79E4BDFE6A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学会本课的生字新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理解课文内容，知道“囫囵吞枣”的由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这个成语故事，明白：学习时不能生吞活剥，对所学的知识不理解，不加分析地笼统接受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09480" y="30492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我能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80880" y="1371600"/>
            <a:ext cx="8763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遇到不认识的字看拼音或请教同学和老师，多读几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用最拿手的方法认识 生字新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把自己认字的好方法告诉小伙伴。对的夸夸他，错了帮助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 rot="5400000">
            <a:off x="-832320" y="312408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solidFill>
                  <a:srgbClr val="cc0000"/>
                </a:solidFill>
                <a:latin typeface="隶书"/>
              </a:rPr>
              <a:t>生字大本营</a:t>
            </a:r>
            <a:endParaRPr b="0" lang="en-US" sz="5400" spc="-1" strike="noStrike">
              <a:ln w="0">
                <a:noFill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1066680" y="38088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快来和生字宝宝打招呼</a:t>
            </a:r>
            <a:endParaRPr b="0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1476360" y="1413000"/>
            <a:ext cx="723888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宋体"/>
              </a:rPr>
              <a:t>热情   接待   大枣    甜梨   脾胃   抓起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宋体"/>
              </a:rPr>
              <a:t>益处   枣核  若有所悟    肚子   只咽不嚼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宋体"/>
              </a:rPr>
              <a:t>损伤    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 rot="5400000">
            <a:off x="-551160" y="3058920"/>
            <a:ext cx="39434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字形聪明屋</a:t>
            </a:r>
            <a:endParaRPr b="0" lang="en-US" sz="5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771640" y="134136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热 接 待 抓益 梨 若 悟咬 肚 咽 嚼损 枣 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1420920" y="404640"/>
            <a:ext cx="6095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我来和生字宝宝交朋友</a:t>
            </a:r>
            <a:endParaRPr b="0" lang="en-US" sz="48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281320" y="1285920"/>
            <a:ext cx="4581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295360" y="1290600"/>
            <a:ext cx="45532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1320" y="1281240"/>
            <a:ext cx="458136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276640" y="1276200"/>
            <a:ext cx="459072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2:10:2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1:09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