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857-7E17-4A39-BA49-E274FF51AA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34FA-91AB-4E59-A650-FA9A6F5A98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DF6-DF53-4DF9-AE7A-BF55D222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240-0EB8-4A53-9B07-F7DA9C93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953-050E-4814-846D-02F41EDD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1BF-A62B-47AA-9707-86BE17FE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9BE-C111-46C2-9A88-5A036222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8C2-AE6B-4F53-B1A8-47D9E22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401-B902-4A4E-A4F0-A03FBE1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500-A8CB-428A-AAD7-B1FDEE89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5DF-9159-40DA-B22C-0771713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F90-50E7-4404-B96C-87582C8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B0E-1467-4E0F-9E3F-46C4463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F95-C4A4-4EB3-89FF-46F43B1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EB7-6CE3-4784-A191-DEFE6E3CF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51920" y="1295280"/>
            <a:ext cx="48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的冰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595520" y="57942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9480" y="105084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建造时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避风的地方选好地基，卡一个坑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坑上垒成半球形的冰屋顶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开一个小窗，使光线能够射进屋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04920" y="34894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然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71680" y="11556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床也是冰块垒成的。晚上睡觉，一家人钻进皮制的大袋子里。招待客人时，他们在冰床上铺开垫毯和鹿皮，坐着暖和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晚上，爱斯基摩人点燃海豹油灯。这样，既能照明，又能取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1371600" y="1676520"/>
            <a:ext cx="2743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4280" y="11581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990720" y="304920"/>
            <a:ext cx="380880" cy="6172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216160" y="2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砖垒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032920" y="25970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顶             半球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54800" y="34815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野草     海豹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53440" y="584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2631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71680" y="11430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冰屋，住两三个月就会融化，爱斯基摩人总是忙着盖新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现在，爱斯基摩人住上了舒适的木板房，从原始生活一下子进入了现代文明。但是，他们没有忘记传统，还造一些冰屋供人们游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57200" y="4419720"/>
            <a:ext cx="3505320" cy="838080"/>
          </a:xfrm>
          <a:prstGeom prst="wedgeRoundRectCallout">
            <a:avLst>
              <a:gd name="adj1" fmla="val -44157"/>
              <a:gd name="adj2" fmla="val 10265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为什么爱斯基摩人会建造这样的冰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2179800" y="2041560"/>
            <a:ext cx="47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度    能够    挖坑    海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345040" y="2895480"/>
            <a:ext cx="444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垫毯    盖上   照射    一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801880" y="3886200"/>
            <a:ext cx="315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     选地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uabai"/>
          <p:cNvPicPr/>
          <p:nvPr/>
        </p:nvPicPr>
        <p:blipFill>
          <a:blip r:embed="rId1"/>
          <a:stretch/>
        </p:blipFill>
        <p:spPr>
          <a:xfrm>
            <a:off x="914400" y="1947960"/>
            <a:ext cx="2714760" cy="2700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008080" y="2895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00808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huabai"/>
          <p:cNvPicPr/>
          <p:nvPr/>
        </p:nvPicPr>
        <p:blipFill>
          <a:blip r:embed="rId2"/>
          <a:stretch/>
        </p:blipFill>
        <p:spPr>
          <a:xfrm>
            <a:off x="5257800" y="1947960"/>
            <a:ext cx="2714760" cy="270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6351480" y="2895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351480" y="2041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69800" y="293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103400" y="1136520"/>
            <a:ext cx="7038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  基  垒  坑 射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9560" y="7430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33888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ē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  盖  豹  毯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440520" y="396252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533680" y="76212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385240" y="39625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310880" y="396252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628560" y="762120"/>
            <a:ext cx="7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7920360" y="762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451520" y="3962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é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hockwaveFlash1" descr=""/>
          <p:cNvPicPr/>
          <p:nvPr/>
        </p:nvPicPr>
        <p:blipFill>
          <a:blip r:embed="rId2"/>
          <a:stretch/>
        </p:blipFill>
        <p:spPr>
          <a:xfrm>
            <a:off x="78120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2" descr=""/>
          <p:cNvPicPr/>
          <p:nvPr/>
        </p:nvPicPr>
        <p:blipFill>
          <a:blip r:embed="rId3"/>
          <a:stretch/>
        </p:blipFill>
        <p:spPr>
          <a:xfrm>
            <a:off x="268596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3" descr=""/>
          <p:cNvPicPr/>
          <p:nvPr/>
        </p:nvPicPr>
        <p:blipFill>
          <a:blip r:embed="rId4"/>
          <a:stretch/>
        </p:blipFill>
        <p:spPr>
          <a:xfrm>
            <a:off x="4667400" y="2438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4" descr=""/>
          <p:cNvPicPr/>
          <p:nvPr/>
        </p:nvPicPr>
        <p:blipFill>
          <a:blip r:embed="rId5"/>
          <a:stretch/>
        </p:blipFill>
        <p:spPr>
          <a:xfrm>
            <a:off x="66484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ShockwaveFlash5" descr=""/>
          <p:cNvPicPr/>
          <p:nvPr/>
        </p:nvPicPr>
        <p:blipFill>
          <a:blip r:embed="rId6"/>
          <a:stretch/>
        </p:blipFill>
        <p:spPr>
          <a:xfrm>
            <a:off x="794376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ShockwaveFlash6" descr=""/>
          <p:cNvPicPr/>
          <p:nvPr/>
        </p:nvPicPr>
        <p:blipFill>
          <a:blip r:embed="rId7"/>
          <a:stretch/>
        </p:blipFill>
        <p:spPr>
          <a:xfrm>
            <a:off x="160020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ShockwaveFlash7" descr=""/>
          <p:cNvPicPr/>
          <p:nvPr/>
        </p:nvPicPr>
        <p:blipFill>
          <a:blip r:embed="rId8"/>
          <a:stretch/>
        </p:blipFill>
        <p:spPr>
          <a:xfrm>
            <a:off x="342900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ShockwaveFlash8" descr=""/>
          <p:cNvPicPr/>
          <p:nvPr/>
        </p:nvPicPr>
        <p:blipFill>
          <a:blip r:embed="rId9"/>
          <a:stretch/>
        </p:blipFill>
        <p:spPr>
          <a:xfrm>
            <a:off x="541008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ShockwaveFlash9" descr=""/>
          <p:cNvPicPr/>
          <p:nvPr/>
        </p:nvPicPr>
        <p:blipFill>
          <a:blip r:embed="rId10"/>
          <a:stretch/>
        </p:blipFill>
        <p:spPr>
          <a:xfrm>
            <a:off x="7391520" y="5638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80880" y="3049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hangcheng"/>
          <p:cNvPicPr/>
          <p:nvPr/>
        </p:nvPicPr>
        <p:blipFill>
          <a:blip r:embed="rId1"/>
          <a:stretch/>
        </p:blipFill>
        <p:spPr>
          <a:xfrm>
            <a:off x="804960" y="838080"/>
            <a:ext cx="7534080" cy="4754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329000" y="6172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长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ta"/>
          <p:cNvPicPr/>
          <p:nvPr/>
        </p:nvPicPr>
        <p:blipFill>
          <a:blip r:embed="rId1"/>
          <a:stretch/>
        </p:blipFill>
        <p:spPr>
          <a:xfrm>
            <a:off x="285840" y="1373040"/>
            <a:ext cx="8572320" cy="4111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253040" y="6080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金字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3"/>
          <p:cNvPicPr/>
          <p:nvPr/>
        </p:nvPicPr>
        <p:blipFill>
          <a:blip r:embed="rId1"/>
          <a:stretch/>
        </p:blipFill>
        <p:spPr>
          <a:xfrm>
            <a:off x="2540160" y="152280"/>
            <a:ext cx="4063680" cy="609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253040" y="638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迪拜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80880" y="3049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01300000044935120418325913742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00812221048416"/>
          <p:cNvPicPr/>
          <p:nvPr/>
        </p:nvPicPr>
        <p:blipFill>
          <a:blip r:embed="rId2"/>
          <a:stretch/>
        </p:blipFill>
        <p:spPr>
          <a:xfrm>
            <a:off x="152280" y="2666880"/>
            <a:ext cx="5791320" cy="3856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996960" y="6019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与冰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拉什莫尔1"/>
          <p:cNvPicPr/>
          <p:nvPr/>
        </p:nvPicPr>
        <p:blipFill>
          <a:blip r:embed="rId1"/>
          <a:stretch/>
        </p:blipFill>
        <p:spPr>
          <a:xfrm>
            <a:off x="1409760" y="762120"/>
            <a:ext cx="6324480" cy="4917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135320" y="6080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拉什莫尔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1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629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633840" y="58672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和冰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633840" y="58672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和冰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02"/>
          <p:cNvPicPr/>
          <p:nvPr/>
        </p:nvPicPr>
        <p:blipFill>
          <a:blip r:embed="rId1"/>
          <a:stretch/>
        </p:blipFill>
        <p:spPr>
          <a:xfrm>
            <a:off x="685800" y="533520"/>
            <a:ext cx="8229600" cy="48988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"/>
          <p:cNvSpPr/>
          <p:nvPr/>
        </p:nvSpPr>
        <p:spPr>
          <a:xfrm>
            <a:off x="1488960" y="168120"/>
            <a:ext cx="61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633840" y="5867280"/>
            <a:ext cx="170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和冰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292D-5EF4-4972-B2F1-B4E42D0FAB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00332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skimos_04"/>
          <p:cNvPicPr/>
          <p:nvPr/>
        </p:nvPicPr>
        <p:blipFill>
          <a:blip r:embed="rId1"/>
          <a:stretch/>
        </p:blipFill>
        <p:spPr>
          <a:xfrm>
            <a:off x="800280" y="685800"/>
            <a:ext cx="7543800" cy="49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0732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狗拉雪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423240" y="304920"/>
            <a:ext cx="28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的冰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屋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wū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228600" y="114300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十年前，爱斯基摩人的房屋是用冰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冰屋，是用大小冰砖垒成的。建造时，先在避风的地方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xu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地基，挖一个坑；再在坑上垒成半球形的冰屋顶；然后，开一个小窗，使光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xià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够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ɡòu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射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了保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温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wē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防风，爱斯基摩人在冰屋顶铺一层野草，还盖上海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571680" y="11556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床也是冰块垒成的。晚上睡觉，一家人钻进皮制的大袋子里。招待客人时，他们在冰床上铺开垫毯和鹿皮，坐着暖和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晚上，爱斯基摩人点燃海豹油灯。这样，既能照明，又能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取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qǔ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暖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nu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71680" y="1143000"/>
            <a:ext cx="79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种冰屋，住两三个月就会融化，爱斯基摩人总是忙着盖新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现在，爱斯基摩人住上了舒适的木板房，从原始生活一下子进入了现代文明。但是，他们没有忘记传统，还造一些冰屋供人们游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471120" y="304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2193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十年前，爱斯基摩人的房屋是用冰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冰屋，是用大小冰砖垒成的。建造时，先在避风的地方选好地基，挖一个坑；再在坑上垒成半球形的冰屋顶；然后，开一个小窗，使光线能够射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了保温和防风，爱斯基摩人在冰屋顶铺一层野草，还盖上海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6320" y="184320"/>
            <a:ext cx="2743200" cy="685800"/>
          </a:xfrm>
          <a:prstGeom prst="wedgeRoundRectCallout">
            <a:avLst>
              <a:gd name="adj1" fmla="val -49768"/>
              <a:gd name="adj2" fmla="val 102777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爱斯基摩人的冰屋有哪些奇特的地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3276720" y="2590920"/>
            <a:ext cx="2743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400800" y="29718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0880" y="342900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6019920" y="4724280"/>
            <a:ext cx="2361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80880" y="5105520"/>
            <a:ext cx="2743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24280" y="115812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990720" y="304920"/>
            <a:ext cx="380880" cy="6172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16160" y="2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砖垒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053440" y="259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屋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654800" y="34815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铺野草     海豹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48092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球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471120" y="304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斯基摩人的冰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" y="12193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十年前，爱斯基摩人的房屋是用冰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冰屋，是用大小冰砖垒成的。建造时，先在避风的地方选好地基，挖一个坑；再在坑上垒成半球形的冰屋顶；然后，开一个小窗，使光线能够射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了保温和防风，爱斯基摩人在冰屋顶铺一层野草，还盖上海豹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7772400" y="25909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5638680" y="297180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438280" y="34290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3429000" y="4876920"/>
            <a:ext cx="3733920" cy="533160"/>
          </a:xfrm>
          <a:prstGeom prst="wedgeRectCallout">
            <a:avLst>
              <a:gd name="adj1" fmla="val -5185"/>
              <a:gd name="adj2" fmla="val -287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再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然后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1T06:42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51Z</dcterms:modified>
  <cp:revision>131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