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E364-1FF8-44AF-912C-BAF89C7FD0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B968-C493-4011-AE6B-89D2008673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019-A7A4-4CAD-8F47-31B29554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A6C-860F-4B3F-8828-F384E58F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550-B6E8-4912-9383-9F7A54FB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E64-DFA0-4FEF-B769-E5BF4E4E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01E-81DF-47DF-B7AD-DAF38A2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63C-38A8-4B43-A830-42147C0A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F03-C202-4633-ACCB-A6303628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3BF-99CA-4B03-9E95-3451FD58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0AE-849F-48FC-BD3D-8EFF0178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1FA-EF89-45BE-9C9C-FD059344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62B-1423-4C06-8FBC-2D7D2E66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5AA-ECCA-4891-AB17-EEFFBD60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FE82-1EAD-4E2F-8EB7-19EB5103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u=517354502,3206276941&amp;fm=0&amp;gp=20[1]"/>
          <p:cNvPicPr/>
          <p:nvPr/>
        </p:nvPicPr>
        <p:blipFill>
          <a:blip r:embed="rId1"/>
          <a:stretch/>
        </p:blipFill>
        <p:spPr>
          <a:xfrm>
            <a:off x="6588000" y="1052640"/>
            <a:ext cx="2121120" cy="130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u=3438313575,357028185&amp;fm=0&amp;gp=-26[1]"/>
          <p:cNvPicPr/>
          <p:nvPr/>
        </p:nvPicPr>
        <p:blipFill>
          <a:blip r:embed="rId2"/>
          <a:stretch/>
        </p:blipFill>
        <p:spPr>
          <a:xfrm>
            <a:off x="611280" y="4076640"/>
            <a:ext cx="2160360" cy="161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2168640" y="26082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华文隶书"/>
                <a:ea typeface="华文隶书"/>
              </a:rPr>
              <a:t>八个鸡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96956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 rot="5400000">
            <a:off x="681480" y="3067560"/>
            <a:ext cx="2952720" cy="93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中缅界碑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Picture 5" descr="2007219205914"/>
          <p:cNvPicPr/>
          <p:nvPr/>
        </p:nvPicPr>
        <p:blipFill>
          <a:blip r:embed="rId1"/>
          <a:stretch/>
        </p:blipFill>
        <p:spPr>
          <a:xfrm>
            <a:off x="3132000" y="1557360"/>
            <a:ext cx="52563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2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520" indent="-7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主要写中国小姑娘依凤在放学回家的路上，发现缅甸境内大婶家的母鸡把八个鸡蛋下在了中国的土地上，而小依凤则悄悄地把这八个鸡蛋送还到缅甸大婶家门口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3348000" y="1700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主要内容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边框1"/>
          <p:cNvPicPr/>
          <p:nvPr/>
        </p:nvPicPr>
        <p:blipFill>
          <a:blip r:embed="rId1"/>
          <a:stretch/>
        </p:blipFill>
        <p:spPr>
          <a:xfrm>
            <a:off x="539640" y="981000"/>
            <a:ext cx="3513240" cy="1297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92360" y="278136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依凤姑娘是用什么办法把八个鸡蛋送还给缅甸大婶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她的眼睛像（泉水一样清亮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她的笑容像（像芒果一样甜蜜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31640" y="1988640"/>
            <a:ext cx="70563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茸茸（      ）        缅甸 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芦花 （　  ）           收拢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扭动（　  ）            泉水（　　）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辉（　  ）　         映照（ 　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1770120" y="5648400"/>
            <a:ext cx="49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一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小依凤的品质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依凤有着一颗善良美好的心灵，我们要学习她无私的品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692360" y="2060640"/>
            <a:ext cx="4032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ED3D-95D1-481A-AA00-439306D1CE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71640" y="2349000"/>
            <a:ext cx="748800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本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准确、流利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依凤美好的心灵，培养无私的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61680" y="836280"/>
            <a:ext cx="84819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yī  gèng   nèi   shěn   chuī y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依     凤        内     婶       炊      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máng   róng   miǎn  diàn    l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芒         茸       缅       甸       芦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lǒng   niǔ    quán   huī  y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拢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扭      泉       辉     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419640" y="0"/>
            <a:ext cx="24476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依靠  凤凰   内向  婶婶 炊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芒果  毛茸茸    缅甸    芦花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收拢  扭动  泉水  辉映  翅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依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凤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内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炊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2484360" y="1989000"/>
            <a:ext cx="3168720" cy="291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627280" y="191628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芒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84360" y="3429000"/>
            <a:ext cx="316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4067280" y="19890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2246400" y="2162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692280"/>
            <a:ext cx="4635360" cy="616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4635360" y="692280"/>
            <a:ext cx="4508640" cy="6165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987640" y="-100080"/>
            <a:ext cx="3429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欣赏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5:39:41Z</dcterms:created>
  <dc:creator>第一PPT模板网-WWW.1PPT.COM</dc:creator>
  <dc:description>第一PPT模板网-WWW.1PPT.COM
</dc:description>
  <cp:keywords>第一PPT模板网-WWW.1PPT.COM第一PPT模板网-WWW.1PPT.COM</cp:keywords>
  <dc:language>en-US</dc:language>
  <cp:lastModifiedBy>xinxing</cp:lastModifiedBy>
  <dcterms:modified xsi:type="dcterms:W3CDTF">2017-04-16T23:31:44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