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1.wmf" ContentType="image/x-wmf"/>
  <Override PartName="/ppt/media/image19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C13-7540-4264-BC3D-AA0B7CAE4F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A30-D951-45F1-957C-52F034D6FD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0A0-08F3-4C59-9FA8-197A3CCF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29B-382A-40C8-A832-FB515A7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2DC-14F2-46C1-840E-B77F842A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64C-3BE4-4124-ADB4-3EB97F2C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630-F044-4242-8F38-74C1144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937-BE2E-435D-A755-CBFAC19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154-6873-4153-B3C6-FE9A5CF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B9C-D599-4C7A-A972-2DC0A168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DC1-597E-4E15-A6E5-B668A91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4A0-2137-4AC6-A86E-4E2FB0C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D80-C392-4F03-ABE3-D37D39D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B3B-63D4-445F-9F4C-ABF9E63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247-BF06-4F2B-A999-4F3359916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191592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1285920" y="1236600"/>
            <a:ext cx="7113600" cy="1231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3"/>
          <a:stretch/>
        </p:blipFill>
        <p:spPr>
          <a:xfrm>
            <a:off x="2077920" y="2746440"/>
            <a:ext cx="5131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合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蓝绿 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755640" y="120600"/>
            <a:ext cx="3086280" cy="16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课堂总结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1916280"/>
            <a:ext cx="80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赞扬了小动物们团结合作、自强自立、机智勇敢开创美好生活品质。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讽刺了强盗们的无知和怯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332000" y="3213000"/>
            <a:ext cx="7343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动物们用自己的智慧赶走了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50920" y="4076640"/>
            <a:ext cx="849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强盗，你知道当你遇到坏人的时候，</a:t>
            </a:r>
            <a:endParaRPr b="1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24000" y="494172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应该怎么办吗？</a:t>
            </a:r>
            <a:endParaRPr b="1" lang="en-US" sz="60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539640" y="2421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猫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蛋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悄  遇  柴  闯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弹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琴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619280" y="1125360"/>
            <a:ext cx="5400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谁是生字小老师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0920" y="1628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在你的生活中肯定有凭借团结合作取得胜利的事情，说出来和大家分享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1182600" y="5649840"/>
            <a:ext cx="64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"/>
          <p:cNvSpPr txBox="1"/>
          <p:nvPr/>
        </p:nvSpPr>
        <p:spPr>
          <a:xfrm>
            <a:off x="914400" y="609480"/>
            <a:ext cx="2819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作业布置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10"/>
          <p:cNvSpPr/>
          <p:nvPr/>
        </p:nvSpPr>
        <p:spPr>
          <a:xfrm rot="20921400">
            <a:off x="5123520" y="2488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分的发挥你的想象力，试着给《布勒门的音乐家》写个续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 rot="426000">
            <a:off x="1073520" y="1684080"/>
            <a:ext cx="4114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训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搜集一些童话故事来读一读，还可以和小伙伴开个“小小童话故事会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207-4295-4D66-94F9-AF082F613D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格林童话》作者是德国格林兄弟。代表作《灰姑娘》、《白雪公主》、《小红帽》、《睡美人》、《青蛙王子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安徒生童话》作者是丹麦作家安徒生。代表作品：《拇指姑娘》、《海的女儿》、《丑小鸭》、《卖火柴的小女孩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03280" y="101448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小组合作与探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931415312853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2030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03280" y="3471120"/>
            <a:ext cx="78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小动物们要去布勒门当音乐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画出小动物们是如何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吓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强盗的句子，再在小组中谈谈你对小动物们的理解和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8050909482574085"/>
          <p:cNvPicPr/>
          <p:nvPr/>
        </p:nvPicPr>
        <p:blipFill>
          <a:blip r:embed="rId1"/>
          <a:srcRect l="0" t="0" r="-517" b="0"/>
          <a:stretch/>
        </p:blipFill>
        <p:spPr>
          <a:xfrm>
            <a:off x="228600" y="228600"/>
            <a:ext cx="4761000" cy="6248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715000" y="14479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身体强壮、力气大、有刀有枪、凶残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·····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298764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音乐家"/>
          <p:cNvPicPr/>
          <p:nvPr/>
        </p:nvPicPr>
        <p:blipFill>
          <a:blip r:embed="rId1"/>
          <a:stretch/>
        </p:blipFill>
        <p:spPr>
          <a:xfrm>
            <a:off x="539640" y="765000"/>
            <a:ext cx="4235400" cy="5445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003640" y="1363680"/>
            <a:ext cx="359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个小伙伴悄悄商量了个好办法。驴子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窗台上，狗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驴背上，猫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狗身上，公鸡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猫头上，“一、二！”大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一齐大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起来，然后，它们从窗户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进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音乐家"/>
          <p:cNvPicPr/>
          <p:nvPr/>
        </p:nvPicPr>
        <p:blipFill>
          <a:blip r:embed="rId1"/>
          <a:stretch/>
        </p:blipFill>
        <p:spPr>
          <a:xfrm>
            <a:off x="0" y="981000"/>
            <a:ext cx="4356000" cy="5877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356000" y="0"/>
            <a:ext cx="47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四个小伙伴悄悄商量了个好办法。驴子（  ）在窗台上，狗（  ） 到驴背上，猫（  ）到狗身上，公鸡（  ）到猫头上，“一、二！”大家一齐大叫起来，然后，它们从窗户闯进屋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940360" y="1268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516720" y="198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020000" y="2637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8101080" y="3284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468360" y="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谁来填词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042920" y="155736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猫一惊，跳起来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了强盗的脸。三个伙伴也被惊醒了，狗在强盗腿上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一口，驴子一脚把他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门去，公鸡惊得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喔喔”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鸡叫"/>
          <p:cNvPicPr/>
          <p:nvPr/>
        </p:nvPicPr>
        <p:blipFill>
          <a:blip r:embed="rId1"/>
          <a:stretch/>
        </p:blipFill>
        <p:spPr>
          <a:xfrm>
            <a:off x="615636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贼点火"/>
          <p:cNvPicPr/>
          <p:nvPr/>
        </p:nvPicPr>
        <p:blipFill>
          <a:blip r:embed="rId2"/>
          <a:stretch/>
        </p:blipFill>
        <p:spPr>
          <a:xfrm>
            <a:off x="0" y="0"/>
            <a:ext cx="5867280" cy="32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狗咬贼"/>
          <p:cNvPicPr/>
          <p:nvPr/>
        </p:nvPicPr>
        <p:blipFill>
          <a:blip r:embed="rId3"/>
          <a:stretch/>
        </p:blipFill>
        <p:spPr>
          <a:xfrm>
            <a:off x="0" y="3213000"/>
            <a:ext cx="3059280" cy="364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驴踢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321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aozhua_拷贝"/>
          <p:cNvPicPr/>
          <p:nvPr/>
        </p:nvPicPr>
        <p:blipFill>
          <a:blip r:embed="rId5"/>
          <a:stretch/>
        </p:blipFill>
        <p:spPr>
          <a:xfrm>
            <a:off x="3059280" y="3213000"/>
            <a:ext cx="3097080" cy="3645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492360" y="51181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猫一惊，跳起来抓破了强盗的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564720" y="90756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拿了根火柴凑上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把火柴点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84360" y="371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狗在强盗腿上咬了一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940360" y="2060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驴子一脚把他踢出门去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227640" y="31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鸡惊得“喔喔”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qiang.mp3" descr=""/>
          <p:cNvPicPr/>
          <p:nvPr/>
        </p:nvPicPr>
        <p:blipFill>
          <a:blip r:embed="rId6"/>
          <a:stretch/>
        </p:blipFill>
        <p:spPr>
          <a:xfrm>
            <a:off x="39528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4859280" y="189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35640" y="3284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3280" y="3213000"/>
            <a:ext cx="6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8459640" y="189000"/>
            <a:ext cx="8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8532720" y="3500280"/>
            <a:ext cx="6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51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8050909482574085"/>
          <p:cNvPicPr/>
          <p:nvPr/>
        </p:nvPicPr>
        <p:blipFill>
          <a:blip r:embed="rId1"/>
          <a:srcRect l="0" t="0" r="-517" b="0"/>
          <a:stretch/>
        </p:blipFill>
        <p:spPr>
          <a:xfrm>
            <a:off x="539640" y="765000"/>
            <a:ext cx="3961080" cy="5440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500720" y="2276640"/>
            <a:ext cx="4340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你觉得这是一群什么样的强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你是从课文中的哪些地方看出来的？谈一谈你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788000" y="981000"/>
            <a:ext cx="3587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小组合作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3:15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56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