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C91C-14B4-4A74-9891-40F5ED0A36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04B-0E94-4763-B07B-01292FC76F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CEE-89DA-4EA4-9B87-E5DF512D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9C7-F04C-4286-97BD-F8125D05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CF6-D052-4482-B063-87146BCA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057-9EE8-42FE-85B4-78358A53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63F-085D-486D-96A0-6DC32417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C4D-C7CD-400A-83A7-4353570E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DCB-4980-4806-85E8-DBD81A21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851-995F-4241-9B6F-7D9301BD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B41-DBF9-4DCA-8D1E-52E0473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9F6-AC04-41A3-B110-E661713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9CC-4962-4615-872E-4D955A7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715-5E13-446D-9A57-C877791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B130-5A4D-488F-BFD6-29E3E989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花边边~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32000" y="25750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比  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09520" y="1557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4797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底纹边~8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635280" y="1989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19280" y="3789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麻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724360" y="3789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 rot="19320600">
            <a:off x="2843280" y="2997000"/>
            <a:ext cx="1368360" cy="236520"/>
          </a:xfrm>
          <a:prstGeom prst="rightArrow">
            <a:avLst>
              <a:gd name="adj1" fmla="val 58111"/>
              <a:gd name="adj2" fmla="val 152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 rot="10800000">
            <a:off x="3708000" y="4076640"/>
            <a:ext cx="1655640" cy="287280"/>
          </a:xfrm>
          <a:prstGeom prst="rightArrow">
            <a:avLst>
              <a:gd name="adj1" fmla="val 58111"/>
              <a:gd name="adj2" fmla="val 152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 rot="2750400">
            <a:off x="4653360" y="2986560"/>
            <a:ext cx="1368360" cy="236520"/>
          </a:xfrm>
          <a:prstGeom prst="rightArrow">
            <a:avLst>
              <a:gd name="adj1" fmla="val 58111"/>
              <a:gd name="adj2" fmla="val 152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140360" y="4365720"/>
            <a:ext cx="1152360" cy="504720"/>
          </a:xfrm>
          <a:prstGeom prst="wedgeEllipseCallout">
            <a:avLst>
              <a:gd name="adj1" fmla="val 0"/>
              <a:gd name="adj2" fmla="val 1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908000" y="2781360"/>
            <a:ext cx="1152720" cy="504720"/>
          </a:xfrm>
          <a:prstGeom prst="wedgeEllipseCallout">
            <a:avLst>
              <a:gd name="adj1" fmla="val 16944"/>
              <a:gd name="adj2" fmla="val 43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5508720" y="2565360"/>
            <a:ext cx="1152360" cy="504720"/>
          </a:xfrm>
          <a:prstGeom prst="wedgeEllipseCallout">
            <a:avLst>
              <a:gd name="adj1" fmla="val 25620"/>
              <a:gd name="adj2" fmla="val -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780000" y="981000"/>
            <a:ext cx="194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羚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195640" y="4724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796000" y="4724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270036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428472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637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3059280" y="1197000"/>
            <a:ext cx="2881080" cy="1368360"/>
          </a:xfrm>
          <a:prstGeom prst="cloudCallout">
            <a:avLst>
              <a:gd name="adj1" fmla="val 48898"/>
              <a:gd name="adj2" fmla="val 48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赛              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58920" y="278136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麻雀、兔子、和青蛙听了小猫的话，心里是怎么想的，大家想一想，然后把他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5796000" y="119700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总结提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560" y="2637000"/>
            <a:ext cx="74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不管在学习还是生活中都要善于去发垷别人的长处，这样才能找到差距，从而不断进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908000" y="1700280"/>
            <a:ext cx="4969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F64D-87D6-40F0-9B2C-3FF1C6860B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48428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，会用“和”字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有趣的故事中体会，要善于发现别人的长处并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090440" y="60102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600120"/>
            <a:ext cx="4643280" cy="625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500720" y="3753000"/>
            <a:ext cx="4643280" cy="3105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3419640" y="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底纹~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348000" y="11253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95640" y="2565360"/>
            <a:ext cx="49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比  兔  棵  咱完  同  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263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麻雀、兔子、青蛙的样子看，你认为它们在干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话     商量比赛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它们是怎样商量的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和”说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380360" y="4581360"/>
            <a:ext cx="10476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麻雀、兔子和青蛙在一棵大树下商量比赛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63640" y="2349000"/>
            <a:ext cx="6408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麻雀为什么要比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兔子为什么要比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蛙为什么要比游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底纹边~8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35280" y="1989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兔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47640" y="378936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麻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72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050920" y="1125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课文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 rot="19320600">
            <a:off x="2411280" y="3213000"/>
            <a:ext cx="1368720" cy="236520"/>
          </a:xfrm>
          <a:prstGeom prst="rightArrow">
            <a:avLst>
              <a:gd name="adj1" fmla="val 58111"/>
              <a:gd name="adj2" fmla="val 153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rot="10800000">
            <a:off x="3563640" y="4365720"/>
            <a:ext cx="1655640" cy="287280"/>
          </a:xfrm>
          <a:prstGeom prst="rightArrow">
            <a:avLst>
              <a:gd name="adj1" fmla="val 58111"/>
              <a:gd name="adj2" fmla="val 152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 rot="2750400">
            <a:off x="5013000" y="3203640"/>
            <a:ext cx="1368360" cy="235080"/>
          </a:xfrm>
          <a:prstGeom prst="rightArrow">
            <a:avLst>
              <a:gd name="adj1" fmla="val 58111"/>
              <a:gd name="adj2" fmla="val 1539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067280" y="4869000"/>
            <a:ext cx="1152360" cy="504720"/>
          </a:xfrm>
          <a:prstGeom prst="wedgeEllipseCallout">
            <a:avLst>
              <a:gd name="adj1" fmla="val 828"/>
              <a:gd name="adj2" fmla="val -8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908000" y="2781360"/>
            <a:ext cx="1152720" cy="504720"/>
          </a:xfrm>
          <a:prstGeom prst="wedgeEllipseCallout">
            <a:avLst>
              <a:gd name="adj1" fmla="val 16944"/>
              <a:gd name="adj2" fmla="val 43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6156360" y="2781360"/>
            <a:ext cx="1152360" cy="504720"/>
          </a:xfrm>
          <a:prstGeom prst="wedgeEllipseCallout">
            <a:avLst>
              <a:gd name="adj1" fmla="val 828"/>
              <a:gd name="adj2" fmla="val -8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因为如此，它们都想拿自己的长处和别人比，这样才能自己获胜。你们有这样的时候吗？你认为这样做好不好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4:47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3:5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