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172F-6E61-41C0-9DE3-4ACCEB037F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07DD-0A94-4FD0-80D4-90BCFB1AEB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672-15EB-45FA-8E53-AA813490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9F7-A8BA-485C-9B91-27BEFB8B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390-334A-4CAA-9083-8873ABC5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FFE-C8A5-48BC-BB98-419FF328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D4A-A732-4D53-B2B9-CC0495DD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D42-3F5A-45C5-BC29-D1CF83E8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8B5-45EB-4F6C-8713-819C848E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81B-9129-438C-9C43-8EE901C9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792-AA7C-447D-92DE-7B147BC0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BAA-CBF9-47E8-88A3-E994C634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B86-5B13-4BA6-837D-D525327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D09-9CB4-44E1-91C8-F531684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3C89-417C-4137-A878-2C26F3407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854360" y="1828800"/>
            <a:ext cx="510516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微软雅黑"/>
              </a:rPr>
              <a:t>不用搀扶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6424560" y="3581280"/>
            <a:ext cx="271944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703160" y="5452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86400" y="1600200"/>
            <a:ext cx="720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晚，我走进人民大会堂时，对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尔曼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还知之甚少。只知道他是世界杰出的小提琴家，将与世界杰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挥家梅塔和以色列爱乐乐团合作。我对音乐完全是外行，只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欣赏两位世界音乐大师和世界顶级乐团联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è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演出的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590920" y="3200400"/>
            <a:ext cx="4038480" cy="1981080"/>
          </a:xfrm>
          <a:prstGeom prst="cloudCallout">
            <a:avLst>
              <a:gd name="adj1" fmla="val -44375"/>
              <a:gd name="adj2" fmla="val 69402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我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对音乐完全是个外行。为什么后来作者又说帕尔曼的琴声动人、杰出呢？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0492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帕尔曼出现时，我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ēn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然心动。他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双拐，艰难而又自信地走上了台。拐杖加上小提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就是帕尔曼的独特形象吗？从他出现的那一刻起，我的视线就像被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铁吸引，再也没有离开过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济济万人的大会堂如此安静，我还是第一次经历。只有琴声，只有帕尔曼那无与伦比的琴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1676520" y="1676520"/>
            <a:ext cx="5715000" cy="1904760"/>
          </a:xfrm>
          <a:prstGeom prst="cloudCallout">
            <a:avLst>
              <a:gd name="adj1" fmla="val -44430"/>
              <a:gd name="adj2" fmla="val 660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    “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我”怀着敬慕的心情来到人民大会堂，欣赏音乐大师演出的盛况，当帕尔曼出现时，“我”的表现是怎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4fbff1f6358dc63f724e474"/>
          <p:cNvPicPr/>
          <p:nvPr/>
        </p:nvPicPr>
        <p:blipFill>
          <a:blip r:embed="rId1"/>
          <a:stretch/>
        </p:blipFill>
        <p:spPr>
          <a:xfrm>
            <a:off x="304920" y="3809880"/>
            <a:ext cx="2857320" cy="2305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00400" y="4038480"/>
            <a:ext cx="57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课文对帕尔曼的描写，采用了先抑后扬的写法，从</a:t>
            </a:r>
            <a:r>
              <a:rPr b="1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我</a:t>
            </a:r>
            <a:r>
              <a:rPr b="1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对帕尔曼的</a:t>
            </a:r>
            <a:r>
              <a:rPr b="1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知之甚少</a:t>
            </a:r>
            <a:r>
              <a:rPr b="1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，到被他</a:t>
            </a:r>
            <a:r>
              <a:rPr b="1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拐杖加上小提琴</a:t>
            </a:r>
            <a:r>
              <a:rPr b="1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的独特形象所吸引，再到被他坚持自己站起来的举动所感动并为之鼓掌。</a:t>
            </a:r>
            <a:r>
              <a:rPr b="1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我</a:t>
            </a:r>
            <a:r>
              <a:rPr b="1" lang="zh-CN" sz="20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"/>
              </a:rPr>
              <a:t>的感情不断升华，感受到帕尔曼高尚的人格魅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0492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让我意外而感动的是帕尔曼站起来的那一刻。一曲终了，他用拐杖支撑着自己试图站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起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跌坐在椅子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再起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没成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又试了一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失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帕尔曼笑了笑，平静谦和，甚至带一点儿歉意。他的同伴，他的观众热切地望着他，大会堂里静极了。他又试了第四次，这一次他终于站了起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819520" y="2286000"/>
            <a:ext cx="3962160" cy="2209680"/>
          </a:xfrm>
          <a:prstGeom prst="cloudCallout">
            <a:avLst>
              <a:gd name="adj1" fmla="val -44592"/>
              <a:gd name="adj2" fmla="val 69324"/>
            </a:avLst>
          </a:prstGeom>
          <a:solidFill>
            <a:srgbClr val="fbb99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99cc00"/>
                </a:solidFill>
                <a:latin typeface="楷体"/>
                <a:ea typeface="楷体"/>
              </a:rPr>
              <a:t>让“我”意外感动的“那一刻”的情景是怎样的？为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楷体"/>
                <a:ea typeface="楷体"/>
              </a:rPr>
              <a:t>么让“我”感动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79240" y="2819520"/>
            <a:ext cx="164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我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的心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267160" y="114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期 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5715000" y="1752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27640" y="2351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担 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5715000" y="2895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343480" y="3505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紧 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5715000" y="411480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343480" y="4648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"/>
              </a:rPr>
              <a:t>惊 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533520" y="5335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场寂静着，继而是雷鸣般的掌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乐队的百双眼睛，大会堂的万双眼睛，电视机前的亿双眼睛，都注视着帕尔曼站起来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位音乐家的杰出之处，动人之处，不仅在他的琴声里，更在他的人格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è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力上。人们为他的琴声鼓掌，也为他的“不用搀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ā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扶”鼓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286000" y="1523880"/>
            <a:ext cx="3581280" cy="2210040"/>
          </a:xfrm>
          <a:prstGeom prst="cloudCallout">
            <a:avLst>
              <a:gd name="adj1" fmla="val -43351"/>
              <a:gd name="adj2" fmla="val 69324"/>
            </a:avLst>
          </a:pr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此时的寂静与刚才演奏时的安静有什么不同的涵义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863520" y="4191120"/>
            <a:ext cx="14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如何理解“乐队的百双眼睛、大会堂的万双眼睛、电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机前的亿双眼睛，都注视着帕尔曼站起来的过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52640" y="5257800"/>
            <a:ext cx="382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百双眼睛、万双眼睛、亿双眼睛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这样的句式，不仅仅使语言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节奏感，读起来朗朗上口，而且表现出众人对帕尔曼这一举动的关注与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待。同时，更加突出帕尔曼非凡的勇气与毅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629440" y="91440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帕尔曼走了，他留下的不仅仅是那冬日里的琴声。为这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让我这不懂音乐的人对音乐大师说：谢谢您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2362320" y="1828800"/>
            <a:ext cx="3504960" cy="2133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b89a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我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不懂音乐，为什么还要谢谢音乐大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2174760" y="49737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7920" y="2666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不用搀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11560" y="1295280"/>
            <a:ext cx="295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起来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跌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再起来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又没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又试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又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又试第四次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终于站了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621560" y="2438280"/>
            <a:ext cx="109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独特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人格魅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905120" y="129528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7086600" y="1295280"/>
            <a:ext cx="228600" cy="3200400"/>
          </a:xfrm>
          <a:custGeom>
            <a:avLst/>
            <a:gdLst>
              <a:gd name="textAreaLeft" fmla="*/ 0 w 228600"/>
              <a:gd name="textAreaRight" fmla="*/ 8244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657600" cy="441972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1523880" y="2514600"/>
            <a:ext cx="3048120" cy="292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结  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F4CC-8428-4CC0-BE93-9C44376BF3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18e25c7a8a88d98d000607e"/>
          <p:cNvPicPr/>
          <p:nvPr/>
        </p:nvPicPr>
        <p:blipFill>
          <a:blip r:embed="rId1"/>
          <a:stretch/>
        </p:blipFill>
        <p:spPr>
          <a:xfrm>
            <a:off x="0" y="68580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735280" y="8398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帕尔曼是当今世界上最引人注目的小提琴家。他生于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色列的特拉维夫，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岁开始学琴。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958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年，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岁的帕尔曼被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送到美国电视台演出，随后即移居美国。由于帕尔曼在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岁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患小儿麻痹症，成为终身残疾，因而无法站立演奏，但他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以超常的毅力，克服困难，最终成为世界级小提琴大师。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尔曼移居美国不久，就受到著名小提琴家斯特恩的赏识，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得“以美基金会”奖学金，进入美国著名的朱丽亚音乐学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师从伊凡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加拉米安和多罗西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狄雷教授学琴。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964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年，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尔曼在美国列文垂特国际小提琴比赛中获一等奖，被人称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小提琴王子”。帕尔曼演奏的最大特点，是把浪漫主义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热情洒脱和古典主义的和谐均衡完美地结合在一起。他能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驭各种音乐风格的作品，并试图用不同的音乐来表达不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49200" y="43434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音乐内容。帕尔曼有一双令人羡慕的大手，但手指却十分伶俐，他的运弓饱满且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富倾诉力，他十分注意声音的歌唱性，其松弛的演奏，带给人们的是情感的波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人们从他的演奏中感受到了力和美。帕尔曼擅长演奏帕格尼尼、维尼亚夫斯基、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赫等人的作品，尽管他那炉火纯青的演奏技巧，面对那些炫技性的段落完全驾轻就熟，但他对乐曲合乎逻辑的处理，和对音乐的深刻理解才是他演奏成功的基石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"/>
          <p:cNvPicPr/>
          <p:nvPr/>
        </p:nvPicPr>
        <p:blipFill>
          <a:blip r:embed="rId1"/>
          <a:stretch/>
        </p:blipFill>
        <p:spPr>
          <a:xfrm>
            <a:off x="1754280" y="762120"/>
            <a:ext cx="4646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"/>
          <p:cNvPicPr/>
          <p:nvPr/>
        </p:nvPicPr>
        <p:blipFill>
          <a:blip r:embed="rId1"/>
          <a:stretch/>
        </p:blipFill>
        <p:spPr>
          <a:xfrm>
            <a:off x="2135160" y="1066680"/>
            <a:ext cx="5405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1"/>
          <a:stretch/>
        </p:blipFill>
        <p:spPr>
          <a:xfrm>
            <a:off x="1752480" y="685800"/>
            <a:ext cx="48610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"/>
          <p:cNvPicPr/>
          <p:nvPr/>
        </p:nvPicPr>
        <p:blipFill>
          <a:blip r:embed="rId1"/>
          <a:stretch/>
        </p:blipFill>
        <p:spPr>
          <a:xfrm>
            <a:off x="1447920" y="914400"/>
            <a:ext cx="5410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23880" y="4572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生活当中哪些人需要搀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48eb880fe5f406da37d1224f"/>
          <p:cNvPicPr/>
          <p:nvPr/>
        </p:nvPicPr>
        <p:blipFill>
          <a:blip r:embed="rId1"/>
          <a:stretch/>
        </p:blipFill>
        <p:spPr>
          <a:xfrm>
            <a:off x="533520" y="1219320"/>
            <a:ext cx="3403440" cy="35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W020100426263924372901"/>
          <p:cNvPicPr/>
          <p:nvPr/>
        </p:nvPicPr>
        <p:blipFill>
          <a:blip r:embed="rId2"/>
          <a:stretch/>
        </p:blipFill>
        <p:spPr>
          <a:xfrm>
            <a:off x="2209680" y="3352680"/>
            <a:ext cx="3733920" cy="245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20090318023457_new"/>
          <p:cNvPicPr/>
          <p:nvPr/>
        </p:nvPicPr>
        <p:blipFill>
          <a:blip r:embed="rId3"/>
          <a:stretch/>
        </p:blipFill>
        <p:spPr>
          <a:xfrm>
            <a:off x="5105520" y="1447920"/>
            <a:ext cx="3781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3160" y="1219320"/>
            <a:ext cx="7924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我”对音乐完全是个外行。为什么后来作者又说帕尔曼的琴声动人、杰出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我”怀着敬慕的心情来到人民大会堂，欣赏音乐大师演出的盛况，当帕尔曼出现时，“我”的表现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让“我”意外感动的“那一刻”的情景是怎样的？为什么让“我”感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此时的寂静与刚才演奏时的安静有什么不同的涵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我”不懂音乐，为什么还要谢谢音乐大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752480" y="304920"/>
            <a:ext cx="4572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一读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下列问题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66680" y="213372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我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的心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0:54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06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