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5AE7-41DB-4D85-AEB6-8B35707CC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2E69-4C61-41D5-88C7-B88FF6B3D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06FD-615B-4F1A-9945-58DBA4005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F4A9-2D0E-44D0-A6AC-E476E35D8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5920-6130-4323-9266-03B7A9CE1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25BC-6425-40BA-B6CC-1AE19B2A3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3D87-8571-4209-91BD-139E6D027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43D4-D77B-45BE-823B-C752EC4DC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032E-B63B-4816-8FBD-5A229814C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A770-173D-43BD-84E1-941A688CE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6E7F-A8F3-4B3B-99AC-CA52855C4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4373-A612-43CC-AFBD-E28277114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582-0E20-4764-AFCE-4F45B0E8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8A4-7C98-4C86-A795-C7209ACA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73A-C3B3-431A-BE4A-1D6C54D0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8F9-FDA9-4F64-BEA6-07C68826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8F3-7BCF-4C75-A690-99E77AF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63F-E2B7-4532-A997-BF113CCC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958-1CD2-4BC7-89AF-ABE5092B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A1B-7300-4766-8E6D-01CE0970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28F-6672-48FB-B67A-6C3AAD55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3CA-B739-47B0-A75D-4840ED9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DAD-9F61-44F6-B4D3-F33A34B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52B-5A07-4694-B64F-B1F17654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7666-93B2-4F94-9088-214156E33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0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1"/>
          <p:cNvPicPr/>
          <p:nvPr/>
        </p:nvPicPr>
        <p:blipFill>
          <a:blip r:embed="rId2"/>
          <a:stretch/>
        </p:blipFill>
        <p:spPr>
          <a:xfrm>
            <a:off x="826920" y="476280"/>
            <a:ext cx="4573800" cy="554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9" descr=""/>
          <p:cNvPicPr/>
          <p:nvPr/>
        </p:nvPicPr>
        <p:blipFill>
          <a:blip r:embed="rId3"/>
          <a:stretch/>
        </p:blipFill>
        <p:spPr>
          <a:xfrm>
            <a:off x="6581880" y="793800"/>
            <a:ext cx="1417680" cy="493560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1909800" y="6237360"/>
            <a:ext cx="52390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微软雅黑"/>
                <a:ea typeface="微软雅黑"/>
              </a:rPr>
              <a:t> </a:t>
            </a:r>
            <a:r>
              <a:rPr b="1" lang="zh-CN" sz="2200" spc="-1" strike="noStrike">
                <a:solidFill>
                  <a:srgbClr val="0000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200" spc="-1" strike="noStrike">
                <a:solidFill>
                  <a:srgbClr val="0000cc"/>
                </a:solidFill>
                <a:latin typeface="微软雅黑"/>
                <a:ea typeface="微软雅黑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ad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476280"/>
            <a:ext cx="838080" cy="71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684360" y="1557360"/>
            <a:ext cx="7848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除了诗人笔下的春天美景外，在你眼中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哪些春天的景色呢？它们是怎样的呢？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春天的美景画下来，学着诗歌的样子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段描写春天美景的小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先小组交流，再全班交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1042920" y="6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ack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2"/>
          <p:cNvPicPr/>
          <p:nvPr/>
        </p:nvPicPr>
        <p:blipFill>
          <a:blip r:embed="rId4"/>
          <a:stretch/>
        </p:blipFill>
        <p:spPr>
          <a:xfrm>
            <a:off x="395280" y="476280"/>
            <a:ext cx="8353440" cy="554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3995640" y="134136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  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你喜欢的描写春天的诗歌，和同学开一个诗歌朗诵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0AC6-059F-48C2-8412-04B95B2787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2"/>
          <p:cNvSpPr/>
          <p:nvPr/>
        </p:nvSpPr>
        <p:spPr>
          <a:xfrm>
            <a:off x="1187280" y="2133720"/>
            <a:ext cx="71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719280" y="836640"/>
            <a:ext cx="8424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感情地朗读诗歌，学习其中的生字新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找找诗中描写了哪些春天的景色，并完成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的填空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送走了一个寒冬，我们又迎来了美丽的春     天。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</a:rPr>
              <a:t>   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和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都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不及待地向我们报告着春的消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7"/>
          <p:cNvSpPr/>
          <p:nvPr/>
        </p:nvSpPr>
        <p:spPr>
          <a:xfrm>
            <a:off x="324000" y="1413000"/>
            <a:ext cx="8424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āng         hú  dié          yào            ji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山 冈   蝴 蝶   照 耀   面 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āo  yǎng         què  yu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骚 痒      雀 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68360" y="692280"/>
            <a:ext cx="367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黑体"/>
              </a:rPr>
              <a:t>读一读：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844560" y="16066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gā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7485120" y="161280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ji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84360" y="5157720"/>
            <a:ext cx="80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"/>
              </a:rPr>
              <a:t>雀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高兴得像鸟雀一样地跳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733320" y="324972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sā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"/>
          <p:cNvSpPr/>
          <p:nvPr/>
        </p:nvSpPr>
        <p:spPr>
          <a:xfrm>
            <a:off x="5029200" y="35053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886200" y="31240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258920" y="1628640"/>
            <a:ext cx="60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468360" y="981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送走了一个寒冬，我们又迎来了美丽的春天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 春风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春水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小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蝴蝶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雏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枝头的绿苞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明丽的阳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田野里的小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都迫不及待地向我们报告着春的消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0"/>
          <p:cNvSpPr/>
          <p:nvPr/>
        </p:nvSpPr>
        <p:spPr>
          <a:xfrm>
            <a:off x="1403280" y="1413000"/>
            <a:ext cx="6480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风，摇绿了树的枝条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水，漂白了鸭的羽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盼望了整整一个冬天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你看，春天已经来到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5989680" y="4157640"/>
            <a:ext cx="10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1403280" y="3251160"/>
            <a:ext cx="16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"/>
              </a:rPr>
              <a:t>盼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40"/>
          <p:cNvSpPr/>
          <p:nvPr/>
        </p:nvSpPr>
        <p:spPr>
          <a:xfrm rot="19949400">
            <a:off x="1097280" y="31622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cc"/>
                </a:solidFill>
                <a:latin typeface="Times New Roman"/>
                <a:ea typeface="黑体"/>
              </a:rPr>
              <a:t>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"/>
          <p:cNvPicPr/>
          <p:nvPr/>
        </p:nvPicPr>
        <p:blipFill>
          <a:blip r:embed="rId2"/>
          <a:stretch/>
        </p:blipFill>
        <p:spPr>
          <a:xfrm>
            <a:off x="1585800" y="365040"/>
            <a:ext cx="4813560" cy="5727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6021360" y="126828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黑体"/>
              </a:rPr>
              <a:t>春天的信息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32"/>
          <p:cNvSpPr/>
          <p:nvPr/>
        </p:nvSpPr>
        <p:spPr>
          <a:xfrm>
            <a:off x="324000" y="180504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小鸟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换上新羽    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蝴蝶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牵引着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雏菊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开始开放    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绿苞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吐出嫩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阳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放射光芒    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小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钻出地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33"/>
          <p:cNvSpPr/>
          <p:nvPr/>
        </p:nvSpPr>
        <p:spPr>
          <a:xfrm>
            <a:off x="1074960" y="54936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黑体"/>
              </a:rPr>
              <a:t>春天的信息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5"/>
          <p:cNvSpPr/>
          <p:nvPr/>
        </p:nvSpPr>
        <p:spPr>
          <a:xfrm>
            <a:off x="395280" y="1413000"/>
            <a:ext cx="835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多音字组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iǎ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ī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）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ià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）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ì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8"/>
          <p:cNvSpPr/>
          <p:nvPr/>
        </p:nvSpPr>
        <p:spPr>
          <a:xfrm>
            <a:off x="539640" y="112536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择合适的词语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      希望      愿望      失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实现两岸和平统一是海内外中国人的共同（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和家长都（      ）我们能健康成长，我们可不能让他们（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（     ）着能够快点长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971640" y="328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愿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708360" y="4062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564000" y="450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失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181240" y="54309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盼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539640" y="668160"/>
            <a:ext cx="62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34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0:07Z</dcterms:modified>
  <cp:revision>6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