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867D-F322-42B0-8F53-D33BFC0A2B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D8DC-4623-4A33-B32D-21D7325246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384-0ADA-4E94-8F1C-76705EF8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9FB-024F-40FC-A599-680A438B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3C9-335E-40E5-B227-48E9FE43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350-D1ED-4A24-B39A-9E643901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32A-7EEF-4A8A-90AD-55049CC0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45B-BC7B-483B-A10E-3206CAFB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A85-A8B6-4C2D-BC62-80717EFE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A8B-2673-4282-8E88-2A722295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9E9-8751-42D5-9DC5-579E06EF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863-83C2-48A6-957A-298B78D0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35C-D4C8-4FC4-B46C-F776A69A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C95-92F0-4350-80F2-D0234261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BFEC-B6EF-4B99-A13F-8FCAF479B0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2" descr=""/>
          <p:cNvPicPr/>
          <p:nvPr/>
        </p:nvPicPr>
        <p:blipFill>
          <a:blip r:embed="rId2"/>
          <a:stretch/>
        </p:blipFill>
        <p:spPr>
          <a:xfrm>
            <a:off x="1392120" y="1066680"/>
            <a:ext cx="6513480" cy="110808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741320" y="609588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09480" y="743040"/>
            <a:ext cx="796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包拯把全家八个人都请到大厅里，围着桌子坐下来。他提来一壶清水，又拿来八只碗。他叫每个人喝一口水，在嘴里漱一下，再吐进碗里。当姐姐漱口时，包拯看见她吐出的水里有一点点蛋黄渣。包拯想了想，要其他人继续漱口。最后轮到妹妹漱口了，只见她吐出的水里也有蛋黄渣。包拯走到妹妹身边，笑笑说：“这个蛋是你和姐姐分吃了，对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家称赞小包拯真聪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2514600" y="121932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3886200" y="12193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648320" y="12193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4960" y="310824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包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941560" y="12924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075280" y="12924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全家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1752480" y="1676520"/>
            <a:ext cx="228600" cy="3504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590400" y="743040"/>
            <a:ext cx="796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包拯把全家八个人都请到大厅里，围着桌子坐下来。他提来一壶清水，又拿来八只碗。他叫每个人喝一口水，在嘴里漱一下，再吐进碗里。当姐姐漱口时，包拯看见她吐出的水里有一点点蛋黄渣。包拯想了想，要其他人继续漱口。最后轮到妹妹漱口了，只见她吐出的水里也有蛋黄渣。包拯走到妹妹身边，笑笑说：“这个蛋是你和姐姐分吃了，对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家称赞小包拯真聪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3886200" y="2514600"/>
            <a:ext cx="399960" cy="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762120" y="2971800"/>
            <a:ext cx="1066680" cy="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6019920" y="25146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4960" y="310824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包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941560" y="12924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941560" y="308916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941560" y="479736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075280" y="12924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全家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227560" y="308916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水中蛋黄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922640" y="479736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1752480" y="1676520"/>
            <a:ext cx="228600" cy="3504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7054920" y="1523880"/>
            <a:ext cx="304560" cy="3733920"/>
          </a:xfrm>
          <a:custGeom>
            <a:avLst/>
            <a:gdLst>
              <a:gd name="textAreaLeft" fmla="*/ 0 w 304560"/>
              <a:gd name="textAreaRight" fmla="*/ 109800 w 30456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894800" y="30891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聪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362320" y="106668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45320" y="17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54200" y="2955960"/>
            <a:ext cx="76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包拯是我国历史上有名的清官。他小时候，读书非常用功，喜欢动脑筋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905120" y="838080"/>
            <a:ext cx="53337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包拯为什么这样聪明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1600200" y="3886200"/>
            <a:ext cx="5334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163960" y="1812960"/>
            <a:ext cx="47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聪明    包拯    审案    水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997280" y="2743200"/>
            <a:ext cx="498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渣子    继续     称赞    故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163960" y="3733920"/>
            <a:ext cx="47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    历史    有名    读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38640" y="355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一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08"/>
          <p:cNvPicPr/>
          <p:nvPr/>
        </p:nvPicPr>
        <p:blipFill>
          <a:blip r:embed="rId1"/>
          <a:stretch/>
        </p:blipFill>
        <p:spPr>
          <a:xfrm>
            <a:off x="2778120" y="2133720"/>
            <a:ext cx="1413000" cy="2514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078360" y="34290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非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8"/>
          <p:cNvPicPr/>
          <p:nvPr/>
        </p:nvPicPr>
        <p:blipFill>
          <a:blip r:embed="rId2"/>
          <a:stretch/>
        </p:blipFill>
        <p:spPr>
          <a:xfrm>
            <a:off x="4835520" y="2133720"/>
            <a:ext cx="1413000" cy="2514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5105520" y="33526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排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09"/>
          <p:cNvPicPr/>
          <p:nvPr/>
        </p:nvPicPr>
        <p:blipFill>
          <a:blip r:embed="rId1"/>
          <a:stretch/>
        </p:blipFill>
        <p:spPr>
          <a:xfrm>
            <a:off x="3075120" y="2133720"/>
            <a:ext cx="1268280" cy="2589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3424320" y="34290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09"/>
          <p:cNvPicPr/>
          <p:nvPr/>
        </p:nvPicPr>
        <p:blipFill>
          <a:blip r:embed="rId2"/>
          <a:stretch/>
        </p:blipFill>
        <p:spPr>
          <a:xfrm>
            <a:off x="4952880" y="2133720"/>
            <a:ext cx="1268640" cy="2590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329440" y="34290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08"/>
          <p:cNvPicPr/>
          <p:nvPr/>
        </p:nvPicPr>
        <p:blipFill>
          <a:blip r:embed="rId1"/>
          <a:stretch/>
        </p:blipFill>
        <p:spPr>
          <a:xfrm>
            <a:off x="2778120" y="2133720"/>
            <a:ext cx="1413000" cy="2514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078360" y="34290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08"/>
          <p:cNvPicPr/>
          <p:nvPr/>
        </p:nvPicPr>
        <p:blipFill>
          <a:blip r:embed="rId2"/>
          <a:stretch/>
        </p:blipFill>
        <p:spPr>
          <a:xfrm>
            <a:off x="4835520" y="2133720"/>
            <a:ext cx="141300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105520" y="33526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停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13440" y="380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比一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09"/>
          <p:cNvPicPr/>
          <p:nvPr/>
        </p:nvPicPr>
        <p:blipFill>
          <a:blip r:embed="rId1"/>
          <a:stretch/>
        </p:blipFill>
        <p:spPr>
          <a:xfrm>
            <a:off x="3075120" y="2133720"/>
            <a:ext cx="1268280" cy="2589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424320" y="34290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09"/>
          <p:cNvPicPr/>
          <p:nvPr/>
        </p:nvPicPr>
        <p:blipFill>
          <a:blip r:embed="rId2"/>
          <a:stretch/>
        </p:blipFill>
        <p:spPr>
          <a:xfrm>
            <a:off x="4952880" y="2133720"/>
            <a:ext cx="1268640" cy="25905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5310360" y="34290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祖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6c224f4a20a4462344597e259822720e0df3d7e2"/>
          <p:cNvPicPr/>
          <p:nvPr/>
        </p:nvPicPr>
        <p:blipFill>
          <a:blip r:embed="rId2"/>
          <a:stretch/>
        </p:blipFill>
        <p:spPr>
          <a:xfrm>
            <a:off x="1405080" y="1762200"/>
            <a:ext cx="30240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789440" y="1762200"/>
            <a:ext cx="389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包拯（公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999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－公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6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），字希仁，庐州合肥（今安徽合肥）人，汉族。出身于官僚家庭。天圣朝进士。累迁监察御史，建议练兵选将、充实边备。包拯做官以断狱英明刚直而著称于世。知庐州时，执法不避亲党。后世则把他当作清官的化身——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包青天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537640" y="2841480"/>
            <a:ext cx="26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包拯小时候，读书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非常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用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69280" y="3870360"/>
            <a:ext cx="68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非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99600" y="304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造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135160" y="152388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包拯小时侯，读书用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76840" y="3870360"/>
            <a:ext cx="681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_______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772720" y="1523880"/>
            <a:ext cx="35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姐姐和妹妹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把鸡蛋吃了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然后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让包拯审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054960" y="2803680"/>
            <a:ext cx="306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… 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… 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然后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…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99600" y="304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造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02"/>
          <p:cNvPicPr/>
          <p:nvPr/>
        </p:nvPicPr>
        <p:blipFill>
          <a:blip r:embed="rId1"/>
          <a:stretch/>
        </p:blipFill>
        <p:spPr>
          <a:xfrm>
            <a:off x="1981080" y="1143000"/>
            <a:ext cx="220032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01_调整大小"/>
          <p:cNvPicPr/>
          <p:nvPr/>
        </p:nvPicPr>
        <p:blipFill>
          <a:blip r:embed="rId2"/>
          <a:stretch/>
        </p:blipFill>
        <p:spPr>
          <a:xfrm>
            <a:off x="4876920" y="1295280"/>
            <a:ext cx="2589120" cy="35751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4275720" y="6095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影视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776760" y="1981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结  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"/>
          <p:cNvSpPr/>
          <p:nvPr/>
        </p:nvSpPr>
        <p:spPr>
          <a:xfrm>
            <a:off x="1076400" y="542592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809D-D962-4341-A2A0-BA25A7C2CC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按要求自读课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42560" y="1628280"/>
            <a:ext cx="76438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借助拼音自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课文中标记好自然段的序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圈出本课的生字，自己拼读生字，读准字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画出不懂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考：你读懂了什么？用自己的语言概括故事或感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57200" y="1414440"/>
            <a:ext cx="826776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包拯是我国历史上有名的清官。他小时候，读书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f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i)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楷体_GB2312"/>
                <a:hlinkClick r:id="rId3" action="ppaction://hlinksldjump"/>
              </a:rPr>
              <a:t>常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ch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 action="ppaction://hlinksldjump"/>
              </a:rPr>
              <a:t>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ɡ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喜欢动脑筋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早上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 action="ppaction://hlinksldjump"/>
              </a:rPr>
              <a:t>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ji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姐煮了几个鸡蛋，先和妹妹分着吃了一个。然后，姐姐故意对小包拯说：“你常说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6" action="ppaction://hlinksldjump"/>
              </a:rPr>
              <a:t>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z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楷体_GB2312"/>
                <a:hlinkClick r:id="rId7" action="ppaction://hlinksldjump"/>
              </a:rPr>
              <a:t>己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j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长大后要做一个会审案的人，今天考考你。刚才我煮的鸡蛋少了一个，你说是谁吃了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811680" y="36504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聪明的小包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09480" y="533520"/>
            <a:ext cx="79632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包拯把全家八个人都请到大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厅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t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ī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里，围着桌子坐下来。他提来一壶清水，又拿来八只碗。他叫每个人喝一口水，在嘴里漱一下，再吐进碗里。当姐姐漱口时，包拯看见她吐出的水里有一点点蛋黄渣。包拯想了想，要其他人继续漱口。最后轮到妹妹漱口了，只见她吐出的水里也有蛋黄渣。包拯走到妹妹身边，笑笑说：“这个蛋是你和姐姐分吃了，对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家称赞小包拯真聪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12720" y="1305000"/>
            <a:ext cx="770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fēi   chánɡ  ɡōnɡ   ji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非    常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功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姐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zì     jǐ    tī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自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己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17720" y="1136520"/>
            <a:ext cx="7038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聪  拯  审  壶 渣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083120" y="498600"/>
            <a:ext cx="155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shě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320160" y="498600"/>
            <a:ext cx="98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770120" y="43927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继  续  称  赞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12280" y="3597120"/>
            <a:ext cx="55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057400" y="498600"/>
            <a:ext cx="20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zhěn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220200" y="3597120"/>
            <a:ext cx="93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x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617360" y="3597120"/>
            <a:ext cx="204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ch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ē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04920" y="304920"/>
            <a:ext cx="175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  <a:ea typeface="Times New Roman"/>
              </a:rPr>
              <a:t>ōnɡ</a:t>
            </a:r>
            <a:r>
              <a:rPr b="0" lang="en-US" sz="24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505280" y="498600"/>
            <a:ext cx="124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955920" y="3597120"/>
            <a:ext cx="124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z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à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1295280" y="31240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611280" y="1197000"/>
            <a:ext cx="79232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"/>
                <a:ea typeface="楷体"/>
              </a:rPr>
              <a:t>cōnɡ         zhěnɡ    shěn         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楷体"/>
                <a:ea typeface="楷体"/>
              </a:rPr>
              <a:t>聪 明  包 拯     审案    一壶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楷体"/>
                <a:ea typeface="楷体"/>
              </a:rPr>
              <a:t>zhā  jì xù    chēnɡ z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"/>
                <a:ea typeface="楷体"/>
              </a:rPr>
              <a:t>蛋黄渣  继 续    称  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95440" y="4051440"/>
            <a:ext cx="79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楷体"/>
                <a:ea typeface="楷体"/>
              </a:rPr>
              <a:t>非常  用功  姐姐   自己   大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57200" y="1414440"/>
            <a:ext cx="826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包拯是我国历史上有名的清官。他小时候，读书非常用功，喜欢动脑筋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早上，姐姐煮了几个鸡蛋，先和妹妹分着吃了一个。然后，姐姐故意对小包拯说：“你常说自己长大后要做一个会审案的人，今天考考你。刚才我煮的鸡蛋少了一个，你说是谁吃了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811680" y="36504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聪明的小包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4572000" y="5181480"/>
            <a:ext cx="3886200" cy="762120"/>
          </a:xfrm>
          <a:prstGeom prst="wedgeRoundRectCallout">
            <a:avLst>
              <a:gd name="adj1" fmla="val 51837"/>
              <a:gd name="adj2" fmla="val 100625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留心观察小包拯的聪明表现在什么地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12:34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5:38Z</dcterms:modified>
  <cp:revision>1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