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4.png" ContentType="image/png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93D1D-5E86-457A-8528-5142787E7A11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41D0F-31B0-4D70-B1E0-0D44A2878BFB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0B2F7-F204-4827-8F1B-AAD3CCEE0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60A6E-D4D9-4F97-8650-D3A4B4FB3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E6FD6D-B8AB-4DE5-96C2-EDB07B7B0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1DAABF-AC52-487C-8187-8F893CCE6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84FBD9-CC20-47EB-B30B-7C3356025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9A461B-F2D8-4582-BBAB-2D2E57B59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13F06F-86AD-4C21-B362-D99AE7FD2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0CAE06-7DC9-4C41-B993-645FADAF6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EF6F02-B8C7-4EEA-AFE0-B7C5E9CDA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84399A-FDD5-47E3-BF2B-0EF6137A1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E09E49-14FF-4E9E-ABB6-7EA99FB16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963D1D-4E82-4F9A-ADB4-11A75C356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1DD37-A3D7-46B5-8F0F-371C0C886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16C9B3-D70D-402C-A090-880731A09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E7D9F5-6056-421C-A6ED-ED49272C0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35A130-2483-4372-9304-43F5CF95F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D7D8DC-3D28-434B-BC1E-33CAF560D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8542AB-361F-4079-B938-219CD196B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9B77A1-041A-4B21-B0D0-E3E911F73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C889FD-70E6-4E8F-AD07-05DB60843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EC93BF-0E23-48A3-AA5F-22A20BBA1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C39BD0-37A9-4EBE-8FC8-B0AD97B0A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135208-7AD5-4DB8-BA7E-3D4C0EDA9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285BF-DB40-4B89-BEE4-63D584C23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74C4FE-19AC-4DFB-8E20-81EE9D92E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ED7B6D-D0B3-47E9-AF0B-43F211596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38D601-7B5F-4BDD-B89B-176B73FAC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FFCB05-F091-43B8-A855-00854BE7A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1658A0-A2F5-4E6A-BBD4-D11E63681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68AF17-9D68-44FC-BA70-0B4F8D64F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B21892-1E6B-4E6A-8A8B-5A45335C3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ED47D5-89F6-40C8-8A51-D220EF9BE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7025D8-B7E9-406B-9432-758E000B5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025CD5-FA13-4FE0-A48E-6D56835A1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AEEE9-49A6-4248-9E21-090834601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93813B-26EC-4073-B5E5-9C85CE0CA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ED1A4D-BCC6-43FF-834A-4B7D40AE9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C85A52-4853-4EE7-9953-902653D5E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895E91-56D5-4EF1-AAA3-217CE2195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CB56AD-3CFA-4BFF-96E7-52166F736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986176-B336-4FD9-8741-F02E1B5CE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7C471E-BAC6-45E4-BF40-036384B22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361168-AF24-4897-AC42-EB0ACA3FF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F99405-77D3-4FB7-BB21-6056573F7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082562-9969-4173-BEE8-55AAD0570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8E305-6F1A-4CAB-8A35-400129BA7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F6F7C8-52A6-4CF6-AFDF-F5257DD25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05829B-33EA-4B1B-B45C-B0A633003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13BB17-3FF9-487B-8A93-A53A9B06A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0CDCA2-1A27-4215-8B24-51F646495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33750F-679E-488F-9D3A-C852019F8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673BC-3405-43A3-8E34-FF71AE70A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A1A5C-D327-44A3-B470-0B52745AF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EE444-605D-4A3B-ABCC-D54F964AB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45D26-D7C0-4304-A613-D24BDA407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F24A4-72FE-4416-9238-5FB86E0A4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E6FE0-E386-41DD-928F-E7CA806D8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1D0CB-39AC-4015-BDE8-08A8B5C6F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79B84-99B7-455E-A11F-8B6D8A6AD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DB8EC-DF38-4F75-B0D6-5A73B939D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63961-702F-4C37-B7CC-3B7EA8DA3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C67AD-57E5-49BE-B5E3-AB7ED36FB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E6035D-C67F-4EA6-874C-EC3EAE09C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2034A9-9ECB-4A33-A9E2-73E324129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D73E7B-2F23-4CE9-AD90-716048A84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C35735-4807-4C44-B9AD-4020D9D02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8C3B08-A2C0-49C6-81A9-01B1791DA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345CF-3F6C-4F9F-B1B8-913F3C0F3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03EBAF-7C2E-41C9-850A-A4DA968C2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2DAC12-01F3-4541-BAF4-16C5470F8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6C4FB9-30D7-459F-A529-CECD21338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ADADB1-B155-45D5-B340-5EAE7C311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E4712E-113A-438D-BD66-3CEFBEAE6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9A3EFD-E747-466D-B7F9-8ADCFE591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905A86-15D0-44BB-AFF4-362E3F5AD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8030B6-CC1F-4310-9840-28517E52B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39736D-CE71-44A2-8647-57EEAFE50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B5A3C0-2220-41E0-8741-4CE4BAE92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B8994-B680-4E8E-9AC3-EBBFD124F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81CB39-3CE7-43A7-AB65-EE19729F8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AFDF30-6FD1-4F8E-BB5E-A2807B1F2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C327E3-0CD7-4B70-A356-19B41AFF4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9B77A5-BCE2-49A1-B1C1-D3C5BC39A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B24DDF-0AB2-4C8B-8620-17521AA4C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BA86B9-0085-41BE-AF1A-C345C2465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C3A415-FCF7-47EB-98AE-F04719725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D80D20-656D-4B21-9802-0EE388AEF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C4D21F-3417-40EA-A941-3BEC5652F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1DCD78-F42F-4F9B-B0BC-800C9D909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A5902-5451-4B08-87A3-CE621642A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347BCE-6430-46E7-92AC-FAECB2AA8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2F735B-124F-43F1-9B99-990E4F416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E2A64A-85AF-4917-9073-94BFBB42F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E3D2E8-1E75-47E3-A1B9-04B2C8CBE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7A326B-4030-4571-91C6-4EED187C9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1ED914-1289-4A91-BA6C-7BA6C388C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254CAD-708A-47D3-B26D-076AE001A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AAABA5-85A8-4D56-BDCB-842655C38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4EC56A-E2ED-4CF4-8484-7B53DB16F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A1B16C-D4E1-4781-A285-CA84C4EDF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6637E-64CB-4C4B-8719-4B4B4F579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8F1CEB-D1B8-4CFB-9971-C68EB49A2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C28139-9B36-407A-BCF5-81AA7F4FB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F06AA8-2361-4A16-A0A2-599D76A52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CB9DC5-A973-4C0D-A349-1DF40A5C4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7A99B0-6E4B-484D-AED9-B41B48DC6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8F044A-4D8E-41FC-897F-F3D836FFB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BDC2C9-9D60-41B5-9EA0-39271188E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2B6F1D-42FD-4A74-AA73-BC7C9802D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BBE134-A8E3-4D4C-B13F-E9774252B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58E26D-F585-4C2A-83BC-73D66141D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F5850-8D89-46C8-9C8F-D024B55C7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0D1691-B1C1-4FFD-8240-368D850E0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321D82-12C6-414A-8938-35EFD88D7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8D4C0B-E62C-4842-8295-12B01C406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FF1CCD-98A4-4B29-99F0-EA9E26F1E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0FDC6C-B3F9-415E-8B57-9ACB806B3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1685CD-FC49-440E-93AD-C643CB623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649A95-234B-4C87-B61B-8F23893E2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85001A-DF4B-4F45-8267-F87D7C538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FF3FA6-DC79-4757-A5EE-082123737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6D878A-3384-4B97-A0AC-C62C4E40A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C7FBD-13A6-40FF-88B7-EF0AA9C6B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018EED-7A78-434C-BA58-A708C65CF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581D75-B5FA-4B71-8A66-03157ECAF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4DDFE2-7F6D-48C5-9083-C75B8E4DC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B5D657-3CE9-44EA-887A-EB197B2B4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619581-85B6-49FE-90CF-E86B5CA5C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A9023E-74CB-4EA8-92F8-CDF0D230F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0B32DD-90CC-428A-8241-1603A4FA1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70DB80-6C2B-4EC1-8BF4-A8B0B81B0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4234E3-77E3-4AA1-9531-CFE067E04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C1DB19-C939-4145-8359-15CEEC213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FB537-E818-4248-BA0E-2DC2B8F3E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B1A757-0E6B-4B4A-9A24-4B50F4B0A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C28FB5-7240-4CEB-A40F-03E5F2582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EEFCB1-94B1-43CD-A220-4F41B3EB5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E1DB54-6F9D-465C-88BA-93FF5BAE2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F60D43-D203-4174-9D22-2006170C2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F244BE-5C97-4C14-99FF-657853866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C8C773-CA60-4F9E-9D64-09C4C9114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039CBD-26CE-4E27-A70A-DC49F3B31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971712-E3FF-4651-920B-E13215BAA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4A275A-F8E7-4FDC-8569-BBBAAA236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8CA80-6284-4309-930A-FB7987E4603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D7404-67A8-48B9-9092-EFA53721DCEB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F33D1-CB3D-48FC-BE98-AE8D8D581630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1134E-D27A-4AFF-BE83-77530DF71731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35353-42C4-47B4-99C0-F3AA13E2C140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882F9-B92F-4088-A007-AFCCE8AE8F59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96470-9529-485B-BEA4-D310C33E51FD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F1943-036F-437B-8A2B-1F5F9A026821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367F9-D7D6-4FEA-89DE-45BBF9A11DBF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93E77-45F8-476A-8C1D-6D00494CACC1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EDBC8-5A9D-4021-B60B-A310425A5C39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EEF10-F3AB-416A-A1A3-419D656EE148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9" name="Picture 2" descr="e7d7aeb268493299d8335a5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600" spc="-1" strike="noStrike">
                <a:solidFill>
                  <a:srgbClr val="0000cc"/>
                </a:solidFill>
                <a:latin typeface="华文中宋"/>
                <a:ea typeface="华文中宋"/>
              </a:rPr>
              <a:t>春日晨景</a:t>
            </a:r>
            <a:endParaRPr b="0" lang="en-US" sz="8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矩形 5"/>
          <p:cNvSpPr/>
          <p:nvPr/>
        </p:nvSpPr>
        <p:spPr>
          <a:xfrm>
            <a:off x="1906200" y="563868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0000ff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2" name="Picture 2" descr="春日晨景"/>
          <p:cNvPicPr/>
          <p:nvPr/>
        </p:nvPicPr>
        <p:blipFill>
          <a:blip r:embed="rId1"/>
          <a:stretch/>
        </p:blipFill>
        <p:spPr>
          <a:xfrm>
            <a:off x="1905120" y="0"/>
            <a:ext cx="7238880" cy="6858000"/>
          </a:xfrm>
          <a:prstGeom prst="rect">
            <a:avLst/>
          </a:prstGeom>
          <a:ln w="0">
            <a:noFill/>
          </a:ln>
        </p:spPr>
      </p:pic>
      <p:sp>
        <p:nvSpPr>
          <p:cNvPr id="523" name="WordArt 3"/>
          <p:cNvSpPr txBox="1"/>
          <p:nvPr/>
        </p:nvSpPr>
        <p:spPr>
          <a:xfrm rot="5400000">
            <a:off x="-1218960" y="2819160"/>
            <a:ext cx="4190760" cy="9907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春日晨景</a:t>
            </a:r>
            <a:endParaRPr b="1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p:transition>
    <p:blinds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4" name="Picture 7" descr="ca522c093f2508a90a7b82d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 txBox="1"/>
          <p:nvPr/>
        </p:nvSpPr>
        <p:spPr>
          <a:xfrm>
            <a:off x="456840" y="533520"/>
            <a:ext cx="75438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00ff"/>
                </a:solidFill>
                <a:latin typeface="楷体_GB2312"/>
                <a:ea typeface="楷体_GB2312"/>
              </a:rPr>
              <a:t>春天已经来了。五更，天就亮了。河两岸的柳树</a:t>
            </a:r>
            <a:r>
              <a:rPr b="0" lang="en-US" sz="2400" spc="-1" strike="noStrike">
                <a:solidFill>
                  <a:srgbClr val="9900ff"/>
                </a:solidFill>
                <a:latin typeface="楷体_GB2312"/>
                <a:ea typeface="楷体_GB2312"/>
              </a:rPr>
              <a:t>.</a:t>
            </a:r>
            <a:r>
              <a:rPr b="0" lang="zh-CN" sz="2400" spc="-1" strike="noStrike">
                <a:solidFill>
                  <a:srgbClr val="9900ff"/>
                </a:solidFill>
                <a:latin typeface="楷体_GB2312"/>
                <a:ea typeface="楷体_GB2312"/>
              </a:rPr>
              <a:t>杨树长出了嫩嫩的绿叶。园子里的杏树在蒙蒙细雨中开出了粉红粉红的花。房前的燕子开始扑捉小虫喂宝宝了。篱笆下的小飞虫在和朋友一起唱快乐的歌，再看池塘里，新长出来的荷叶浮在水面上碧绿碧绿的。山坡上长满了小草，放牛娃坐在牛背上一边放牛一边吹笛子。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WordArt 11"/>
          <p:cNvSpPr txBox="1"/>
          <p:nvPr/>
        </p:nvSpPr>
        <p:spPr>
          <a:xfrm>
            <a:off x="5562720" y="4038480"/>
            <a:ext cx="2038320" cy="117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71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诗  意 </a:t>
            </a:r>
            <a:endParaRPr b="0" lang="en-US" sz="40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27" name="文本框 1"/>
          <p:cNvSpPr/>
          <p:nvPr/>
        </p:nvSpPr>
        <p:spPr>
          <a:xfrm>
            <a:off x="2787480" y="5392800"/>
            <a:ext cx="560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8" name="Picture 4" descr="春天1"/>
          <p:cNvPicPr/>
          <p:nvPr/>
        </p:nvPicPr>
        <p:blipFill>
          <a:blip r:embed="rId1"/>
          <a:stretch/>
        </p:blipFill>
        <p:spPr>
          <a:xfrm>
            <a:off x="0" y="1752480"/>
            <a:ext cx="7696080" cy="5105520"/>
          </a:xfrm>
          <a:prstGeom prst="rect">
            <a:avLst/>
          </a:prstGeom>
          <a:ln w="0">
            <a:noFill/>
          </a:ln>
        </p:spPr>
      </p:pic>
      <p:sp>
        <p:nvSpPr>
          <p:cNvPr id="529" name="WordArt 5"/>
          <p:cNvSpPr txBox="1"/>
          <p:nvPr/>
        </p:nvSpPr>
        <p:spPr>
          <a:xfrm rot="21385200">
            <a:off x="685440" y="380520"/>
            <a:ext cx="583884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000000"/>
                  </a:solidFill>
                  <a:round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一起感受春天、享受春天吧</a:t>
            </a:r>
            <a:r>
              <a:rPr b="1" lang="en-US" sz="1800" spc="1" strike="noStrike">
                <a:ln w="12600">
                  <a:solidFill>
                    <a:srgbClr val="000000"/>
                  </a:solidFill>
                  <a:round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!</a:t>
            </a:r>
            <a:endParaRPr b="1" lang="en-US" sz="1800" spc="1" strike="noStrike">
              <a:ln w="12600">
                <a:solidFill>
                  <a:srgbClr val="000000"/>
                </a:solidFill>
                <a:round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30" name="WordArt 6"/>
          <p:cNvSpPr txBox="1"/>
          <p:nvPr/>
        </p:nvSpPr>
        <p:spPr>
          <a:xfrm rot="5400000">
            <a:off x="7520040" y="5281560"/>
            <a:ext cx="2333520" cy="4572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谢谢观赏！</a:t>
            </a:r>
            <a:endParaRPr b="1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p:transition>
    <p:wheel spokes="8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图表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自然风景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EDE4D-CB6E-4CA7-9016-334E2C69335F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2" name="Picture 2" descr="e7d7aeb268493299d8335a5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ff"/>
                </a:solidFill>
                <a:latin typeface="Calibri"/>
              </a:rPr>
              <a:t>你认识吗？</a:t>
            </a:r>
            <a:br>
              <a:rPr sz="4000"/>
            </a:br>
            <a:r>
              <a:rPr b="1" lang="zh-CN" sz="4000" spc="-1" strike="noStrike">
                <a:solidFill>
                  <a:srgbClr val="6600ff"/>
                </a:solidFill>
                <a:latin typeface="Calibri"/>
              </a:rPr>
              <a:t>         </a:t>
            </a:r>
            <a:br>
              <a:rPr sz="4000"/>
            </a:br>
            <a:r>
              <a:rPr b="1" lang="zh-CN" sz="4000" spc="-1" strike="noStrike">
                <a:solidFill>
                  <a:srgbClr val="6600ff"/>
                </a:solidFill>
                <a:latin typeface="Calibri"/>
              </a:rPr>
              <a:t>        相信自己，你一定能行！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"/>
          <p:cNvSpPr txBox="1"/>
          <p:nvPr/>
        </p:nvSpPr>
        <p:spPr>
          <a:xfrm>
            <a:off x="228600" y="2437920"/>
            <a:ext cx="8229600" cy="31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cc"/>
                </a:solidFill>
                <a:latin typeface="Calibri"/>
              </a:rPr>
              <a:t>五更天欲晓   渐渐   两岸    杏花   堂前   碧绿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cc"/>
                </a:solidFill>
                <a:latin typeface="Calibri"/>
              </a:rPr>
              <a:t>漫坡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7" descr="春天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06" name="WordArt 8" descr=""/>
          <p:cNvPicPr/>
          <p:nvPr/>
        </p:nvPicPr>
        <p:blipFill>
          <a:blip r:embed="rId2"/>
          <a:stretch/>
        </p:blipFill>
        <p:spPr>
          <a:xfrm>
            <a:off x="528480" y="2052720"/>
            <a:ext cx="1152720" cy="404820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7" name="Picture 5" descr="春天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8" name="WordArt 6"/>
          <p:cNvSpPr txBox="1"/>
          <p:nvPr/>
        </p:nvSpPr>
        <p:spPr>
          <a:xfrm>
            <a:off x="1447920" y="4648320"/>
            <a:ext cx="5410080" cy="1139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3333cc"/>
                  </a:solidFill>
                  <a:round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两岸轻烟杨柳绿</a:t>
            </a:r>
            <a:endParaRPr b="1" lang="en-US" sz="1800" spc="1" strike="noStrike">
              <a:ln w="12600">
                <a:solidFill>
                  <a:srgbClr val="3333cc"/>
                </a:solidFill>
                <a:round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p:transition>
    <p:checke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矩形 6"/>
          <p:cNvSpPr/>
          <p:nvPr/>
        </p:nvSpPr>
        <p:spPr>
          <a:xfrm>
            <a:off x="604800" y="2971800"/>
            <a:ext cx="735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0" name="Picture 4" descr="一园细雨杏花红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1" name="WordArt 5"/>
          <p:cNvSpPr txBox="1"/>
          <p:nvPr/>
        </p:nvSpPr>
        <p:spPr>
          <a:xfrm>
            <a:off x="1447920" y="685800"/>
            <a:ext cx="40291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一园细雨杏花红</a:t>
            </a:r>
            <a:endParaRPr b="1" lang="en-US" sz="1800" spc="-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>
    <p:cover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2" name="Picture 4" descr="堂前住燕子"/>
          <p:cNvPicPr/>
          <p:nvPr/>
        </p:nvPicPr>
        <p:blipFill>
          <a:blip r:embed="rId1"/>
          <a:stretch/>
        </p:blipFill>
        <p:spPr>
          <a:xfrm>
            <a:off x="0" y="0"/>
            <a:ext cx="7315200" cy="6858000"/>
          </a:xfrm>
          <a:prstGeom prst="rect">
            <a:avLst/>
          </a:prstGeom>
          <a:ln w="0">
            <a:noFill/>
          </a:ln>
        </p:spPr>
      </p:pic>
      <p:sp>
        <p:nvSpPr>
          <p:cNvPr id="513" name="WordArt 5"/>
          <p:cNvSpPr txBox="1"/>
          <p:nvPr/>
        </p:nvSpPr>
        <p:spPr>
          <a:xfrm rot="5400000">
            <a:off x="7210440" y="1704960"/>
            <a:ext cx="2800080" cy="4572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1" strike="noStrike">
                <a:ln w="9360">
                  <a:solidFill>
                    <a:srgbClr val="800000"/>
                  </a:solidFill>
                  <a:round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堂前住燕子，</a:t>
            </a:r>
            <a:endParaRPr b="1" i="1" lang="en-US" sz="1800" spc="1" strike="noStrike">
              <a:ln w="9360">
                <a:solidFill>
                  <a:srgbClr val="800000"/>
                </a:solidFill>
                <a:round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14" name="WordArt 6"/>
          <p:cNvSpPr txBox="1"/>
          <p:nvPr/>
        </p:nvSpPr>
        <p:spPr>
          <a:xfrm rot="5400000">
            <a:off x="6600600" y="4600440"/>
            <a:ext cx="2800440" cy="4572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1" strike="noStrike">
                <a:ln w="9360">
                  <a:solidFill>
                    <a:srgbClr val="800000"/>
                  </a:solidFill>
                  <a:round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篱下飞鸣虫。</a:t>
            </a:r>
            <a:endParaRPr b="1" i="1" lang="en-US" sz="1800" spc="1" strike="noStrike">
              <a:ln w="9360">
                <a:solidFill>
                  <a:srgbClr val="800000"/>
                </a:solidFill>
                <a:round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5" name="Picture 4" descr="接天莲叶无穷碧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6" name="WordArt 5"/>
          <p:cNvSpPr txBox="1"/>
          <p:nvPr/>
        </p:nvSpPr>
        <p:spPr>
          <a:xfrm>
            <a:off x="1600200" y="1295280"/>
            <a:ext cx="57150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50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000099"/>
                  </a:solidFill>
                  <a:round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新荷浮水层层碧</a:t>
            </a:r>
            <a:endParaRPr b="1" lang="en-US" sz="1800" spc="1" strike="noStrike">
              <a:ln w="12600">
                <a:solidFill>
                  <a:srgbClr val="000099"/>
                </a:solidFill>
                <a:round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7" name="Picture 4" descr="小草漫坡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8" name="WordArt 5"/>
          <p:cNvSpPr txBox="1"/>
          <p:nvPr/>
        </p:nvSpPr>
        <p:spPr>
          <a:xfrm rot="5400000">
            <a:off x="1784520" y="3012480"/>
            <a:ext cx="4732200" cy="9903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162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宋体"/>
              </a:rPr>
              <a:t>小草漫坡片片青。</a:t>
            </a:r>
            <a:endParaRPr b="1" lang="en-US" sz="1800" spc="-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162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9" name="Picture 2" descr="200712172433399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28195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Calibri"/>
              </a:rPr>
              <a:t>学习提示：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"/>
          <p:cNvSpPr txBox="1"/>
          <p:nvPr/>
        </p:nvSpPr>
        <p:spPr>
          <a:xfrm>
            <a:off x="304920" y="190512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cc"/>
                </a:solidFill>
                <a:latin typeface="Calibri"/>
              </a:rPr>
              <a:t>1</a:t>
            </a:r>
            <a:r>
              <a:rPr b="1" lang="zh-CN" sz="3200" spc="-1" strike="noStrike">
                <a:solidFill>
                  <a:srgbClr val="6600cc"/>
                </a:solidFill>
                <a:latin typeface="Calibri"/>
              </a:rPr>
              <a:t>、观察图画后，你看到了什么？用自己的话描述一下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cc"/>
                </a:solidFill>
                <a:latin typeface="Calibri"/>
              </a:rPr>
              <a:t>2</a:t>
            </a:r>
            <a:r>
              <a:rPr b="1" lang="zh-CN" sz="3200" spc="-1" strike="noStrike">
                <a:solidFill>
                  <a:srgbClr val="6600cc"/>
                </a:solidFill>
                <a:latin typeface="Calibri"/>
              </a:rPr>
              <a:t>、文中描写了哪些景物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cc"/>
                </a:solidFill>
                <a:latin typeface="Calibri"/>
              </a:rPr>
              <a:t>3</a:t>
            </a:r>
            <a:r>
              <a:rPr b="1" lang="zh-CN" sz="3200" spc="-1" strike="noStrike">
                <a:solidFill>
                  <a:srgbClr val="6600cc"/>
                </a:solidFill>
                <a:latin typeface="Calibri"/>
              </a:rPr>
              <a:t>、通过学习这首小诗你知道了什么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10T12:51:27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0:29:36Z</dcterms:modified>
  <cp:revision>16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  <property fmtid="{D5CDD505-2E9C-101B-9397-08002B2CF9AE}" pid="3" name="Version">
    <vt:r8>1</vt:r8>
  </property>
</Properties>
</file>