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77DC-5DB5-4558-AF5F-3708ED5568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44FB-6B1E-4CE4-BA20-CE30A22C16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46D-EB1B-41CB-8645-F110F1AC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108-D64A-4CEC-8425-E45CE495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5CB-4966-419D-82DF-A847572A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BBC-1509-4A67-ACAF-E7C6A0A6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F70-10B1-48B4-8F2E-A49CED8F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2B6-98A0-4434-8AD3-FD084C90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E72-57B1-4563-B67D-983A962C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F90-DBFC-4CAA-AA59-90A8B16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68F-7D69-4103-B02B-DAC118F1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F4F-9286-4C6B-B951-DF23BE70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55B-DE93-4B44-83E3-EB0664B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E9D-C2FC-4D91-9BD0-5C307BD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02B8-2033-4B4D-90A3-C7297DF4CF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69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中宋"/>
                <a:ea typeface="华文中宋"/>
              </a:rPr>
              <a:t>从森林里带走什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4" descr=""/>
          <p:cNvPicPr/>
          <p:nvPr/>
        </p:nvPicPr>
        <p:blipFill>
          <a:blip r:embed="rId1"/>
          <a:stretch/>
        </p:blipFill>
        <p:spPr>
          <a:xfrm>
            <a:off x="1868400" y="5805360"/>
            <a:ext cx="5672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40A-CD39-45C9-885D-55F0BCFA7E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468360" y="549360"/>
            <a:ext cx="79549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学习目标：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认 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个生字，并要求会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朗读课文，理解结尾段的意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体会小刚和爸爸美好的心灵。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2635200" y="1198440"/>
            <a:ext cx="53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第     灵    神     俩      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沾      猎     靴     臂      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蹲     被     傻      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03280" y="476280"/>
            <a:ext cx="3476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生字：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000" y="155700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百灵鸟站在树枝上，翘着尾巴唱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百灵鸟站在树枝上，翘着尾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快乐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唱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乐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76440" y="548280"/>
            <a:ext cx="185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理解课文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27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小刚跟爸爸到森林里去干什么？心情怎样？从哪里看出他们很好奇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320480" y="3715920"/>
            <a:ext cx="48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小刚和爸爸在森林里看到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62028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小刚和爸爸从森林里带走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是什么呢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16712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小刚和爸爸这么喜欢小动物为什么不把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们打下来带走呢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想象：小刚和爸爸当时会想什么？他们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说什么？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332000" y="47628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智慧树：</a:t>
            </a:r>
            <a:endParaRPr b="1" lang="en-US" sz="5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WordArt 3" descr=""/>
          <p:cNvPicPr/>
          <p:nvPr/>
        </p:nvPicPr>
        <p:blipFill>
          <a:blip r:embed="rId1"/>
          <a:stretch/>
        </p:blipFill>
        <p:spPr>
          <a:xfrm>
            <a:off x="241200" y="2843280"/>
            <a:ext cx="8686800" cy="170496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124000" y="0"/>
            <a:ext cx="368640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作业：</a:t>
            </a:r>
            <a:endParaRPr b="1" lang="en-US" sz="9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29:10Z</dcterms:modified>
  <cp:revision>1</cp:revision>
  <dc:subject/>
  <dc:title>从森林里带走什么</dc:title>
</cp:coreProperties>
</file>