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E8ED-5042-4468-A0FE-5E3588E36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EBFE-64E1-4C06-8320-C66616ED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3C2F-E59F-453C-8EE3-34E3AE434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5CF-C48E-449B-92F0-ED605945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696-37D4-40DA-AC25-704FB55D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B99-3CD8-4806-B6EE-BC28EF11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260-D55F-4423-AF74-BA73F16C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714-2467-4F42-9685-BE01F599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06A-7AE4-4D69-933E-DF7EF17B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F99-A56C-490F-836A-53EE9694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ED5-5ACB-46D8-A354-0831DFD1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2EE-0D92-4819-821B-AB57C74E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856-8F8A-4DCA-866C-F3DFAB13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9F1-3322-474A-9FEB-15209C9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BDB-68CC-4381-9B21-4F96138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C53E-6606-4A1C-A757-A9EF2BD8E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3564000" y="1197000"/>
            <a:ext cx="4753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出 塞</a:t>
            </a:r>
            <a:endParaRPr b="1" lang="en-US" sz="8000" spc="1" strike="noStrike">
              <a:ln w="9360">
                <a:solidFill>
                  <a:srgbClr val="ff0000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300480" y="3645000"/>
            <a:ext cx="52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（唐）王昌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272400" y="53402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3492360" y="40464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领悟全诗</a:t>
            </a:r>
            <a:endParaRPr b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0" y="1773360"/>
            <a:ext cx="914400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是一首描写（                  ） 生活的诗。这首诗反映出对（              ）的将士们久征未归的（                  ）之情， 表达了希望（                ）起任良将，早日平息（                      ）战争，使（                  ）得到安宁，人民过上（           ）生活的美好心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423288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军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17340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驻守边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869760" y="350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无比哀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7333920" y="3500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朝 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5101920" y="4292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边 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1212480" y="50133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国 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7258680" y="501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幸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31"/>
          <p:cNvPicPr/>
          <p:nvPr/>
        </p:nvPicPr>
        <p:blipFill>
          <a:blip r:embed="rId2"/>
          <a:stretch/>
        </p:blipFill>
        <p:spPr>
          <a:xfrm>
            <a:off x="108000" y="0"/>
            <a:ext cx="66672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59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09022521352698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5656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品读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92480" y="901800"/>
            <a:ext cx="36507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</a:rPr>
              <a:t>出  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4200" spc="-1" strike="noStrike">
                <a:solidFill>
                  <a:srgbClr val="3333ff"/>
                </a:solidFill>
                <a:latin typeface="Arial"/>
              </a:rPr>
              <a:t>（唐）王昌龄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秦时明月 汉时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万里长征 人未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但使龙城 飞将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不教胡马 度阴山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>
            <a:off x="4858920" y="2708280"/>
            <a:ext cx="142920" cy="72072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H="1">
            <a:off x="4932000" y="3573360"/>
            <a:ext cx="142920" cy="72072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H="1">
            <a:off x="4858920" y="5157720"/>
            <a:ext cx="142920" cy="72072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4858920" y="4365720"/>
            <a:ext cx="142920" cy="72072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31"/>
          <p:cNvPicPr/>
          <p:nvPr/>
        </p:nvPicPr>
        <p:blipFill>
          <a:blip r:embed="rId2"/>
          <a:stretch/>
        </p:blipFill>
        <p:spPr>
          <a:xfrm>
            <a:off x="0" y="4581360"/>
            <a:ext cx="66672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59"/>
          <p:cNvPicPr/>
          <p:nvPr/>
        </p:nvPicPr>
        <p:blipFill>
          <a:blip r:embed="rId3"/>
          <a:stretch/>
        </p:blipFill>
        <p:spPr>
          <a:xfrm>
            <a:off x="8532720" y="260280"/>
            <a:ext cx="762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20090225213526987"/>
          <p:cNvPicPr/>
          <p:nvPr/>
        </p:nvPicPr>
        <p:blipFill>
          <a:blip r:embed="rId1"/>
          <a:stretch/>
        </p:blipFill>
        <p:spPr>
          <a:xfrm>
            <a:off x="-32400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51800" y="476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83160" y="1844640"/>
            <a:ext cx="3124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从军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唐）王昌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海长云暗雪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孤城遥望玉门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沙百战穿金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破楼兰终不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788000" y="1844640"/>
            <a:ext cx="468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凉州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唐）王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葡萄美酒夜光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欲饮琵琶马上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醉卧沙场君莫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古来征战几人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31"/>
          <p:cNvPicPr/>
          <p:nvPr/>
        </p:nvPicPr>
        <p:blipFill>
          <a:blip r:embed="rId2"/>
          <a:stretch/>
        </p:blipFill>
        <p:spPr>
          <a:xfrm>
            <a:off x="-181080" y="4797360"/>
            <a:ext cx="66672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59"/>
          <p:cNvPicPr/>
          <p:nvPr/>
        </p:nvPicPr>
        <p:blipFill>
          <a:blip r:embed="rId3"/>
          <a:stretch/>
        </p:blipFill>
        <p:spPr>
          <a:xfrm>
            <a:off x="8532720" y="189000"/>
            <a:ext cx="762120" cy="285732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"/>
          <p:cNvSpPr/>
          <p:nvPr/>
        </p:nvSpPr>
        <p:spPr>
          <a:xfrm>
            <a:off x="2662200" y="873000"/>
            <a:ext cx="57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67EB-A639-4817-96B1-67474F2A24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Arial"/>
              </a:rPr>
              <a:t>王昌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799164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唐朝著名边塞诗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诗家天子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七绝圣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王昌龄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0090423180109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967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419640" y="692280"/>
            <a:ext cx="21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Arial"/>
              </a:rPr>
              <a:t>王昌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 flipH="1">
            <a:off x="2180520" y="2205000"/>
            <a:ext cx="8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627280" y="191628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700360" y="177336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唐朝著名边塞诗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诗家天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七绝圣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u=2733538738,628448945&amp;fm=52&amp;gp=0"/>
          <p:cNvPicPr/>
          <p:nvPr/>
        </p:nvPicPr>
        <p:blipFill>
          <a:blip r:embed="rId2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20100213194532-811372777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=3093211308,690413752&amp;fm=52&amp;gp=0"/>
          <p:cNvPicPr/>
          <p:nvPr/>
        </p:nvPicPr>
        <p:blipFill>
          <a:blip r:embed="rId4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u=2544823323,4112405503&amp;fm=52&amp;gp=0"/>
          <p:cNvPicPr/>
          <p:nvPr/>
        </p:nvPicPr>
        <p:blipFill>
          <a:blip r:embed="rId5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"/>
          <p:cNvSpPr/>
          <p:nvPr/>
        </p:nvSpPr>
        <p:spPr>
          <a:xfrm>
            <a:off x="250920" y="580536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302560" y="1484280"/>
            <a:ext cx="440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出塞，是古代乐府中的一种军歌，主要用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反映边塞军旅生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边塞诗是唐代的诗歌流派之一，王昌龄的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有很多是反映边塞生活的，这首是他的代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边塞诗的代表诗人有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高适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王之涣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王昌龄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出塞：乐府旧题。塞，边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出塞，就是到边防线去守卫边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xin_18310052811307812145930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255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200400" y="380880"/>
            <a:ext cx="295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00ff"/>
                </a:solidFill>
                <a:latin typeface="Times New Roman"/>
                <a:ea typeface="黑体"/>
              </a:rPr>
              <a:t>出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41656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8784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427640" y="1773360"/>
            <a:ext cx="23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唐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王昌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268360" y="24210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秦时明月汉时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268360" y="3357720"/>
            <a:ext cx="56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万里长征人未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2286000" y="42670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但使龙城飞将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2286000" y="51814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不教胡马度阴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0031923234872906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60020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7200" y="27468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秦时明月汉时关”描写了怎样的景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38420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808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8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50920" y="2349360"/>
            <a:ext cx="468144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静静的月夜，守卫边关的战士们面对边塞荒凉的关山，孤寂凄清，举头望见那千里与共的明月，思念起故乡的亲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497_1257332047kEUF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26420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象：久未回家的边关战士，面对明月会想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200920" y="2041560"/>
            <a:ext cx="3083760" cy="51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战士对战争的怨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家乡和亲人的思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和平的期待。）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句诗句反映了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守卫边疆的将士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久征未能回家的无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哀叹和同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a13b835bf230cb1a71e12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981440" y="404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李广将军资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u=3967655408,3224218361&amp;fm=51&amp;gp=0"/>
          <p:cNvPicPr/>
          <p:nvPr/>
        </p:nvPicPr>
        <p:blipFill>
          <a:blip r:embed="rId2"/>
          <a:stretch/>
        </p:blipFill>
        <p:spPr>
          <a:xfrm>
            <a:off x="5148360" y="260280"/>
            <a:ext cx="3995640" cy="5616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324000" y="1125360"/>
            <a:ext cx="49528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西汉著名军事将领。射得一手好箭，以打硬仗而闻名。他一生皆在边关御敌，以骁勇善射，智谋超群著称。他曾经与匈奴交战七十多次，每次制敌先机，匈奴称他为“飞将军”。武帝在位时派他镇守右北平，匈奴听说他来了，都畏惧得争相逃避，多年不敢侵入境内。他一生为人清廉，爱兵如子。他每得奖赏就和士卒共享。士卒不尽饮他不近水边；士卒不吃饱，他绝不先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深受边关军民的爱戴，在历代的边疆士兵中有着崇高的威望，是一位“才气天下无双”的将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20090423180014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279080" y="476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全诗大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081520" y="1844640"/>
            <a:ext cx="438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汉以来，明月就是这样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耀着边塞，离家万里的将士始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能回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如果有李广这样的将军立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阵前，一定不会让敌人的铁蹄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阴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31"/>
          <p:cNvPicPr/>
          <p:nvPr/>
        </p:nvPicPr>
        <p:blipFill>
          <a:blip r:embed="rId2"/>
          <a:stretch/>
        </p:blipFill>
        <p:spPr>
          <a:xfrm>
            <a:off x="108000" y="115920"/>
            <a:ext cx="666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2:39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3:00Z</dcterms:modified>
  <cp:revision>9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