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E6EA-0762-4C3A-8531-7FE408429A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A769-E505-4FDD-82D8-4E24657506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F292-B434-4952-BB2C-E32618D58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FF7D-3A36-4759-A86D-07C131BB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57DC-24F4-4EF5-AD89-1F740F1A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2043-C77D-4DE8-9FD1-697381B0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A974-26B7-4980-932B-D62A73AF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B8AD-D965-41AB-BAF0-F35ADCD6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8E78-78C5-4645-AD61-AF4C5727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58E7-EFFC-481C-83ED-5BA4EDC4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0B8-F698-44D9-87B1-1FAF1BC3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1B85-767C-4226-B35B-FE3D9FAC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C2C-6CFB-46EA-B95C-DADC823C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40B8-515D-4765-9DD4-0D63941B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EE54-7355-4BCF-AB36-A9AB14D9FC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341520" y="126684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康方圆体W7"/>
                <a:ea typeface="华康方圆体W7"/>
              </a:rPr>
              <a:t>春 天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5" descr=""/>
          <p:cNvPicPr/>
          <p:nvPr/>
        </p:nvPicPr>
        <p:blipFill>
          <a:blip r:embed="rId2"/>
          <a:stretch/>
        </p:blipFill>
        <p:spPr>
          <a:xfrm>
            <a:off x="2254320" y="5867280"/>
            <a:ext cx="476892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004"/>
          <p:cNvPicPr/>
          <p:nvPr/>
        </p:nvPicPr>
        <p:blipFill>
          <a:blip r:embed="rId1"/>
          <a:stretch/>
        </p:blipFill>
        <p:spPr>
          <a:xfrm>
            <a:off x="266760" y="380880"/>
            <a:ext cx="8610480" cy="54500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4115880" y="6019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绿的柳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003"/>
          <p:cNvPicPr/>
          <p:nvPr/>
        </p:nvPicPr>
        <p:blipFill>
          <a:blip r:embed="rId1"/>
          <a:stretch/>
        </p:blipFill>
        <p:spPr>
          <a:xfrm>
            <a:off x="723960" y="380880"/>
            <a:ext cx="7696080" cy="5532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4115880" y="6095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白的梨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287800" y="3154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春天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176720" y="21366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彩色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/>
          <p:cNvSpPr/>
          <p:nvPr/>
        </p:nvSpPr>
        <p:spPr>
          <a:xfrm>
            <a:off x="3581280" y="2362320"/>
            <a:ext cx="152640" cy="2133360"/>
          </a:xfrm>
          <a:custGeom>
            <a:avLst/>
            <a:gdLst>
              <a:gd name="textAreaLeft" fmla="*/ 97560 w 152640"/>
              <a:gd name="textAreaRight" fmla="*/ 153000 w 15264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3"/>
          <p:cNvSpPr/>
          <p:nvPr/>
        </p:nvSpPr>
        <p:spPr>
          <a:xfrm>
            <a:off x="380880" y="380880"/>
            <a:ext cx="3124440" cy="1828800"/>
          </a:xfrm>
          <a:prstGeom prst="cloudCallout">
            <a:avLst>
              <a:gd name="adj1" fmla="val -48731"/>
              <a:gd name="adj2" fmla="val 66407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这些动听的声音你听见过吗？你还听过哪些“春之声”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932560" y="1905120"/>
            <a:ext cx="254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春天像本动听的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春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léi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轰隆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春雨滴滴答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燕子唧唧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青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qīnɡ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蛙呱呱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449360" y="12952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春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668680" y="129528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轰隆隆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4343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6021360" y="12952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鼓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449360" y="23781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春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668680" y="237816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滴滴答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4343400" y="2698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6173640" y="23781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电子琴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49360" y="3505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燕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668680" y="35053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唧唧唧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4343400" y="3825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6021360" y="3505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歌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1449360" y="45878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青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2668680" y="458784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呱呱呱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4343400" y="4908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6021360" y="458784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号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87800" y="3154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春天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176720" y="21366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彩色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176720" y="310824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动听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3581280" y="2362320"/>
            <a:ext cx="152640" cy="2133360"/>
          </a:xfrm>
          <a:custGeom>
            <a:avLst/>
            <a:gdLst>
              <a:gd name="textAreaLeft" fmla="*/ 97560 w 152640"/>
              <a:gd name="textAreaRight" fmla="*/ 153000 w 15264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3"/>
          <p:cNvSpPr/>
          <p:nvPr/>
        </p:nvSpPr>
        <p:spPr>
          <a:xfrm>
            <a:off x="5486400" y="304920"/>
            <a:ext cx="2971800" cy="1752480"/>
          </a:xfrm>
          <a:prstGeom prst="cloudCallout">
            <a:avLst>
              <a:gd name="adj1" fmla="val 50162"/>
              <a:gd name="adj2" fmla="val 68476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说说你最喜欢哪一句？为什么喜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135240" y="1905120"/>
            <a:ext cx="183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春天像本微笑的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hí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塘笑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酒窝圆又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孩子笑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咧开小嘴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287800" y="3154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春天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176720" y="21366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彩色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176720" y="310824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动听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4176720" y="411480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微笑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370560" y="315432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3581280" y="2362320"/>
            <a:ext cx="152640" cy="2133360"/>
          </a:xfrm>
          <a:custGeom>
            <a:avLst/>
            <a:gdLst>
              <a:gd name="textAreaLeft" fmla="*/ 97560 w 152640"/>
              <a:gd name="textAreaRight" fmla="*/ 153000 w 15264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5486400" y="236232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1830240" y="2270160"/>
            <a:ext cx="551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彩笔　　彩旗　　彩虹　　迎接　　欢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830240" y="3657600"/>
            <a:ext cx="551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柳树　　柳条　　柳叶　　红花　　红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"/>
          <p:cNvSpPr/>
          <p:nvPr/>
        </p:nvSpPr>
        <p:spPr>
          <a:xfrm>
            <a:off x="220680" y="5238720"/>
            <a:ext cx="870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8"/>
          <p:cNvSpPr/>
          <p:nvPr/>
        </p:nvSpPr>
        <p:spPr>
          <a:xfrm>
            <a:off x="2627280" y="2335320"/>
            <a:ext cx="4181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</a:rPr>
              <a:t>彩  迎  柳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2438280" y="1981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cǎ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4312440" y="19051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yín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6381000" y="1905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li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ShockwaveFlash6" descr=""/>
          <p:cNvPicPr/>
          <p:nvPr/>
        </p:nvPicPr>
        <p:blipFill>
          <a:blip r:embed="rId2"/>
          <a:stretch/>
        </p:blipFill>
        <p:spPr>
          <a:xfrm>
            <a:off x="2590920" y="3505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ShockwaveFlash7" descr=""/>
          <p:cNvPicPr/>
          <p:nvPr/>
        </p:nvPicPr>
        <p:blipFill>
          <a:blip r:embed="rId3"/>
          <a:stretch/>
        </p:blipFill>
        <p:spPr>
          <a:xfrm>
            <a:off x="4419720" y="3505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ShockwaveFlash8" descr=""/>
          <p:cNvPicPr/>
          <p:nvPr/>
        </p:nvPicPr>
        <p:blipFill>
          <a:blip r:embed="rId4"/>
          <a:stretch/>
        </p:blipFill>
        <p:spPr>
          <a:xfrm>
            <a:off x="6400800" y="35053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01"/>
          <p:cNvPicPr/>
          <p:nvPr/>
        </p:nvPicPr>
        <p:blipFill>
          <a:blip r:embed="rId1"/>
          <a:stretch/>
        </p:blipFill>
        <p:spPr>
          <a:xfrm>
            <a:off x="514440" y="685800"/>
            <a:ext cx="8115120" cy="5492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100040" y="6248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春天景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导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3922920" y="1981080"/>
            <a:ext cx="12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结　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F03F-0208-4CA7-ABDE-F2AF74DAA68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4100040" y="6172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春天景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02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895120" y="2209680"/>
            <a:ext cx="384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hū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天像本彩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ǎi)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色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sè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的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黄的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yínɡ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春花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红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hónɡ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的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桃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áo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花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绿的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liǔ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白的梨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4253040" y="5176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春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932560" y="1905120"/>
            <a:ext cx="254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春天像本动听的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春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雷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léi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轰隆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春雨滴滴答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燕子唧唧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青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qīnɡ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蛙呱呱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135240" y="1905120"/>
            <a:ext cx="183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春天像本微笑的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</a:rPr>
              <a:t>池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hí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塘笑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酒窝圆又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孩子笑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咧开小嘴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253040" y="5176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</a:rPr>
              <a:t>春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685800" y="380880"/>
            <a:ext cx="2743200" cy="1600200"/>
          </a:xfrm>
          <a:prstGeom prst="cloudCallout">
            <a:avLst>
              <a:gd name="adj1" fmla="val -46467"/>
              <a:gd name="adj2" fmla="val 59324"/>
            </a:avLst>
          </a:prstGeom>
          <a:solidFill>
            <a:srgbClr val="ff99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春姑娘究竟带来了哪些礼物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895120" y="2209680"/>
            <a:ext cx="384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hūn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天像本彩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ǎi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色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sè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的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黄的迎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yínɡ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春花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红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hónɡ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的桃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táo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花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绿的柳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liǔ)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</a:rPr>
              <a:t>白的梨花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课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002"/>
          <p:cNvPicPr/>
          <p:nvPr/>
        </p:nvPicPr>
        <p:blipFill>
          <a:blip r:embed="rId1"/>
          <a:stretch/>
        </p:blipFill>
        <p:spPr>
          <a:xfrm>
            <a:off x="990720" y="685800"/>
            <a:ext cx="7162560" cy="5148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4024440" y="6095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黄的迎春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001"/>
          <p:cNvPicPr/>
          <p:nvPr/>
        </p:nvPicPr>
        <p:blipFill>
          <a:blip r:embed="rId1"/>
          <a:stretch/>
        </p:blipFill>
        <p:spPr>
          <a:xfrm>
            <a:off x="361800" y="304920"/>
            <a:ext cx="8420400" cy="59212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4115880" y="6248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红的桃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6:03:12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29:07Z</dcterms:modified>
  <cp:revision>11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