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laser.wav" ContentType="audio/x-wav"/>
  <Override PartName="/ppt/media/image4.png" ContentType="image/png"/>
  <Override PartName="/ppt/media/image9.png" ContentType="image/png"/>
  <Override PartName="/ppt/media/image8.png" ContentType="image/png"/>
  <Override PartName="/ppt/media/type.wav" ContentType="audio/x-wav"/>
  <Override PartName="/ppt/media/image5.png" ContentType="image/png"/>
  <Override PartName="/ppt/media/image10.png" ContentType="image/png"/>
  <Override PartName="/ppt/media/suction.wav" ContentType="audio/x-wav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12.jpeg" ContentType="image/jpeg"/>
  <Override PartName="/ppt/media/hamm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18BA-A3A1-4CE2-953E-DF1D4558509F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E4DA-94F9-45BF-8416-513B6B430225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525C-8D81-48AE-AFD6-D3F4DE47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75AB-45BF-45FE-8BE6-53BE9097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7E41-5AF2-43EC-A432-53602288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F6A-2D55-46F5-9964-1D77CDE3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BF31-B6FA-4119-8197-DA7C3570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2290-7F95-41A3-9F98-01BA856D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E73D-EB4C-45DE-BF5C-9DED0C73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A2A4-C46D-4181-9079-23B33372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B654-F2DD-4398-8DA3-358E50A3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5980-4B32-4FE4-9765-02E4BD93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17EC-04D0-42F7-8658-99EF4230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0EB-CC53-4DA9-9A12-49BF37B1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51BC-4C19-49FB-A3AE-FD5F06CF700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dodosc.com/Html/tupian/tb/507671369700.html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sc.chinaz.com/html/icons/downpage/959549910.htm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www.dodosc.com/Html/tupian/tb/507671369700.html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www.dodosc.com/Html/tupian/tb/507671369700.html" TargetMode="Externa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odosc.com/Html/tupian/tb/507671369700.html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sc.chinaz.com/html/icons/downpage/959549910.htm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www.dodosc.com/Html/tupian/tb/507671369700.html" TargetMode="External"/><Relationship Id="rId7" Type="http://schemas.openxmlformats.org/officeDocument/2006/relationships/image" Target="../media/image5.png"/><Relationship Id="rId8" Type="http://schemas.openxmlformats.org/officeDocument/2006/relationships/hyperlink" Target="http://www.dodosc.com/Html/tupian/tb/507671369700.html" TargetMode="Externa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odosc.com/Html/tupian/tb/507671369700.html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sc.chinaz.com/html/icons/downpage/959549910.htm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www.dodosc.com/Html/tupian/tb/507671369700.html" TargetMode="External"/><Relationship Id="rId7" Type="http://schemas.openxmlformats.org/officeDocument/2006/relationships/image" Target="../media/image5.png"/><Relationship Id="rId8" Type="http://schemas.openxmlformats.org/officeDocument/2006/relationships/hyperlink" Target="http://www.dodosc.com/Html/tupian/tb/507671369700.html" TargetMode="Externa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slide22.xml"/><Relationship Id="rId4" Type="http://schemas.openxmlformats.org/officeDocument/2006/relationships/image" Target="../media/image11.png"/><Relationship Id="rId5" Type="http://schemas.openxmlformats.org/officeDocument/2006/relationships/slide" Target="slide22.xml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ordArt 4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7344000" cy="1792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200803181249159462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0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chinaz1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1890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200803181249152059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164360" y="260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200803181249153806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1280" y="260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3" name="矩形 7" descr=""/>
          <p:cNvPicPr/>
          <p:nvPr/>
        </p:nvPicPr>
        <p:blipFill>
          <a:blip r:embed="rId11"/>
          <a:stretch/>
        </p:blipFill>
        <p:spPr>
          <a:xfrm>
            <a:off x="1865160" y="5746680"/>
            <a:ext cx="5500800" cy="4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36960" y="298440"/>
            <a:ext cx="164052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理解词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甘霖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呼之欲出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124000" y="12682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61616"/>
                </a:solidFill>
                <a:latin typeface="Verdana"/>
              </a:rPr>
              <a:t>指久旱以后所下的雨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908000" y="2060640"/>
            <a:ext cx="700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61616"/>
                </a:solidFill>
                <a:latin typeface="Verdana"/>
              </a:rPr>
              <a:t>指人像等画得逼真，似乎叫他一声他就会从画里走出来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61616"/>
                </a:solidFill>
                <a:latin typeface="Verdana"/>
              </a:rPr>
              <a:t>泛指文学作品中人物的描写十分生动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116000" y="407664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寒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161616"/>
                </a:solidFill>
                <a:latin typeface="Arial"/>
              </a:rPr>
              <a:t>见面时谈天气冷暖之类的应酬话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900000" y="4941720"/>
            <a:ext cx="82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老生常谈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161616"/>
                </a:solidFill>
                <a:latin typeface="宋体"/>
              </a:rPr>
              <a:t>成语</a:t>
            </a:r>
            <a:r>
              <a:rPr b="1" lang="en-US" sz="3200" spc="-1" strike="noStrike">
                <a:solidFill>
                  <a:srgbClr val="161616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161616"/>
                </a:solidFill>
                <a:latin typeface="宋体"/>
              </a:rPr>
              <a:t>老书生的平凡议论</a:t>
            </a:r>
            <a:r>
              <a:rPr b="1" lang="en-US" sz="3200" spc="-1" strike="noStrike">
                <a:solidFill>
                  <a:srgbClr val="161616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161616"/>
                </a:solidFill>
                <a:latin typeface="宋体"/>
              </a:rPr>
              <a:t>比喻没有新意的老话</a:t>
            </a:r>
            <a:r>
              <a:rPr b="1" lang="en-US" sz="3200" spc="-1" strike="noStrike">
                <a:solidFill>
                  <a:srgbClr val="161616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590480" y="611280"/>
            <a:ext cx="603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诙谐：</a:t>
            </a:r>
            <a:r>
              <a:rPr b="1" lang="zh-CN" sz="3200" spc="-1" strike="noStrike">
                <a:solidFill>
                  <a:srgbClr val="161616"/>
                </a:solidFill>
                <a:latin typeface="Arial"/>
              </a:rPr>
              <a:t>说话有风趣，引人发笑．　　　　　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87280" y="1282680"/>
            <a:ext cx="81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正襟危坐：</a:t>
            </a:r>
            <a:r>
              <a:rPr b="1" lang="zh-CN" sz="3200" spc="-1" strike="noStrike">
                <a:solidFill>
                  <a:srgbClr val="161616"/>
                </a:solidFill>
                <a:latin typeface="Arial"/>
              </a:rPr>
              <a:t>成语．正，使不歪斜．襟，衣襟，危，端正．理好衣襟端端正正地坐着．形容严肃．恭敬或拘谨的样子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60360" y="300996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苟言笑：</a:t>
            </a:r>
            <a:r>
              <a:rPr b="1" lang="zh-CN" sz="3200" spc="-1" strike="noStrike">
                <a:solidFill>
                  <a:srgbClr val="161616"/>
                </a:solidFill>
                <a:latin typeface="Arial"/>
              </a:rPr>
              <a:t>成语．苟，随便．不随便说笑．形容态度庄严．严肃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87280" y="4235400"/>
            <a:ext cx="84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61616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异曲同工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161616"/>
                </a:solidFill>
                <a:latin typeface="Arial"/>
              </a:rPr>
              <a:t>成语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161616"/>
                </a:solidFill>
                <a:latin typeface="Arial"/>
              </a:rPr>
              <a:t>工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161616"/>
                </a:solidFill>
                <a:latin typeface="Arial"/>
              </a:rPr>
              <a:t>工巧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161616"/>
                </a:solidFill>
                <a:latin typeface="Arial"/>
              </a:rPr>
              <a:t>精致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161616"/>
                </a:solidFill>
                <a:latin typeface="Arial"/>
              </a:rPr>
              <a:t>不同的曲调演得同样好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161616"/>
                </a:solidFill>
                <a:latin typeface="Arial"/>
              </a:rPr>
              <a:t>比喻不同的人的辞章或言论同样精彩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161616"/>
                </a:solidFill>
                <a:latin typeface="Arial"/>
              </a:rPr>
              <a:t>或者不同的做法收到同样好的效果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95280" y="271152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活灵活现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161616"/>
                </a:solidFill>
                <a:latin typeface="Arial"/>
              </a:rPr>
              <a:t>成语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161616"/>
                </a:solidFill>
                <a:latin typeface="Arial"/>
              </a:rPr>
              <a:t>活生生地出现在眼前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161616"/>
                </a:solidFill>
                <a:latin typeface="Arial"/>
              </a:rPr>
              <a:t>形容描述或模仿的人或事物生动逼真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611280" y="4149720"/>
            <a:ext cx="82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平 铺直叙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161616"/>
                </a:solidFill>
                <a:latin typeface="Arial"/>
              </a:rPr>
              <a:t>成语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161616"/>
                </a:solidFill>
                <a:latin typeface="Arial"/>
              </a:rPr>
              <a:t>铺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161616"/>
                </a:solidFill>
                <a:latin typeface="Arial"/>
              </a:rPr>
              <a:t>铺陈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161616"/>
                </a:solidFill>
                <a:latin typeface="Arial"/>
              </a:rPr>
              <a:t>叙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161616"/>
                </a:solidFill>
                <a:latin typeface="Arial"/>
              </a:rPr>
              <a:t>叙述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161616"/>
                </a:solidFill>
                <a:latin typeface="Arial"/>
              </a:rPr>
              <a:t>说话或写文章时不讲求修辞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161616"/>
                </a:solidFill>
                <a:latin typeface="Arial"/>
              </a:rPr>
              <a:t>只把意思简单而 直接地叙述出来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161616"/>
                </a:solidFill>
                <a:latin typeface="Arial"/>
              </a:rPr>
              <a:t>现常形容说话或写文章平淡无味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161616"/>
                </a:solidFill>
                <a:latin typeface="Arial"/>
              </a:rPr>
              <a:t>跌宕起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11280" y="620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异曲同工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成语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工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工巧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精致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不同的曲调演得同样好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比喻不同的人的辞章或言论同样精彩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或者不同的做法收到同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好的效果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324000" y="76644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61616"/>
                </a:solidFill>
                <a:latin typeface="Verdana"/>
              </a:rPr>
              <a:t>刘邦</a:t>
            </a:r>
            <a:r>
              <a:rPr b="1" lang="en-US" sz="3200" spc="-1" strike="noStrike">
                <a:solidFill>
                  <a:srgbClr val="161616"/>
                </a:solidFill>
                <a:latin typeface="Verdana"/>
              </a:rPr>
              <a:t>《</a:t>
            </a:r>
            <a:r>
              <a:rPr b="1" lang="zh-CN" sz="3200" spc="-1" strike="noStrike">
                <a:solidFill>
                  <a:srgbClr val="161616"/>
                </a:solidFill>
                <a:latin typeface="Verdana"/>
              </a:rPr>
              <a:t>大风歌</a:t>
            </a:r>
            <a:r>
              <a:rPr b="1" lang="en-US" sz="3200" spc="-1" strike="noStrike">
                <a:solidFill>
                  <a:srgbClr val="161616"/>
                </a:solidFill>
                <a:latin typeface="Verdana"/>
              </a:rPr>
              <a:t>》 </a:t>
            </a:r>
            <a:br>
              <a:rPr sz="3200"/>
            </a:br>
            <a:r>
              <a:rPr b="1" lang="zh-CN" sz="3200" spc="-1" strike="noStrike">
                <a:solidFill>
                  <a:srgbClr val="0000cc"/>
                </a:solidFill>
                <a:latin typeface="Verdana"/>
                <a:ea typeface="黑体"/>
              </a:rPr>
              <a:t>大风起兮云飞扬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，</a:t>
            </a:r>
            <a:r>
              <a:rPr b="1" lang="zh-CN" sz="3200" spc="-1" strike="noStrike">
                <a:solidFill>
                  <a:srgbClr val="161616"/>
                </a:solidFill>
                <a:latin typeface="Verdana"/>
              </a:rPr>
              <a:t>威加海内兮归故乡。安得猛士兮守四方！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24000" y="383688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61616"/>
                </a:solidFill>
                <a:latin typeface="Verdana"/>
              </a:rPr>
              <a:t>荆柯在去刺杀秦王前，他的好友高渐离在易水边为他送别时唱的歌： </a:t>
            </a:r>
            <a:br>
              <a:rPr sz="3200"/>
            </a:br>
            <a:r>
              <a:rPr b="1" lang="zh-CN" sz="3200" spc="-1" strike="noStrike">
                <a:solidFill>
                  <a:srgbClr val="0000cc"/>
                </a:solidFill>
                <a:latin typeface="Verdana"/>
                <a:ea typeface="黑体"/>
              </a:rPr>
              <a:t>风萧萧兮易水寒</a:t>
            </a:r>
            <a:r>
              <a:rPr b="1" lang="zh-CN" sz="3200" spc="-1" strike="noStrike">
                <a:solidFill>
                  <a:srgbClr val="161616"/>
                </a:solidFill>
                <a:latin typeface="Verdana"/>
              </a:rPr>
              <a:t>，壮士一去兮不复返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24000" y="248724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Verdana"/>
              </a:rPr>
              <a:t>意思是：大风吹起啊白云在天飞扬，权威笼盖天下啊回到故乡。哪里得到猛士啊守卫四方</a:t>
            </a: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!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24000" y="538560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c00000"/>
                </a:solidFill>
                <a:latin typeface="Verdana"/>
              </a:rPr>
              <a:t>意思是：风声萧萧地吹啊，易水寒气袭人，壮士在此远去啊，不完成任务誓不回还！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WordArt 8"/>
          <p:cNvSpPr txBox="1"/>
          <p:nvPr/>
        </p:nvSpPr>
        <p:spPr>
          <a:xfrm>
            <a:off x="5724360" y="44280"/>
            <a:ext cx="302436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c000"/>
                </a:soli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古诗词理解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c000"/>
              </a:soli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523800" y="1052640"/>
            <a:ext cx="86202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dāng(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当地、当时）      降 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jiàng(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下降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当 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dàng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（上当、当铺）        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xiáng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（投降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调  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diào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（音调、调动）      择</a:t>
            </a: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zhái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（择菜</a:t>
            </a: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tiáo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（调节、调整）          </a:t>
            </a: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zé   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（选择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了 </a:t>
            </a: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lē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（走了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li</a:t>
            </a:r>
            <a:r>
              <a:rPr b="1" lang="en-US" sz="3600" spc="-1" strike="noStrike">
                <a:solidFill>
                  <a:srgbClr val="161616"/>
                </a:solidFill>
                <a:latin typeface="Verdana"/>
              </a:rPr>
              <a:t>ǎ</a:t>
            </a: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o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了解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便</a:t>
            </a: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biàn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方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pián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便宜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1258200" y="115920"/>
            <a:ext cx="790200" cy="8251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54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一字多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995640" y="3559320"/>
            <a:ext cx="7345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折</a:t>
            </a: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zhé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（ 打折     折射</a:t>
            </a: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)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zhē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（折腾     折跟头</a:t>
            </a: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)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shé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（折本     枝折花落</a:t>
            </a: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820600" y="2286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Verdana"/>
                <a:ea typeface="黑体"/>
              </a:rPr>
              <a:t>找出句子中的反义词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100400" y="13413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616"/>
                </a:solidFill>
                <a:latin typeface="Verdana"/>
              </a:rPr>
              <a:t>紧凑之中有松弛，平淡之中见突兀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755640" y="206064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060720" y="2060640"/>
            <a:ext cx="719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4473720" y="1989000"/>
            <a:ext cx="602640" cy="144360"/>
            <a:chOff x="4473720" y="1989000"/>
            <a:chExt cx="602640" cy="144360"/>
          </a:xfrm>
        </p:grpSpPr>
        <p:sp>
          <p:nvSpPr>
            <p:cNvPr id="149" name="AutoShape 6"/>
            <p:cNvSpPr/>
            <p:nvPr/>
          </p:nvSpPr>
          <p:spPr>
            <a:xfrm>
              <a:off x="4473720" y="1989000"/>
              <a:ext cx="144000" cy="144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4932000" y="1989000"/>
              <a:ext cx="144360" cy="144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1" name="Group 9"/>
          <p:cNvGrpSpPr/>
          <p:nvPr/>
        </p:nvGrpSpPr>
        <p:grpSpPr>
          <a:xfrm>
            <a:off x="6732720" y="1989000"/>
            <a:ext cx="647640" cy="144360"/>
            <a:chOff x="6732720" y="1989000"/>
            <a:chExt cx="647640" cy="144360"/>
          </a:xfrm>
        </p:grpSpPr>
        <p:sp>
          <p:nvSpPr>
            <p:cNvPr id="152" name="AutoShape 8"/>
            <p:cNvSpPr/>
            <p:nvPr/>
          </p:nvSpPr>
          <p:spPr>
            <a:xfrm>
              <a:off x="6732720" y="1989000"/>
              <a:ext cx="144360" cy="144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3" name="AutoShape 9"/>
            <p:cNvSpPr/>
            <p:nvPr/>
          </p:nvSpPr>
          <p:spPr>
            <a:xfrm>
              <a:off x="7236000" y="1989000"/>
              <a:ext cx="144360" cy="144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4" name="Text Box 12"/>
          <p:cNvSpPr/>
          <p:nvPr/>
        </p:nvSpPr>
        <p:spPr>
          <a:xfrm>
            <a:off x="303120" y="3281400"/>
            <a:ext cx="89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61616"/>
                </a:solidFill>
                <a:latin typeface="Verdana"/>
              </a:rPr>
              <a:t>盼望着，盼望着，东风来了，春天的脚步近了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451960" y="4724280"/>
            <a:ext cx="39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61616"/>
                </a:solidFill>
                <a:latin typeface="Verdana"/>
              </a:rPr>
              <a:t>这句话选自朱自清的</a:t>
            </a:r>
            <a:r>
              <a:rPr b="1" lang="en-US" sz="3200" spc="-1" strike="noStrike">
                <a:solidFill>
                  <a:srgbClr val="161616"/>
                </a:solidFill>
                <a:latin typeface="Verdana"/>
              </a:rPr>
              <a:t>《</a:t>
            </a:r>
            <a:r>
              <a:rPr b="1" lang="en-US" sz="3200" spc="-1" strike="noStrike" u="sng">
                <a:solidFill>
                  <a:srgbClr val="161616"/>
                </a:solidFill>
                <a:uFillTx/>
                <a:latin typeface="Verdana"/>
              </a:rPr>
              <a:t>        </a:t>
            </a:r>
            <a:r>
              <a:rPr b="1" lang="en-US" sz="3200" spc="-1" strike="noStrike">
                <a:solidFill>
                  <a:srgbClr val="161616"/>
                </a:solidFill>
                <a:latin typeface="Verdana"/>
              </a:rPr>
              <a:t>》</a:t>
            </a:r>
            <a:r>
              <a:rPr b="1" lang="zh-CN" sz="3200" spc="-1" strike="noStrike">
                <a:solidFill>
                  <a:srgbClr val="161616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5820840" y="4587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图片44"/>
          <p:cNvPicPr/>
          <p:nvPr/>
        </p:nvPicPr>
        <p:blipFill>
          <a:blip r:embed="rId2"/>
          <a:stretch/>
        </p:blipFill>
        <p:spPr>
          <a:xfrm>
            <a:off x="-316080" y="0"/>
            <a:ext cx="97459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3"/>
          <p:cNvGrpSpPr/>
          <p:nvPr/>
        </p:nvGrpSpPr>
        <p:grpSpPr>
          <a:xfrm>
            <a:off x="0" y="3303720"/>
            <a:ext cx="7482960" cy="3000960"/>
            <a:chOff x="0" y="3303720"/>
            <a:chExt cx="7482960" cy="3000960"/>
          </a:xfrm>
        </p:grpSpPr>
        <p:sp>
          <p:nvSpPr>
            <p:cNvPr id="159" name="Text Box 6"/>
            <p:cNvSpPr/>
            <p:nvPr/>
          </p:nvSpPr>
          <p:spPr>
            <a:xfrm>
              <a:off x="322560" y="3429000"/>
              <a:ext cx="7160400" cy="287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61616"/>
                  </a:solidFill>
                  <a:latin typeface="Verdana"/>
                </a:rPr>
                <a:t>讲究—随意    紧凑—松弛    平淡</a:t>
              </a:r>
              <a:r>
                <a:rPr b="1" lang="en-US" sz="2800" spc="-1" strike="noStrike">
                  <a:solidFill>
                    <a:srgbClr val="161616"/>
                  </a:solidFill>
                  <a:latin typeface="Verdana"/>
                </a:rPr>
                <a:t>—</a:t>
              </a:r>
              <a:r>
                <a:rPr b="1" lang="zh-CN" sz="2800" spc="-1" strike="noStrike">
                  <a:solidFill>
                    <a:srgbClr val="161616"/>
                  </a:solidFill>
                  <a:latin typeface="Verdana"/>
                </a:rPr>
                <a:t>曲折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61616"/>
                  </a:solidFill>
                  <a:latin typeface="Verdana"/>
                </a:rPr>
                <a:t>炎热—寒冷    醒目—模糊    诙谐</a:t>
              </a:r>
              <a:r>
                <a:rPr b="1" lang="en-US" sz="2800" spc="-1" strike="noStrike">
                  <a:solidFill>
                    <a:srgbClr val="161616"/>
                  </a:solidFill>
                  <a:latin typeface="Verdana"/>
                </a:rPr>
                <a:t>—</a:t>
              </a:r>
              <a:r>
                <a:rPr b="1" lang="zh-CN" sz="2800" spc="-1" strike="noStrike">
                  <a:solidFill>
                    <a:srgbClr val="161616"/>
                  </a:solidFill>
                  <a:latin typeface="Verdana"/>
                </a:rPr>
                <a:t>乏味 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61616"/>
                  </a:solidFill>
                  <a:latin typeface="Verdana"/>
                </a:rPr>
                <a:t>热情—冷漠    丰富—贫乏    枯燥—生动       平铺直叙—跌岩起伏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61616"/>
                  </a:solidFill>
                  <a:latin typeface="Verdana"/>
                </a:rPr>
                <a:t>不苟言笑—谈笑风生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61616"/>
                  </a:solidFill>
                  <a:latin typeface="Verdana"/>
                </a:rPr>
                <a:t>  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>
              <a:off x="0" y="3303720"/>
              <a:ext cx="7092360" cy="2430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1" name="Rectangle 5"/>
          <p:cNvSpPr/>
          <p:nvPr/>
        </p:nvSpPr>
        <p:spPr>
          <a:xfrm>
            <a:off x="2411280" y="615960"/>
            <a:ext cx="61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珍视—珍惜   光泽—色泽   吻合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符合        甘霖—甘露   简洁—简练  紧凑</a:t>
            </a: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紧密  平淡</a:t>
            </a: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平庸  突兀</a:t>
            </a: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突起   诙谐</a:t>
            </a: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幽默老生常谈</a:t>
            </a: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陈词滥调  活灵活现</a:t>
            </a: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栩栩如生不苟言笑</a:t>
            </a: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一本正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2340000" y="333360"/>
            <a:ext cx="6264360" cy="230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3" name="Group 8"/>
          <p:cNvGrpSpPr/>
          <p:nvPr/>
        </p:nvGrpSpPr>
        <p:grpSpPr>
          <a:xfrm>
            <a:off x="1042920" y="216000"/>
            <a:ext cx="720720" cy="2421000"/>
            <a:chOff x="1042920" y="216000"/>
            <a:chExt cx="720720" cy="2421000"/>
          </a:xfrm>
        </p:grpSpPr>
        <p:sp>
          <p:nvSpPr>
            <p:cNvPr id="164" name="Text Box 9"/>
            <p:cNvSpPr/>
            <p:nvPr/>
          </p:nvSpPr>
          <p:spPr>
            <a:xfrm>
              <a:off x="1114200" y="549360"/>
              <a:ext cx="5032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Verdana"/>
                </a:rPr>
                <a:t>近义词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5" name="AutoShape 10"/>
            <p:cNvSpPr/>
            <p:nvPr/>
          </p:nvSpPr>
          <p:spPr>
            <a:xfrm>
              <a:off x="1042920" y="216000"/>
              <a:ext cx="720720" cy="2421000"/>
            </a:xfrm>
            <a:prstGeom prst="wedgeEllipseCallout">
              <a:avLst>
                <a:gd name="adj1" fmla="val 118351"/>
                <a:gd name="adj2" fmla="val 35837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7667640" y="2924280"/>
            <a:ext cx="1008000" cy="2519280"/>
            <a:chOff x="7667640" y="2924280"/>
            <a:chExt cx="1008000" cy="2519280"/>
          </a:xfrm>
        </p:grpSpPr>
        <p:sp>
          <p:nvSpPr>
            <p:cNvPr id="167" name="Text Box 12"/>
            <p:cNvSpPr/>
            <p:nvPr/>
          </p:nvSpPr>
          <p:spPr>
            <a:xfrm>
              <a:off x="7810560" y="3429000"/>
              <a:ext cx="718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Verdana"/>
                </a:rPr>
                <a:t>反义词</a:t>
              </a: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8" name="AutoShape 13"/>
            <p:cNvSpPr/>
            <p:nvPr/>
          </p:nvSpPr>
          <p:spPr>
            <a:xfrm>
              <a:off x="7667640" y="2924280"/>
              <a:ext cx="1008000" cy="2519280"/>
            </a:xfrm>
            <a:prstGeom prst="wedgeEllipseCallout">
              <a:avLst>
                <a:gd name="adj1" fmla="val -95814"/>
                <a:gd name="adj2" fmla="val 42314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>
    <p:pull dir="r"/>
    <p:sndAc>
      <p:stSnd>
        <p:snd r:embed="rId3" name="type.wav"/>
      </p:stSnd>
    </p:sndAc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539640" y="1341360"/>
            <a:ext cx="8209080" cy="24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  <a:ea typeface="楷体_GB2312"/>
              </a:rPr>
              <a:t>学习课文</a:t>
            </a:r>
            <a:r>
              <a:rPr b="1" lang="en-US" sz="3200" spc="-1" strike="noStrike">
                <a:solidFill>
                  <a:srgbClr val="0000cc"/>
                </a:solidFill>
                <a:latin typeface="Verdana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  <a:ea typeface="楷体_GB2312"/>
              </a:rPr>
              <a:t>思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Verdana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161616"/>
                </a:solidFill>
                <a:latin typeface="Verdana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161616"/>
                </a:solidFill>
                <a:latin typeface="Verdana"/>
                <a:ea typeface="楷体_GB2312"/>
              </a:rPr>
              <a:t>、课文写了几个国家的预报员的预报内容？他们分别 用了哪些语言方式？观众的感受怎样？ 请找出有关语句读一读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Verdana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161616"/>
                </a:solidFill>
                <a:latin typeface="Verdana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161616"/>
                </a:solidFill>
                <a:latin typeface="Verdana"/>
                <a:ea typeface="楷体_GB2312"/>
              </a:rPr>
              <a:t>、你会播报天气预报吗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61616"/>
                </a:solidFill>
                <a:latin typeface="Verdana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4325400" y="1364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  <a:ea typeface="黑体"/>
              </a:rPr>
              <a:t>画出各国预报员使用的语言，编出序号，填写表格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24000" y="765000"/>
          <a:ext cx="8640720" cy="5904000"/>
        </p:xfrm>
        <a:graphic>
          <a:graphicData uri="http://schemas.openxmlformats.org/drawingml/2006/table">
            <a:tbl>
              <a:tblPr/>
              <a:tblGrid>
                <a:gridCol w="1015920"/>
                <a:gridCol w="1525680"/>
                <a:gridCol w="3578040"/>
                <a:gridCol w="2521080"/>
              </a:tblGrid>
              <a:tr h="72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编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国别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语言特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听众感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①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⑤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1476360" y="1484280"/>
            <a:ext cx="13669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新西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南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73"/>
          <p:cNvSpPr/>
          <p:nvPr/>
        </p:nvSpPr>
        <p:spPr>
          <a:xfrm>
            <a:off x="1585800" y="2333520"/>
            <a:ext cx="10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日本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 Box 74"/>
          <p:cNvSpPr/>
          <p:nvPr/>
        </p:nvSpPr>
        <p:spPr>
          <a:xfrm>
            <a:off x="1258920" y="30542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塞内加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75"/>
          <p:cNvSpPr/>
          <p:nvPr/>
        </p:nvSpPr>
        <p:spPr>
          <a:xfrm>
            <a:off x="1476360" y="384660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比利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Text Box 76"/>
          <p:cNvSpPr/>
          <p:nvPr/>
        </p:nvSpPr>
        <p:spPr>
          <a:xfrm>
            <a:off x="1619280" y="45655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英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77"/>
          <p:cNvSpPr/>
          <p:nvPr/>
        </p:nvSpPr>
        <p:spPr>
          <a:xfrm>
            <a:off x="1585800" y="528624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英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78"/>
          <p:cNvSpPr/>
          <p:nvPr/>
        </p:nvSpPr>
        <p:spPr>
          <a:xfrm>
            <a:off x="1585800" y="602136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美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79"/>
          <p:cNvSpPr/>
          <p:nvPr/>
        </p:nvSpPr>
        <p:spPr>
          <a:xfrm>
            <a:off x="2916360" y="155736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渗透情感，折射关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80"/>
          <p:cNvSpPr/>
          <p:nvPr/>
        </p:nvSpPr>
        <p:spPr>
          <a:xfrm>
            <a:off x="7273800" y="1614600"/>
            <a:ext cx="11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吸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81"/>
          <p:cNvSpPr/>
          <p:nvPr/>
        </p:nvSpPr>
        <p:spPr>
          <a:xfrm>
            <a:off x="3043080" y="2333520"/>
            <a:ext cx="31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亲切，道出责任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82"/>
          <p:cNvSpPr/>
          <p:nvPr/>
        </p:nvSpPr>
        <p:spPr>
          <a:xfrm>
            <a:off x="6659640" y="23335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融合在一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83"/>
          <p:cNvSpPr/>
          <p:nvPr/>
        </p:nvSpPr>
        <p:spPr>
          <a:xfrm>
            <a:off x="2771640" y="306864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表现久旱逢甘霖的心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85"/>
          <p:cNvSpPr/>
          <p:nvPr/>
        </p:nvSpPr>
        <p:spPr>
          <a:xfrm>
            <a:off x="3255840" y="3846600"/>
            <a:ext cx="28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如格言般的漫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86"/>
          <p:cNvSpPr/>
          <p:nvPr/>
        </p:nvSpPr>
        <p:spPr>
          <a:xfrm>
            <a:off x="6659640" y="38466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像阅读书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 Box 87"/>
          <p:cNvSpPr/>
          <p:nvPr/>
        </p:nvSpPr>
        <p:spPr>
          <a:xfrm>
            <a:off x="3397320" y="4565520"/>
            <a:ext cx="23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拟人化的描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xt Box 88"/>
          <p:cNvSpPr/>
          <p:nvPr/>
        </p:nvSpPr>
        <p:spPr>
          <a:xfrm>
            <a:off x="6589800" y="4422600"/>
            <a:ext cx="2303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感受天气变化的节奏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Text Box 89"/>
          <p:cNvSpPr/>
          <p:nvPr/>
        </p:nvSpPr>
        <p:spPr>
          <a:xfrm>
            <a:off x="2771640" y="52862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简洁准确，丰富想象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 Box 90"/>
          <p:cNvSpPr/>
          <p:nvPr/>
        </p:nvSpPr>
        <p:spPr>
          <a:xfrm>
            <a:off x="3851280" y="60055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热情细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ext Box 91"/>
          <p:cNvSpPr/>
          <p:nvPr/>
        </p:nvSpPr>
        <p:spPr>
          <a:xfrm>
            <a:off x="6386400" y="6035760"/>
            <a:ext cx="2578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超越套话、术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250920" y="549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      </a:t>
            </a:r>
            <a:r>
              <a:rPr b="1" lang="zh-CN" sz="3200" spc="-1" strike="noStrike">
                <a:solidFill>
                  <a:srgbClr val="c00000"/>
                </a:solidFill>
                <a:latin typeface="Verdana"/>
              </a:rPr>
              <a:t>可见，语言是一门艺术。精彩的讲话，优秀的文章，就是组织得很精当的一串语言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716040" y="2344680"/>
            <a:ext cx="77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61616"/>
                </a:solidFill>
                <a:latin typeface="Verdana"/>
                <a:ea typeface="黑体"/>
              </a:rPr>
              <a:t>怎样才能说出、写出有艺术性的语言呢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332000" y="3573360"/>
            <a:ext cx="158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多留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多学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多积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多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4716360" y="4292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语言丰富、生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3130560" y="4076640"/>
            <a:ext cx="129708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64" y="0"/>
                </a:moveTo>
                <a:lnTo>
                  <a:pt x="14964" y="6129"/>
                </a:lnTo>
                <a:lnTo>
                  <a:pt x="3375" y="6129"/>
                </a:lnTo>
                <a:lnTo>
                  <a:pt x="3375" y="15471"/>
                </a:lnTo>
                <a:lnTo>
                  <a:pt x="14964" y="15471"/>
                </a:lnTo>
                <a:lnTo>
                  <a:pt x="14964" y="21600"/>
                </a:lnTo>
                <a:lnTo>
                  <a:pt x="21600" y="10800"/>
                </a:lnTo>
                <a:lnTo>
                  <a:pt x="14964" y="0"/>
                </a:lnTo>
                <a:close/>
              </a:path>
              <a:path w="21600" h="21600">
                <a:moveTo>
                  <a:pt x="1350" y="6129"/>
                </a:moveTo>
                <a:lnTo>
                  <a:pt x="1350" y="15471"/>
                </a:lnTo>
                <a:lnTo>
                  <a:pt x="2700" y="15471"/>
                </a:lnTo>
                <a:lnTo>
                  <a:pt x="2700" y="6129"/>
                </a:lnTo>
                <a:lnTo>
                  <a:pt x="1350" y="6129"/>
                </a:lnTo>
                <a:close/>
              </a:path>
              <a:path w="21600" h="21600">
                <a:moveTo>
                  <a:pt x="0" y="6129"/>
                </a:moveTo>
                <a:lnTo>
                  <a:pt x="0" y="15471"/>
                </a:lnTo>
                <a:lnTo>
                  <a:pt x="675" y="15471"/>
                </a:lnTo>
                <a:lnTo>
                  <a:pt x="675" y="6129"/>
                </a:lnTo>
                <a:lnTo>
                  <a:pt x="0" y="612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1" descr="图片8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900000" y="1773360"/>
            <a:ext cx="74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自由朗读课文，完成下面练习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、课文主要告诉我们什么？你从哪里看出来的？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、标出自然段序号。全文可分几部分，每部分讲什么？                                 </a:t>
            </a:r>
            <a:r>
              <a:rPr b="1" lang="en-US" sz="3200" spc="-1" strike="noStrike">
                <a:solidFill>
                  <a:srgbClr val="3333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、标出生字、新词，识记、理解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" name="Picture 10" descr="初读感知"/>
          <p:cNvPicPr/>
          <p:nvPr/>
        </p:nvPicPr>
        <p:blipFill>
          <a:blip r:embed="rId3"/>
          <a:stretch/>
        </p:blipFill>
        <p:spPr>
          <a:xfrm>
            <a:off x="684360" y="763560"/>
            <a:ext cx="2663640" cy="93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1042920" y="5373720"/>
            <a:ext cx="7416720" cy="459720"/>
          </a:xfrm>
          <a:prstGeom prst="rect">
            <a:avLst/>
          </a:prstGeom>
          <a:noFill/>
          <a:ln w="93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</a:rPr>
              <a:t>讲话是一门艺术，平时要多留心、多练习、多积累、多学习，学会生动有趣、充满格调品味地表达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vert"/>
    <p:sndAc>
      <p:stSnd>
        <p:snd r:embed="rId4" name="hammer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826920" y="112536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楷体_GB2312"/>
              </a:rPr>
              <a:t>          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楷体_GB2312"/>
              </a:rPr>
              <a:t>28  </a:t>
            </a:r>
            <a:r>
              <a:rPr b="1" lang="zh-CN" sz="3200" spc="-1" strike="noStrike">
                <a:solidFill>
                  <a:srgbClr val="000099"/>
                </a:solidFill>
                <a:latin typeface="Verdana"/>
                <a:ea typeface="楷体_GB2312"/>
              </a:rPr>
              <a:t>从天气预报说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95280" y="2421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语言是一门艺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763640" y="1700280"/>
            <a:ext cx="4608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Verdana"/>
                <a:ea typeface="楷体_GB2312"/>
              </a:rPr>
              <a:t>渗透情感、折射关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Verdana"/>
                <a:ea typeface="楷体_GB2312"/>
              </a:rPr>
              <a:t>表达心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Verdana"/>
                <a:ea typeface="楷体_GB2312"/>
              </a:rPr>
              <a:t>格言般的漫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Verdana"/>
                <a:ea typeface="楷体_GB2312"/>
              </a:rPr>
              <a:t>拟人化描述、想象丰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Verdana"/>
                <a:ea typeface="楷体_GB2312"/>
              </a:rPr>
              <a:t>热情细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6300720" y="2060640"/>
            <a:ext cx="1800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多留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多学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多积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多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3780000" y="5877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精神享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1332000" y="501336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1332000" y="1989000"/>
            <a:ext cx="0" cy="3024360"/>
          </a:xfrm>
          <a:prstGeom prst="line">
            <a:avLst/>
          </a:prstGeom>
          <a:ln w="9360">
            <a:solidFill>
              <a:srgbClr val="0039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1332000" y="198900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6300720" y="2133720"/>
            <a:ext cx="0" cy="2879640"/>
          </a:xfrm>
          <a:prstGeom prst="line">
            <a:avLst/>
          </a:prstGeom>
          <a:ln w="9360">
            <a:solidFill>
              <a:srgbClr val="0039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5867280" y="5013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5940360" y="2133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矩形 12"/>
          <p:cNvSpPr/>
          <p:nvPr/>
        </p:nvSpPr>
        <p:spPr>
          <a:xfrm>
            <a:off x="780120" y="333360"/>
            <a:ext cx="16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板书设计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324000" y="2230560"/>
            <a:ext cx="85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天气预报是中央电视台的一个传统节目，深受广大群众关注。多年来，天气预报节目的播报形式十分固定，从时间、图像、主持人到背景音乐、解说语言，可谓是一成不变。但近期，亦即今年</a:t>
            </a:r>
            <a:r>
              <a:rPr b="1" lang="zh-CN" sz="2800" spc="-1" strike="noStrike">
                <a:solidFill>
                  <a:srgbClr val="161616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五一</a:t>
            </a:r>
            <a:r>
              <a:rPr b="1" lang="zh-CN" sz="2800" spc="-1" strike="noStrike">
                <a:solidFill>
                  <a:srgbClr val="161616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前后中央电视台的诸多频道改版以后，天气预报节目的播报形式发生了一些变化。</a:t>
            </a:r>
            <a:br>
              <a:rPr sz="2800"/>
            </a:b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      现在的播报语言在坚持气象预报科学性、准确性的基础上，还赋予了它口语化、平易化、情感化、艺术化等元素，呈现出既清晰简明又不乏文采、亲切悦耳的语言风格。听着中央二台经济频道早上</a:t>
            </a: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《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第一时间</a:t>
            </a: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》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的天气预报，令人如沐春风，如闻馨香。以下所举的天气预报语言我们可以感受到它口语化、平易化、情感化、艺术化的语言风格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324000" y="30636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摘录几则如下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2006-08-01 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今天天气的主要格局是高温与雨水对峙。南方多日持续高温闷热</a:t>
            </a: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。在持续蓝天的同时，也带来了持续的潮湿。大家要把容易发霉的东西放在通风的地方，不要让潮湿的天气带来潮湿的心情。</a:t>
            </a:r>
            <a:br>
              <a:rPr sz="2800"/>
            </a:b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2006-08-02 </a:t>
            </a:r>
            <a:r>
              <a:rPr b="1" lang="zh-CN" sz="2800" spc="-1" strike="noStrike">
                <a:solidFill>
                  <a:srgbClr val="0000cc"/>
                </a:solidFill>
                <a:latin typeface="Verdana"/>
              </a:rPr>
              <a:t>今天雨水和高温继续对抗，不依不挠地展开了拉锯战。高温的地方依然热情似火。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cc"/>
                </a:solidFill>
                <a:latin typeface="Verdana"/>
              </a:rPr>
              <a:t>常言道，酒越喝越暖，茶越喝越寒，在高温的天气里大家还是要多喝茶，最好是菊花茶，可以清热解暑。</a:t>
            </a:r>
            <a:br>
              <a:rPr sz="2800"/>
            </a:br>
            <a:r>
              <a:rPr b="1" lang="zh-CN" sz="2800" spc="-1" strike="noStrike">
                <a:solidFill>
                  <a:srgbClr val="c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2006-08-04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</a:rPr>
              <a:t>，今天在南方，阵雨和雷阵雨也将不眠不休。有些地方虽然温度不高，但也正在蜷缩起来，养精蓄锐，以后将给高温的阵营添砖加瓦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4"/>
          <p:cNvSpPr/>
          <p:nvPr/>
        </p:nvSpPr>
        <p:spPr>
          <a:xfrm>
            <a:off x="250920" y="44280"/>
            <a:ext cx="864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2006-08-12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</a:rPr>
              <a:t>按照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</a:rPr>
              <a:t>桑美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</a:rPr>
              <a:t>的腰围可算是个超强美女，好在今天这个超强美女越来越温柔了。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</a:rPr>
              <a:t>随着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</a:rPr>
              <a:t>桑美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</a:rPr>
              <a:t>的减弱，许多地方的高温又卷土重来，这些地方的朋友要把防暑降温的功课再温习一下了。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2006-08-13 </a:t>
            </a:r>
            <a:r>
              <a:rPr b="1" lang="zh-CN" sz="2800" spc="-1" strike="noStrike">
                <a:solidFill>
                  <a:srgbClr val="0000cc"/>
                </a:solidFill>
                <a:latin typeface="Verdana"/>
              </a:rPr>
              <a:t>今天天气总的来看是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Verdana"/>
              </a:rPr>
              <a:t>反常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Verdana"/>
              </a:rPr>
              <a:t>。雨水下得没完没了，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cc"/>
                </a:solidFill>
                <a:latin typeface="Verdana"/>
              </a:rPr>
              <a:t>北方的雨也变得强硬起来，一大片都是雨水的天下。同雨水同样反常的却是高温，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cc"/>
                </a:solidFill>
                <a:latin typeface="Verdana"/>
              </a:rPr>
              <a:t>一大片地方都是酷暑难耐。天气反常，就连蘑菇也出现了状况，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cc"/>
                </a:solidFill>
                <a:latin typeface="Verdana"/>
              </a:rPr>
              <a:t>有</a:t>
            </a: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Verdana"/>
              </a:rPr>
              <a:t>个人食用这种蘑菇中毒。据专家分析，在高温的蒸发下，蘑菇也变成了毒蘑菇。所以， 我们在防暑降温的同时，一定要注意饮食安全。</a:t>
            </a:r>
            <a:br>
              <a:rPr sz="2800"/>
            </a:b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2006-08-14 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今天的天气舞台上看起来似乎是风平浪静。</a:t>
            </a:r>
            <a:r>
              <a:rPr b="1" lang="zh-CN" sz="2800" spc="-1" strike="noStrike">
                <a:solidFill>
                  <a:srgbClr val="161616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桑美</a:t>
            </a:r>
            <a:r>
              <a:rPr b="1" lang="zh-CN" sz="2800" spc="-1" strike="noStrike">
                <a:solidFill>
                  <a:srgbClr val="161616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过后一些地方会是蓝天白云，太阳也会一露尊容。一些地方强度大的雨也会变得温柔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324000" y="476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616"/>
                </a:solidFill>
                <a:latin typeface="Verdana"/>
                <a:ea typeface="黑体"/>
              </a:rPr>
              <a:t>   </a:t>
            </a:r>
            <a:r>
              <a:rPr b="1" lang="zh-CN" sz="3600" spc="-1" strike="noStrike">
                <a:solidFill>
                  <a:srgbClr val="161616"/>
                </a:solidFill>
                <a:latin typeface="Verdana"/>
                <a:ea typeface="黑体"/>
              </a:rPr>
              <a:t>选择一种天气，尝试写几句天气预报，当个有创意的</a:t>
            </a:r>
            <a:r>
              <a:rPr b="1" lang="zh-CN" sz="3600" spc="-1" strike="noStrike">
                <a:solidFill>
                  <a:srgbClr val="161616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161616"/>
                </a:solidFill>
                <a:latin typeface="Verdana"/>
                <a:ea typeface="黑体"/>
              </a:rPr>
              <a:t>小小预报员</a:t>
            </a:r>
            <a:r>
              <a:rPr b="1" lang="zh-CN" sz="3600" spc="-1" strike="noStrike">
                <a:solidFill>
                  <a:srgbClr val="161616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161616"/>
                </a:solidFill>
                <a:latin typeface="Verdana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5" descr="20080318124915946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30686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chinaz1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3280" y="2997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200803181249152059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164360" y="30686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200803181249153806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11280" y="306864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1"/>
          <p:cNvSpPr/>
          <p:nvPr/>
        </p:nvSpPr>
        <p:spPr>
          <a:xfrm>
            <a:off x="463680" y="58770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更多免费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模板尽在：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3635280" y="547560"/>
            <a:ext cx="3435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616"/>
                </a:solidFill>
                <a:latin typeface="Verdana"/>
              </a:rPr>
              <a:t>朝霞不出门，晚霞走千里 </a:t>
            </a:r>
            <a:br>
              <a:rPr sz="3600"/>
            </a:br>
            <a:r>
              <a:rPr b="1" lang="zh-CN" sz="3600" spc="-1" strike="noStrike">
                <a:solidFill>
                  <a:srgbClr val="161616"/>
                </a:solidFill>
                <a:latin typeface="Verdana"/>
              </a:rPr>
              <a:t>有雨山戴帽，无雨山没腰 </a:t>
            </a:r>
            <a:br>
              <a:rPr sz="3600"/>
            </a:br>
            <a:r>
              <a:rPr b="1" lang="zh-CN" sz="3600" spc="-1" strike="noStrike">
                <a:solidFill>
                  <a:srgbClr val="161616"/>
                </a:solidFill>
                <a:latin typeface="Verdana"/>
              </a:rPr>
              <a:t>泥鳅跳，风雨到 </a:t>
            </a:r>
            <a:br>
              <a:rPr sz="3600"/>
            </a:br>
            <a:r>
              <a:rPr b="1" lang="zh-CN" sz="3600" spc="-1" strike="noStrike">
                <a:solidFill>
                  <a:srgbClr val="161616"/>
                </a:solidFill>
                <a:latin typeface="Verdana"/>
              </a:rPr>
              <a:t>蚯蚓路上爬，雨水乱如麻</a:t>
            </a:r>
            <a:r>
              <a:rPr b="0" lang="zh-CN" sz="3600" spc="-1" strike="noStrike">
                <a:solidFill>
                  <a:srgbClr val="161616"/>
                </a:solidFill>
                <a:latin typeface="Verdana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161616"/>
                </a:solidFill>
                <a:latin typeface="Verdana"/>
              </a:rPr>
              <a:t>日晕三更雨，月晕午时风 </a:t>
            </a:r>
            <a:br>
              <a:rPr sz="3600"/>
            </a:br>
            <a:r>
              <a:rPr b="1" lang="zh-CN" sz="3600" spc="-1" strike="noStrike">
                <a:solidFill>
                  <a:srgbClr val="161616"/>
                </a:solidFill>
                <a:latin typeface="Verdana"/>
              </a:rPr>
              <a:t>天上鱼鳞斑，晒谷不用翻 </a:t>
            </a:r>
            <a:br>
              <a:rPr sz="3600"/>
            </a:br>
            <a:r>
              <a:rPr b="1" lang="zh-CN" sz="3600" spc="-1" strike="noStrike">
                <a:solidFill>
                  <a:srgbClr val="161616"/>
                </a:solidFill>
                <a:latin typeface="Verdana"/>
              </a:rPr>
              <a:t>红云变黑云，必有大雨淋 </a:t>
            </a:r>
            <a:br>
              <a:rPr sz="3600"/>
            </a:br>
            <a:r>
              <a:rPr b="1" lang="zh-CN" sz="3600" spc="-1" strike="noStrike">
                <a:solidFill>
                  <a:srgbClr val="161616"/>
                </a:solidFill>
                <a:latin typeface="Verdana"/>
              </a:rPr>
              <a:t>日落乌云涨，半夜听雨响 </a:t>
            </a:r>
            <a:br>
              <a:rPr sz="3600"/>
            </a:br>
            <a:r>
              <a:rPr b="1" lang="zh-CN" sz="3600" spc="-1" strike="noStrike">
                <a:solidFill>
                  <a:srgbClr val="161616"/>
                </a:solidFill>
                <a:latin typeface="Verdana"/>
              </a:rPr>
              <a:t>日落胭脂红，非雨便是风</a:t>
            </a:r>
            <a:r>
              <a:rPr b="0" lang="zh-CN" sz="3600" spc="-1" strike="noStrike">
                <a:solidFill>
                  <a:srgbClr val="161616"/>
                </a:solidFill>
                <a:latin typeface="Verdana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161616"/>
                </a:solidFill>
                <a:latin typeface="Verdana"/>
              </a:rPr>
              <a:t>细雨没久晴，大雨无久落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WordArt 5" descr=""/>
          <p:cNvPicPr/>
          <p:nvPr/>
        </p:nvPicPr>
        <p:blipFill>
          <a:blip r:embed="rId2"/>
          <a:stretch/>
        </p:blipFill>
        <p:spPr>
          <a:xfrm>
            <a:off x="898560" y="830160"/>
            <a:ext cx="13176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4"/>
          <p:cNvSpPr txBox="1"/>
          <p:nvPr/>
        </p:nvSpPr>
        <p:spPr>
          <a:xfrm>
            <a:off x="1547640" y="2349360"/>
            <a:ext cx="4896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再见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20" name="Picture 13" descr="20080318124915946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260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5" descr="chinaz1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3280" y="1890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7" descr="200803181249152059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164360" y="260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9" descr="200803181249153806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11280" y="2602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4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Verdana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Verdan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Verdana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Verdana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Verdana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Verdana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Verdana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Verdana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A149-4EBB-4946-8470-2A0CCD5D6F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6"/>
          <p:cNvSpPr/>
          <p:nvPr/>
        </p:nvSpPr>
        <p:spPr>
          <a:xfrm>
            <a:off x="2987640" y="5157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" name="Picture 10" descr="图片8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684360" y="2117880"/>
            <a:ext cx="7272360" cy="1800360"/>
          </a:xfrm>
          <a:prstGeom prst="rect">
            <a:avLst/>
          </a:prstGeom>
          <a:noFill/>
          <a:ln w="936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第一段：（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）讲话要有格调品位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第二段：（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2—3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）语言艺术引到天气预报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第三段： （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4—19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）举例说明它的作用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第四段：（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）要多留心、多积累、多学习、多练习、就会使语言丰富生动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1" name="Picture 8" descr="09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404640"/>
            <a:ext cx="1932120" cy="1079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>
            <a:hlinkClick r:id="rId5" action="ppaction://hlinksldjump"/>
          </p:cNvPr>
          <p:cNvSpPr/>
          <p:nvPr/>
        </p:nvSpPr>
        <p:spPr>
          <a:xfrm>
            <a:off x="555480" y="76500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文章结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  <p:sndAc>
      <p:stSnd>
        <p:snd r:embed="rId6" name="laser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1" descr="图片8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900000" y="1628640"/>
            <a:ext cx="7272360" cy="947160"/>
          </a:xfrm>
          <a:prstGeom prst="rect">
            <a:avLst/>
          </a:prstGeom>
          <a:noFill/>
          <a:ln w="38160">
            <a:solidFill>
              <a:srgbClr val="92d05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本文以世界各国的天气预报为例说明语言是一门艺术，精妙的语言会深深打动人、感染人。让我们感受语言这门艺术的魅力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，激发我们学习语言、积累语言的兴趣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4354560" y="333360"/>
            <a:ext cx="4105080" cy="792000"/>
            <a:chOff x="4354560" y="333360"/>
            <a:chExt cx="4105080" cy="792000"/>
          </a:xfrm>
        </p:grpSpPr>
        <p:sp>
          <p:nvSpPr>
            <p:cNvPr id="66" name="AutoShape 9"/>
            <p:cNvSpPr/>
            <p:nvPr/>
          </p:nvSpPr>
          <p:spPr>
            <a:xfrm>
              <a:off x="4354560" y="333360"/>
              <a:ext cx="4032360" cy="792000"/>
            </a:xfrm>
            <a:prstGeom prst="cloudCallout">
              <a:avLst>
                <a:gd name="adj1" fmla="val -40430"/>
                <a:gd name="adj2" fmla="val 103787"/>
              </a:avLst>
            </a:prstGeom>
            <a:solidFill>
              <a:srgbClr val="ffccff"/>
            </a:solidFill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Text Box 10"/>
            <p:cNvSpPr/>
            <p:nvPr/>
          </p:nvSpPr>
          <p:spPr>
            <a:xfrm>
              <a:off x="5290920" y="404640"/>
              <a:ext cx="31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161616"/>
                  </a:solidFill>
                  <a:latin typeface="Verdana"/>
                </a:rPr>
                <a:t>中心思想</a:t>
              </a: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8" name="矩形 6"/>
          <p:cNvSpPr/>
          <p:nvPr/>
        </p:nvSpPr>
        <p:spPr>
          <a:xfrm>
            <a:off x="1042920" y="4076640"/>
            <a:ext cx="7058160" cy="520560"/>
          </a:xfrm>
          <a:prstGeom prst="rect">
            <a:avLst/>
          </a:prstGeom>
          <a:noFill/>
          <a:ln w="9360">
            <a:solidFill>
              <a:srgbClr val="0000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告诉我们平时要多留心、多学习、多积累、多练习，学会生动有趣、充满格调品位地表达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9" name="Group 8"/>
          <p:cNvGrpSpPr/>
          <p:nvPr/>
        </p:nvGrpSpPr>
        <p:grpSpPr>
          <a:xfrm>
            <a:off x="108000" y="5732640"/>
            <a:ext cx="3600360" cy="792000"/>
            <a:chOff x="108000" y="5732640"/>
            <a:chExt cx="3600360" cy="792000"/>
          </a:xfrm>
        </p:grpSpPr>
        <p:sp>
          <p:nvSpPr>
            <p:cNvPr id="70" name="AutoShape 9"/>
            <p:cNvSpPr/>
            <p:nvPr/>
          </p:nvSpPr>
          <p:spPr>
            <a:xfrm>
              <a:off x="108000" y="5732640"/>
              <a:ext cx="3240360" cy="792000"/>
            </a:xfrm>
            <a:prstGeom prst="cloudCallout">
              <a:avLst>
                <a:gd name="adj1" fmla="val 42055"/>
                <a:gd name="adj2" fmla="val -76759"/>
              </a:avLst>
            </a:prstGeom>
            <a:solidFill>
              <a:srgbClr val="ffccff"/>
            </a:solidFill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Text Box 10"/>
            <p:cNvSpPr/>
            <p:nvPr/>
          </p:nvSpPr>
          <p:spPr>
            <a:xfrm>
              <a:off x="539640" y="5807160"/>
              <a:ext cx="31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161616"/>
                  </a:solidFill>
                  <a:latin typeface="Verdana"/>
                </a:rPr>
                <a:t>写作目的</a:t>
              </a:r>
              <a:endParaRPr b="0" lang="en-US" sz="3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>
    <p:wheel spokes="2"/>
    <p:sndAc>
      <p:stSnd>
        <p:snd r:embed="rId3" name="suction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79280" y="18900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生字：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68360" y="184464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616"/>
                </a:solidFill>
                <a:latin typeface="Verdana"/>
              </a:rPr>
              <a:t>暄     倾      逐    凑    兀    诙    渗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539640" y="414972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616"/>
                </a:solidFill>
                <a:latin typeface="Verdana"/>
              </a:rPr>
              <a:t>霖    届     富     拟     述     叙   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95280" y="1052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xuān  qīng    zhú  còu   wù    huī    shè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68360" y="35733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lín     jiè      fù      nǐ      shù     xù    kān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云形标注 16"/>
          <p:cNvSpPr/>
          <p:nvPr/>
        </p:nvSpPr>
        <p:spPr>
          <a:xfrm>
            <a:off x="0" y="260280"/>
            <a:ext cx="3419640" cy="935280"/>
          </a:xfrm>
          <a:prstGeom prst="cloudCallout">
            <a:avLst>
              <a:gd name="adj1" fmla="val 121986"/>
              <a:gd name="adj2" fmla="val 33351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468360" y="33336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Verdana"/>
                <a:ea typeface="黑体"/>
              </a:rPr>
              <a:t>生字学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68360" y="220500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Verdana"/>
              </a:rPr>
              <a:t>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324000" y="2924280"/>
            <a:ext cx="183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倾听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倾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倾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1752480" y="2133720"/>
            <a:ext cx="73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Verdana"/>
              </a:rPr>
              <a:t>逐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1727280" y="2924280"/>
            <a:ext cx="183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逐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逐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追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95280" y="1557360"/>
            <a:ext cx="14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qī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692360" y="1557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zh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矩形 23"/>
          <p:cNvSpPr/>
          <p:nvPr/>
        </p:nvSpPr>
        <p:spPr>
          <a:xfrm>
            <a:off x="2942640" y="2093760"/>
            <a:ext cx="100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4800" spc="-1" strike="noStrike">
                <a:solidFill>
                  <a:srgbClr val="0000cc"/>
                </a:solidFill>
                <a:latin typeface="Verdana"/>
              </a:rPr>
              <a:t>凑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TextBox 24"/>
          <p:cNvSpPr/>
          <p:nvPr/>
        </p:nvSpPr>
        <p:spPr>
          <a:xfrm>
            <a:off x="2771640" y="2924280"/>
            <a:ext cx="183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凑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凑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凑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843280" y="1557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cò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924360" y="1557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shè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148360" y="1547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sh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6289560" y="1557360"/>
            <a:ext cx="10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xù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7345440" y="1557360"/>
            <a:ext cx="20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kā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矩形 35"/>
          <p:cNvSpPr/>
          <p:nvPr/>
        </p:nvSpPr>
        <p:spPr>
          <a:xfrm>
            <a:off x="4124160" y="2060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Verdana"/>
              </a:rPr>
              <a:t>渗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TextBox 36"/>
          <p:cNvSpPr/>
          <p:nvPr/>
        </p:nvSpPr>
        <p:spPr>
          <a:xfrm>
            <a:off x="3959280" y="2909880"/>
            <a:ext cx="183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渗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渗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渗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矩形 37"/>
          <p:cNvSpPr/>
          <p:nvPr/>
        </p:nvSpPr>
        <p:spPr>
          <a:xfrm>
            <a:off x="5347800" y="2060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Verdana"/>
              </a:rPr>
              <a:t>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矩形 38"/>
          <p:cNvSpPr/>
          <p:nvPr/>
        </p:nvSpPr>
        <p:spPr>
          <a:xfrm>
            <a:off x="6417360" y="20224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Verdana"/>
              </a:rPr>
              <a:t>叙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矩形 39"/>
          <p:cNvSpPr/>
          <p:nvPr/>
        </p:nvSpPr>
        <p:spPr>
          <a:xfrm>
            <a:off x="7580160" y="19494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Verdana"/>
              </a:rPr>
              <a:t>刊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TextBox 40"/>
          <p:cNvSpPr/>
          <p:nvPr/>
        </p:nvSpPr>
        <p:spPr>
          <a:xfrm>
            <a:off x="5183280" y="2909880"/>
            <a:ext cx="183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口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述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陈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TextBox 41"/>
          <p:cNvSpPr/>
          <p:nvPr/>
        </p:nvSpPr>
        <p:spPr>
          <a:xfrm>
            <a:off x="6227640" y="2908440"/>
            <a:ext cx="183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叙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叙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记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TextBox 42"/>
          <p:cNvSpPr/>
          <p:nvPr/>
        </p:nvSpPr>
        <p:spPr>
          <a:xfrm>
            <a:off x="7415280" y="2852640"/>
            <a:ext cx="183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书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报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刊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矩形 27"/>
          <p:cNvSpPr/>
          <p:nvPr/>
        </p:nvSpPr>
        <p:spPr>
          <a:xfrm>
            <a:off x="402840" y="4508640"/>
            <a:ext cx="7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顺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顺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矩形 28"/>
          <p:cNvSpPr/>
          <p:nvPr/>
        </p:nvSpPr>
        <p:spPr>
          <a:xfrm>
            <a:off x="1784160" y="4508640"/>
            <a:ext cx="70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未遂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遂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矩形 29"/>
          <p:cNvSpPr/>
          <p:nvPr/>
        </p:nvSpPr>
        <p:spPr>
          <a:xfrm>
            <a:off x="2937600" y="4494240"/>
            <a:ext cx="85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揍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挨揍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演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矩形 30"/>
          <p:cNvSpPr/>
          <p:nvPr/>
        </p:nvSpPr>
        <p:spPr>
          <a:xfrm>
            <a:off x="3924360" y="45086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惨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悲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惨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矩形 43"/>
          <p:cNvSpPr/>
          <p:nvPr/>
        </p:nvSpPr>
        <p:spPr>
          <a:xfrm>
            <a:off x="5040360" y="450864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算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发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矩形 44"/>
          <p:cNvSpPr/>
          <p:nvPr/>
        </p:nvSpPr>
        <p:spPr>
          <a:xfrm>
            <a:off x="6492960" y="4581360"/>
            <a:ext cx="66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斜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斜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倾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矩形 45"/>
          <p:cNvSpPr/>
          <p:nvPr/>
        </p:nvSpPr>
        <p:spPr>
          <a:xfrm>
            <a:off x="7572240" y="4581360"/>
            <a:ext cx="66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刑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刑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判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r"/>
    <p:sndAc>
      <p:stSnd>
        <p:snd r:embed="rId2" name="type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云形标注 16"/>
          <p:cNvSpPr/>
          <p:nvPr/>
        </p:nvSpPr>
        <p:spPr>
          <a:xfrm>
            <a:off x="0" y="260280"/>
            <a:ext cx="3419640" cy="935280"/>
          </a:xfrm>
          <a:prstGeom prst="cloudCallout">
            <a:avLst>
              <a:gd name="adj1" fmla="val 121986"/>
              <a:gd name="adj2" fmla="val 33351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68360" y="33336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Verdana"/>
                <a:ea typeface="黑体"/>
              </a:rPr>
              <a:t>生字学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84360" y="220500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Verdana"/>
              </a:rPr>
              <a:t>届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324000" y="3141720"/>
            <a:ext cx="183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3636"/>
                </a:solidFill>
                <a:latin typeface="Verdana"/>
              </a:rPr>
              <a:t>届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3636"/>
                </a:solidFill>
                <a:latin typeface="Verdana"/>
              </a:rPr>
              <a:t>上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3636"/>
                </a:solidFill>
                <a:latin typeface="华文中宋"/>
                <a:ea typeface="华文中宋"/>
              </a:rPr>
              <a:t>历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2975040" y="2133720"/>
            <a:ext cx="73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2987640" y="2979720"/>
            <a:ext cx="183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3636"/>
                </a:solidFill>
                <a:latin typeface="Verdana"/>
              </a:rPr>
              <a:t>富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3636"/>
                </a:solidFill>
                <a:latin typeface="Verdana"/>
              </a:rPr>
              <a:t>富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63636"/>
                </a:solidFill>
                <a:latin typeface="Verdana"/>
              </a:rPr>
              <a:t>富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77880" y="1557360"/>
            <a:ext cx="14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ji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987640" y="1557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f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矩形 23"/>
          <p:cNvSpPr/>
          <p:nvPr/>
        </p:nvSpPr>
        <p:spPr>
          <a:xfrm>
            <a:off x="5724360" y="2133720"/>
            <a:ext cx="101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Verdana"/>
              </a:rPr>
              <a:t>拟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5651640" y="3141720"/>
            <a:ext cx="183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拟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拟订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比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867280" y="1557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n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矩形 27"/>
          <p:cNvSpPr/>
          <p:nvPr/>
        </p:nvSpPr>
        <p:spPr>
          <a:xfrm>
            <a:off x="1452600" y="3141720"/>
            <a:ext cx="66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寺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庙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矩形 28"/>
          <p:cNvSpPr/>
          <p:nvPr/>
        </p:nvSpPr>
        <p:spPr>
          <a:xfrm>
            <a:off x="4140360" y="2924280"/>
            <a:ext cx="906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幸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副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矩形 29"/>
          <p:cNvSpPr/>
          <p:nvPr/>
        </p:nvSpPr>
        <p:spPr>
          <a:xfrm>
            <a:off x="7099200" y="2997360"/>
            <a:ext cx="66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似乎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相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r"/>
    <p:sndAc>
      <p:stSnd>
        <p:snd r:embed="rId2" name="type.wav"/>
      </p:stSnd>
    </p:sndAc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539640" y="222120"/>
            <a:ext cx="45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读一读，记一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9640" y="1052640"/>
            <a:ext cx="8136000" cy="5061600"/>
          </a:xfrm>
          <a:prstGeom prst="rect">
            <a:avLst/>
          </a:prstGeom>
          <a:noFill/>
          <a:ln w="9360">
            <a:solidFill>
              <a:srgbClr val="00b05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讲究    追求     格调品位     寒暄    融入    倾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大风起兮云飞扬         风萧萧兮易水寒       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逐渐    紧凑    松弛    突兀   诙谐     珍视   渗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吸引      北风刺骨       正襟危坐      不苟言笑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寒来暑往    融合    欣喜     异曲同工   呼之欲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久旱   甘霖   第二届   阴沉昏暗   漫谈   内涵丰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吻合   拟人   描述   活灵活现   节奏   平铺直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Verdana"/>
              </a:rPr>
              <a:t>格局   克隆   简洁   报刊   醒目   态度     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539640" y="404640"/>
            <a:ext cx="8280360" cy="53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华文行楷"/>
                <a:ea typeface="华文行楷"/>
              </a:rPr>
              <a:t>认读生字词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61616"/>
                </a:solidFill>
                <a:latin typeface="Verdana"/>
              </a:rPr>
              <a:t>寒暄  倾向  逐渐  紧凑  突兀  诙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61616"/>
                </a:solidFill>
                <a:latin typeface="Verdana"/>
              </a:rPr>
              <a:t>渗透  甘霖   届 时   丰富      拟人 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61616"/>
                </a:solidFill>
                <a:latin typeface="Verdana"/>
              </a:rPr>
              <a:t>描述   报刊  枯燥  内涵   老生常谈 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61616"/>
                </a:solidFill>
                <a:latin typeface="Verdana"/>
              </a:rPr>
              <a:t>正襟危坐    不苟言笑    异曲同工 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61616"/>
                </a:solidFill>
                <a:latin typeface="Verdana"/>
              </a:rPr>
              <a:t>活灵活现    平铺直叙    呼之欲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03:42:3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9:02Z</dcterms:modified>
  <cp:revision>4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