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hammer.wav" ContentType="audio/x-wav"/>
  <Override PartName="/ppt/media/image7.jpeg" ContentType="image/jpeg"/>
  <Override PartName="/ppt/media/image5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244-0F05-4869-8B3A-67FA7DC7B433}" type="slidenum">
              <a:rPr b="0" lang="zh-CN" sz="1200" spc="-1" strike="noStrike">
                <a:solidFill>
                  <a:srgbClr val="00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32AB-FF0A-43A7-B0D9-314544C511FA}" type="slidenum">
              <a:rPr b="0" lang="zh-CN" sz="1200" spc="-1" strike="noStrike">
                <a:solidFill>
                  <a:srgbClr val="00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EF8-FECB-438B-B183-658D8454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B44-C36B-4ABB-B320-589DCCA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A44-0120-4974-B8E3-B65AA1D8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B5D-4FF7-4C14-A0C0-46ABBB00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C35-D915-4EDB-996A-A9F19EF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70D-5598-4BAE-BFE3-84D7C76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295-55B0-4BB0-8D94-C1A784B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D76-BF5C-40C6-8064-EF5310A0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5E1-6161-4EE2-B2F4-CB880A9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3D8-DB5D-470F-B02D-5432DDF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812-F050-453E-BB3F-FD51273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FCD-2200-4972-AD36-526BA02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CCC-0F15-4E6F-80BF-369A9F28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 rot="263400">
            <a:off x="1612440" y="1780920"/>
            <a:ext cx="5927760" cy="18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36000"/>
                </a:gradFill>
                <a:latin typeface="华文行楷"/>
              </a:rPr>
              <a:t>春天在哪里 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36000"/>
              </a:gradFill>
              <a:latin typeface="华文行楷"/>
              <a:ea typeface="华文行楷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50420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53" name="回家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矩形 9"/>
          <p:cNvSpPr/>
          <p:nvPr/>
        </p:nvSpPr>
        <p:spPr>
          <a:xfrm>
            <a:off x="1463040" y="54608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6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84360" y="819000"/>
            <a:ext cx="784836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隶书"/>
              </a:rPr>
              <a:t> 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文中哪几行告诉我们春天的草地和竹林是怎样的？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草儿醒过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换上绿的新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竹笋探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什么意思？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探出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换成哪个词语？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竹笋从哪里探出来？什么时候探出来的？ 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332000" y="1125360"/>
            <a:ext cx="1857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：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042920" y="1484280"/>
            <a:ext cx="698508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春天的田野里又是怎样的景象呢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前面学习的方法自学第四小节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讨论为什么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麦苗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菜花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蚕豆花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 rot="716400">
            <a:off x="1187280" y="980640"/>
            <a:ext cx="2857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966000"/>
                </a:gradFill>
                <a:latin typeface="华文行楷"/>
              </a:rPr>
              <a:t>合作学习：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966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94" name="Picture 12" descr="田野1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6"/>
          <p:cNvSpPr/>
          <p:nvPr/>
        </p:nvSpPr>
        <p:spPr>
          <a:xfrm>
            <a:off x="611280" y="1341360"/>
            <a:ext cx="8066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哪里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田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里：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春天的太阳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暧，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亮，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麦苗青，菜花黄，蚕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á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豆花香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96" name="Picture 17" descr="蚕豆花8"/>
          <p:cNvPicPr/>
          <p:nvPr/>
        </p:nvPicPr>
        <p:blipFill>
          <a:blip r:embed="rId2"/>
          <a:stretch/>
        </p:blipFill>
        <p:spPr>
          <a:xfrm>
            <a:off x="5867280" y="4398840"/>
            <a:ext cx="3276720" cy="245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油菜花13"/>
          <p:cNvPicPr/>
          <p:nvPr/>
        </p:nvPicPr>
        <p:blipFill>
          <a:blip r:embed="rId3"/>
          <a:stretch/>
        </p:blipFill>
        <p:spPr>
          <a:xfrm>
            <a:off x="0" y="4433760"/>
            <a:ext cx="30592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-252360" y="476280"/>
            <a:ext cx="939636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隶书"/>
              </a:rPr>
              <a:t>          </a:t>
            </a:r>
            <a:endParaRPr b="0" lang="en-US" sz="4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条儿摆动，桃花儿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 竹笋从地下长出来了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条儿跳舞，桃花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脸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竹笋从地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探头出了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50920" y="3357720"/>
            <a:ext cx="33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611280" y="335772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照样子，写词语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684360" y="549360"/>
            <a:ext cx="36576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我发现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·····</a:t>
            </a:r>
            <a:endParaRPr b="1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971640" y="4292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薄薄细细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067280" y="450864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3564000" y="4292640"/>
            <a:ext cx="3313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564000" y="4365720"/>
            <a:ext cx="352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564000" y="4282920"/>
            <a:ext cx="25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900000" y="558972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4356000" y="558972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"/>
          <p:cNvSpPr txBox="1"/>
          <p:nvPr/>
        </p:nvSpPr>
        <p:spPr>
          <a:xfrm>
            <a:off x="539640" y="69228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照样子，写句子。</a:t>
            </a:r>
            <a:endParaRPr b="1" i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42920" y="1916280"/>
            <a:ext cx="792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的太阳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 ，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的头发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 ，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。 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五的月亮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 ，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，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。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042920" y="422100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1692360" y="42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364000" y="29973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435640" y="3645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5435640" y="4221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564000" y="4221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 rot="456000">
            <a:off x="468000" y="691920"/>
            <a:ext cx="243828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说一说：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79280" y="162864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小河里，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花园里，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天空中，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635280" y="227664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708360" y="306864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708360" y="400536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图片3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556000" y="836640"/>
            <a:ext cx="658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  <a:ea typeface="楷体_GB2312"/>
              </a:rPr>
              <a:t>在你的想象中，</a:t>
            </a:r>
            <a:endParaRPr b="0" lang="en-US" sz="44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  <a:ea typeface="楷体_GB2312"/>
              </a:rPr>
              <a:t>春天是什么样的，</a:t>
            </a:r>
            <a:endParaRPr b="0" lang="en-US" sz="44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  <a:ea typeface="楷体_GB2312"/>
              </a:rPr>
              <a:t>画一幅春天的图画。</a:t>
            </a:r>
            <a:endParaRPr b="0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 rot="5400000">
            <a:off x="-190440" y="1782720"/>
            <a:ext cx="30862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拓展练习</a:t>
            </a:r>
            <a:endParaRPr b="1" i="1" lang="en-US" sz="6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CC9-EAB5-45D1-BDDF-195591F699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桃花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校花1"/>
          <p:cNvPicPr/>
          <p:nvPr/>
        </p:nvPicPr>
        <p:blipFill>
          <a:blip r:embed="rId1"/>
          <a:stretch/>
        </p:blipFill>
        <p:spPr>
          <a:xfrm>
            <a:off x="0" y="0"/>
            <a:ext cx="9396360" cy="74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油菜花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85d117650e1755bb251b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1476360" y="1341360"/>
            <a:ext cx="6120000" cy="30146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春天在哪里？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春天在枝头上：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春天的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微微吹动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柳条跳舞，桃花脸红。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                     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627280" y="4149720"/>
            <a:ext cx="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484360" y="422100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643280" y="4149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627280" y="4221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050920" y="4437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2556000" y="40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282600" y="5076720"/>
            <a:ext cx="81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模板尽在：</a:t>
            </a: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971640" y="907920"/>
            <a:ext cx="7416720" cy="447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第一节写了春天在哪里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春天的枝头是什么样的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柳条跳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桃花脸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什么意思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柳条为什么跳舞？桃花为什么脸红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20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1258920" y="1484280"/>
            <a:ext cx="1571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思考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草原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042920" y="1125360"/>
            <a:ext cx="712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春天在哪里？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春天在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草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上：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春天的雾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wù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báo)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薄细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草儿醒过来，换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huàn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上绿的新衣。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bfabe">
              <a:alpha val="20000"/>
            </a:srgbClr>
          </a:solidFill>
          <a:ln w="9360">
            <a:solidFill>
              <a:srgbClr val="e9f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84" name="Picture 28" descr="竹林4"/>
          <p:cNvPicPr/>
          <p:nvPr/>
        </p:nvPicPr>
        <p:blipFill>
          <a:blip r:embed="rId1"/>
          <a:stretch/>
        </p:blipFill>
        <p:spPr>
          <a:xfrm>
            <a:off x="5724360" y="33336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竹笋9"/>
          <p:cNvPicPr/>
          <p:nvPr/>
        </p:nvPicPr>
        <p:blipFill>
          <a:blip r:embed="rId2"/>
          <a:stretch/>
        </p:blipFill>
        <p:spPr>
          <a:xfrm>
            <a:off x="5796000" y="4516560"/>
            <a:ext cx="3348000" cy="2341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0"/>
          <p:cNvSpPr/>
          <p:nvPr/>
        </p:nvSpPr>
        <p:spPr>
          <a:xfrm>
            <a:off x="395280" y="1628640"/>
            <a:ext cx="712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在哪里？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在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竹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：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的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飘飘洒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笋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ǔ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地下探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出头来啦！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2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17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