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gif" ContentType="image/gif"/>
  <Override PartName="/ppt/media/image1.jpeg" ContentType="image/jpeg"/>
  <Override PartName="/ppt/media/image4.wmf" ContentType="image/x-wmf"/>
  <Override PartName="/ppt/media/image20.gif" ContentType="image/gif"/>
  <Override PartName="/ppt/media/image18.gif" ContentType="image/gif"/>
  <Override PartName="/ppt/media/image17.jpeg" ContentType="image/jpe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9AAD-4CFF-422B-8E31-C487DA2F52D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A49E-7E99-4364-86BF-CB9FC9EDA22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AA6-B7E8-4C5F-8D7B-18F8E48E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F90A-AB04-409F-ACC3-39F3E449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38A-FC08-43A7-8B81-7E9E0399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F93-C5A0-4623-A0BF-B3D09E76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B63-648C-4262-930D-29C9FD9B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94B8-53B3-4ABD-853B-F495F219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54E-5C30-48FE-B39F-9EFA666F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272-52C4-4B98-AA33-F10CFEBD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81F-A536-4FD9-8E31-D264F41F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350-193A-4DF7-8C3D-856FCDD8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34A-E167-4148-98F7-B7362496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1413-CA23-4690-8A55-C427E6F6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90BE-E14B-4D7C-AA79-137E9C00F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124000" y="22446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春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360160" y="692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湘教版一年级语文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ut5-3"/>
          <p:cNvPicPr/>
          <p:nvPr/>
        </p:nvPicPr>
        <p:blipFill>
          <a:blip r:embed="rId1"/>
          <a:stretch/>
        </p:blipFill>
        <p:spPr>
          <a:xfrm>
            <a:off x="990720" y="4267080"/>
            <a:ext cx="1218960" cy="110988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2194560" y="6021360"/>
            <a:ext cx="48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Snap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Snap6"/>
          <p:cNvPicPr/>
          <p:nvPr/>
        </p:nvPicPr>
        <p:blipFill>
          <a:blip r:embed="rId2"/>
          <a:stretch/>
        </p:blipFill>
        <p:spPr>
          <a:xfrm>
            <a:off x="684360" y="1197000"/>
            <a:ext cx="684036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Snap8"/>
          <p:cNvPicPr/>
          <p:nvPr/>
        </p:nvPicPr>
        <p:blipFill>
          <a:blip r:embed="rId2"/>
          <a:stretch/>
        </p:blipFill>
        <p:spPr>
          <a:xfrm>
            <a:off x="755640" y="1268280"/>
            <a:ext cx="658656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Snap10"/>
          <p:cNvPicPr/>
          <p:nvPr/>
        </p:nvPicPr>
        <p:blipFill>
          <a:blip r:embed="rId2"/>
          <a:stretch/>
        </p:blipFill>
        <p:spPr>
          <a:xfrm>
            <a:off x="755640" y="1197000"/>
            <a:ext cx="6769080" cy="37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Snap11"/>
          <p:cNvPicPr/>
          <p:nvPr/>
        </p:nvPicPr>
        <p:blipFill>
          <a:blip r:embed="rId2"/>
          <a:stretch/>
        </p:blipFill>
        <p:spPr>
          <a:xfrm>
            <a:off x="684360" y="1197000"/>
            <a:ext cx="684036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Snap12"/>
          <p:cNvPicPr/>
          <p:nvPr/>
        </p:nvPicPr>
        <p:blipFill>
          <a:blip r:embed="rId2"/>
          <a:stretch/>
        </p:blipFill>
        <p:spPr>
          <a:xfrm>
            <a:off x="684360" y="1268280"/>
            <a:ext cx="684036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Snap22"/>
          <p:cNvPicPr/>
          <p:nvPr/>
        </p:nvPicPr>
        <p:blipFill>
          <a:blip r:embed="rId2"/>
          <a:stretch/>
        </p:blipFill>
        <p:spPr>
          <a:xfrm>
            <a:off x="684360" y="1268280"/>
            <a:ext cx="6840360" cy="3816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2771640" y="981000"/>
            <a:ext cx="4680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仿宋_GB2312"/>
              </a:rPr>
              <a:t>春 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仿宋_GB2312"/>
              </a:rPr>
              <a:t>春 眠 不 觉 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仿宋_GB2312"/>
              </a:rPr>
              <a:t>处 处 闻 啼 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仿宋_GB2312"/>
              </a:rPr>
              <a:t>夜 来 风 雨 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仿宋_GB2312"/>
              </a:rPr>
              <a:t>花 落 知 多 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"/>
                            </p:stCondLst>
                            <p:childTnLst>
                              <p:par>
                                <p:cTn id="8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84360" y="614520"/>
            <a:ext cx="4751280" cy="64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仿宋_GB2312"/>
              </a:rPr>
              <a:t>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孟浩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99"/>
                </a:solidFill>
                <a:latin typeface="Arial"/>
                <a:ea typeface="仿宋_GB2312"/>
              </a:rPr>
              <a:t>     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仿宋_GB2312"/>
              </a:rPr>
              <a:t>mi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仿宋_GB2312"/>
              </a:rPr>
              <a:t>眠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 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99"/>
                </a:solidFill>
                <a:latin typeface="Arial"/>
                <a:ea typeface="仿宋_GB2312"/>
              </a:rPr>
              <a:t>                                                     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仿宋_GB2312"/>
              </a:rPr>
              <a:t>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闻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仿宋_GB2312"/>
              </a:rPr>
              <a:t>啼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 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838480" y="2324160"/>
            <a:ext cx="198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眠（春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（冬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啼（啼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（啼笑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非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图片6"/>
          <p:cNvPicPr/>
          <p:nvPr/>
        </p:nvPicPr>
        <p:blipFill>
          <a:blip r:embed="rId1"/>
          <a:stretch/>
        </p:blipFill>
        <p:spPr>
          <a:xfrm>
            <a:off x="104760" y="0"/>
            <a:ext cx="90043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95280" y="620640"/>
            <a:ext cx="4680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 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Snap28"/>
          <p:cNvPicPr/>
          <p:nvPr/>
        </p:nvPicPr>
        <p:blipFill>
          <a:blip r:embed="rId1"/>
          <a:stretch/>
        </p:blipFill>
        <p:spPr>
          <a:xfrm>
            <a:off x="4498920" y="620640"/>
            <a:ext cx="4105440" cy="12002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536920" y="1641600"/>
            <a:ext cx="160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孟浩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图片6"/>
          <p:cNvPicPr/>
          <p:nvPr/>
        </p:nvPicPr>
        <p:blipFill>
          <a:blip r:embed="rId2"/>
          <a:stretch/>
        </p:blipFill>
        <p:spPr>
          <a:xfrm>
            <a:off x="104760" y="0"/>
            <a:ext cx="90043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029680" y="1177920"/>
            <a:ext cx="5209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孟浩然，湖北襄阳人。他一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没有做过官，大半辈子隐居农村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着淡泊恬静的生活。壮年时曾漫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江浙，历览自然风光。他擅长写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水诗。他的作品格律谨严，又富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情趣，字里行间凝聚着对人生和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河的热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3"/>
          <p:cNvSpPr txBox="1"/>
          <p:nvPr/>
        </p:nvSpPr>
        <p:spPr>
          <a:xfrm>
            <a:off x="3635280" y="4046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作者简介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95280" y="119664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348000" y="256536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会生字。理解古诗  的含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诵课文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Snap27"/>
          <p:cNvPicPr/>
          <p:nvPr/>
        </p:nvPicPr>
        <p:blipFill>
          <a:blip r:embed="rId1"/>
          <a:stretch/>
        </p:blipFill>
        <p:spPr>
          <a:xfrm>
            <a:off x="4284720" y="1052640"/>
            <a:ext cx="4427640" cy="4176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95280" y="620640"/>
            <a:ext cx="4680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　　　　　孟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 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图片6"/>
          <p:cNvPicPr/>
          <p:nvPr/>
        </p:nvPicPr>
        <p:blipFill>
          <a:blip r:embed="rId2"/>
          <a:stretch/>
        </p:blipFill>
        <p:spPr>
          <a:xfrm>
            <a:off x="104760" y="0"/>
            <a:ext cx="90043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"/>
                            </p:stCondLst>
                            <p:childTnLst>
                              <p:par>
                                <p:cTn id="1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924360" y="83664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春晓：春天的早晨。晓，天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524200" y="2133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眠：睡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110640" y="3125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闻：听见，听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952960" y="3630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啼：鸟的叫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059880" y="25495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觉：感觉，知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5280" y="620640"/>
            <a:ext cx="4680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　　　　　孟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 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5327640" y="2343240"/>
            <a:ext cx="274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第一句讲春天的夜里睡得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香，不知不觉地天已亮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窗外传来一片悦耳的鸟叫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221080" y="4149720"/>
            <a:ext cx="295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第二句讲蒙胧中想起昨天夜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听见刮风下雨的声音，经过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吹雨打，不知有多少花朵凋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95280" y="620640"/>
            <a:ext cx="4680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　　　　　孟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 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图片3"/>
          <p:cNvPicPr/>
          <p:nvPr/>
        </p:nvPicPr>
        <p:blipFill>
          <a:blip r:embed="rId1"/>
          <a:stretch/>
        </p:blipFill>
        <p:spPr>
          <a:xfrm>
            <a:off x="4067280" y="260280"/>
            <a:ext cx="3400200" cy="28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835280" y="620640"/>
            <a:ext cx="525600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仿宋_GB2312"/>
              </a:rPr>
              <a:t>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997440" y="18669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997440" y="263700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997080" y="342900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.   . 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997080" y="422100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.   . 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图片6"/>
          <p:cNvPicPr/>
          <p:nvPr/>
        </p:nvPicPr>
        <p:blipFill>
          <a:blip r:embed="rId1"/>
          <a:stretch/>
        </p:blipFill>
        <p:spPr>
          <a:xfrm>
            <a:off x="104760" y="0"/>
            <a:ext cx="90043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"/>
                            </p:stCondLst>
                            <p:childTnLst>
                              <p:par>
                                <p:cTn id="17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"/>
                            </p:stCondLst>
                            <p:childTnLst>
                              <p:par>
                                <p:cTn id="1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"/>
                            </p:stCondLst>
                            <p:childTnLst>
                              <p:par>
                                <p:cTn id="1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图片6"/>
          <p:cNvPicPr/>
          <p:nvPr/>
        </p:nvPicPr>
        <p:blipFill>
          <a:blip r:embed="rId1"/>
          <a:stretch/>
        </p:blipFill>
        <p:spPr>
          <a:xfrm>
            <a:off x="1764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395280" y="620640"/>
            <a:ext cx="4680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　　　　　孟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 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220720" y="2338560"/>
            <a:ext cx="274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思考：这首诗表达了作者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么样的思想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612400" y="350028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这首诗表达了作者热爱春天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珍惜春光的思想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图片1"/>
          <p:cNvPicPr/>
          <p:nvPr/>
        </p:nvPicPr>
        <p:blipFill>
          <a:blip r:embed="rId2"/>
          <a:stretch/>
        </p:blipFill>
        <p:spPr>
          <a:xfrm>
            <a:off x="5508720" y="476280"/>
            <a:ext cx="266688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图片6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3838320" y="804960"/>
            <a:ext cx="157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作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背诵并默写这首古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图片5"/>
          <p:cNvPicPr/>
          <p:nvPr/>
        </p:nvPicPr>
        <p:blipFill>
          <a:blip r:embed="rId2"/>
          <a:stretch/>
        </p:blipFill>
        <p:spPr>
          <a:xfrm>
            <a:off x="4211640" y="3933720"/>
            <a:ext cx="3097080" cy="25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2340000" y="1628640"/>
            <a:ext cx="482436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4E47-D949-47B2-9125-9A61E0A51F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124000" y="620640"/>
            <a:ext cx="468000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 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图片6"/>
          <p:cNvPicPr/>
          <p:nvPr/>
        </p:nvPicPr>
        <p:blipFill>
          <a:blip r:embed="rId1"/>
          <a:stretch/>
        </p:blipFill>
        <p:spPr>
          <a:xfrm>
            <a:off x="104760" y="0"/>
            <a:ext cx="90043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nap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1"/>
          <p:cNvSpPr/>
          <p:nvPr/>
        </p:nvSpPr>
        <p:spPr>
          <a:xfrm>
            <a:off x="930240" y="3108240"/>
            <a:ext cx="491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Snap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Snap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Snap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Snap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111480" y="170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nap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9:24:23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29:45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