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5E5-D7D9-418D-B0C2-740984E5FA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DE2-DC25-4360-A576-0B7C14E474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F7E-DBF9-462B-9B62-4126547C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164-16B5-4DCE-846E-0D4DD3D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C20-AFDE-4AF8-9628-DED8A747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80C-E6B5-4A3D-9FAA-E2B1000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CE5D-EBCA-46FD-9A6C-53CB69E0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2AA4-8C2E-4BB8-8EDA-3F9A53B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A213-7392-4908-975C-7C357FA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6616-6216-4A09-932F-51CF850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0FCB-3316-4AD0-B346-6AE4BE6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A6E1-6B1F-4591-9BD1-42A71D6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6B5-9928-44FE-A2B7-E9E9EC1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D9C-A925-438A-974B-270185B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5050-C1CF-40D5-8FA0-44C5DCB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5691-2385-4B8C-A94A-EE4C5E2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3E6-DB96-4296-93B2-1FF7504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2B1-E4EA-4A11-B425-8B239522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8B18-BCCA-420B-B810-58C5FE65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802-2A2D-4A69-B653-A884270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870-CBF2-44EA-90F8-A54FD6B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F9D-11CA-4B90-A2F8-95776FC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7E1-7971-42A1-BD44-F3BD316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A72-2DCF-4B00-A6D2-426462D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BF8-148B-4A36-94D6-57916A3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DAA-E758-49E7-9822-DB588A8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9D2-F7B4-41AB-8F1F-E9D80C353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E1D-28D1-4652-8558-6B3929DF2C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CB%D3&#48559;%CE%EF&amp;in=13545&amp;cl=2&amp;cm=1&amp;sc=0&amp;lm=-1&amp;pn=2&amp;rn=1&amp;di=1601557132&amp;ln=1790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.baidu.com/i?ct=503316480&amp;z=0&amp;tn=baiduimagedetail&amp;word=&#1200;%C9%FA%C5%F3%D3%D1&amp;in=3941&amp;cl=2&amp;cm=1&amp;sc=0&amp;lm=-1&amp;pn=8&amp;rn=1&amp;di=1116226161&amp;ln=1155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.baidu.com/i?ct=503316480&amp;z=0&amp;tn=baiduimagedetail&amp;word=&#1200;%C9%FA%C5%F3%D3%D1&amp;in=28367&amp;cl=2&amp;cm=1&amp;sc=0&amp;lm=-1&amp;pn=2&amp;rn=1&amp;di=1149279321&amp;ln=1155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e24fe3beb7540f714cecbfa"/>
          <p:cNvPicPr/>
          <p:nvPr/>
        </p:nvPicPr>
        <p:blipFill>
          <a:blip r:embed="rId1"/>
          <a:srcRect l="3469" t="14337" r="2021" b="1424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651200" y="1042920"/>
            <a:ext cx="442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微软雅黑"/>
                <a:ea typeface="微软雅黑"/>
              </a:rPr>
              <a:t>达尔文和小松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20000" y="5157720"/>
            <a:ext cx="187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4443840" y="59612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620640"/>
            <a:ext cx="8362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百多年前，英国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家，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达尔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达尔文小时候爱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野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去玩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天上的鸟，地上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水里的鱼，他都喜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他从来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捉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动物，而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怎样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一次，他看见树上有几只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过的小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00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那天，他穿的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件粗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棕色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站在那儿一动不动，像一根树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只小松鼠跑来了，顺着他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往上爬，一只爬到肩膀上，左看看，右看看，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跟树上的妈妈打招呼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松鼠妈妈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急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" descr="5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-360" y="1699920"/>
            <a:ext cx="869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这篇课文讲了一件什么事情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矩形 3" descr=""/>
          <p:cNvPicPr/>
          <p:nvPr/>
        </p:nvPicPr>
        <p:blipFill>
          <a:blip r:embed="rId2"/>
          <a:stretch/>
        </p:blipFill>
        <p:spPr>
          <a:xfrm>
            <a:off x="2271600" y="1268280"/>
            <a:ext cx="642780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" descr="wifi0s0790545964IMG_20140312_095218.jpg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wifi0s0944201761IMG_20140312_095241.jpg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内容占位符 3" descr="wifi0s01077508379IMG_20140312_09531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9753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" descr="wifi0s0-1894033990IMG_20140312_09533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700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内容占位符 3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middlewv1wddif.jpg"/>
          <p:cNvPicPr/>
          <p:nvPr/>
        </p:nvPicPr>
        <p:blipFill>
          <a:blip r:embed="rId2"/>
          <a:stretch/>
        </p:blipFill>
        <p:spPr>
          <a:xfrm>
            <a:off x="0" y="3281400"/>
            <a:ext cx="3011400" cy="3576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000"/>
              </a:srgbClr>
            </a:outerShdw>
          </a:effectLst>
        </p:spPr>
      </p:pic>
      <p:pic>
        <p:nvPicPr>
          <p:cNvPr id="145" name="矩形 4" descr=""/>
          <p:cNvPicPr/>
          <p:nvPr/>
        </p:nvPicPr>
        <p:blipFill>
          <a:blip r:embed="rId3"/>
          <a:stretch/>
        </p:blipFill>
        <p:spPr>
          <a:xfrm>
            <a:off x="722160" y="476280"/>
            <a:ext cx="767412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5" descr=""/>
          <p:cNvPicPr/>
          <p:nvPr/>
        </p:nvPicPr>
        <p:blipFill>
          <a:blip r:embed="rId4"/>
          <a:stretch/>
        </p:blipFill>
        <p:spPr>
          <a:xfrm>
            <a:off x="682560" y="1989000"/>
            <a:ext cx="811872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5" descr="wifi0s0790545964IMG_20140312_095218.jpg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4" descr="wifi0s0944201761IMG_20140312_095241.jpg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内容占位符 3" descr="wifi0s01077508379IMG_20140312_09531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975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wifi0s0-1894033990IMG_20140312_09533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700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2641680"/>
            <a:ext cx="794088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达尔文非常喜欢小动物，不会伤害小松鼠。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angle 3" descr=""/>
          <p:cNvPicPr/>
          <p:nvPr/>
        </p:nvPicPr>
        <p:blipFill>
          <a:blip r:embed="rId2"/>
          <a:stretch/>
        </p:blipFill>
        <p:spPr>
          <a:xfrm>
            <a:off x="660240" y="907920"/>
            <a:ext cx="8006040" cy="147168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914560" y="547380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24000" y="549360"/>
            <a:ext cx="460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你和小动物交过朋友吗？讲讲你们之间的故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u=2794568363,2146637049&amp;fm=0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3102120" cy="338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u=1364588823,3203496624&amp;fm=3&amp;gp=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468520"/>
            <a:ext cx="4535280" cy="4111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u=2392699351,3680214579&amp;fm=3&amp;gp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32000" y="3789360"/>
            <a:ext cx="211284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内容占位符 3" descr="wifi0s0-421125906IMG_20140308_084825.jpg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wifi0s0882934871IMG_20140308_084842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矩形 5" descr=""/>
          <p:cNvPicPr/>
          <p:nvPr/>
        </p:nvPicPr>
        <p:blipFill>
          <a:blip r:embed="rId3"/>
          <a:stretch/>
        </p:blipFill>
        <p:spPr>
          <a:xfrm>
            <a:off x="0" y="1268280"/>
            <a:ext cx="665280" cy="120672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6" descr=""/>
          <p:cNvPicPr/>
          <p:nvPr/>
        </p:nvPicPr>
        <p:blipFill>
          <a:blip r:embed="rId4"/>
          <a:stretch/>
        </p:blipFill>
        <p:spPr>
          <a:xfrm>
            <a:off x="0" y="2997360"/>
            <a:ext cx="665280" cy="120492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5"/>
          <a:stretch/>
        </p:blipFill>
        <p:spPr>
          <a:xfrm>
            <a:off x="1979640" y="0"/>
            <a:ext cx="665280" cy="120636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8" descr=""/>
          <p:cNvPicPr/>
          <p:nvPr/>
        </p:nvPicPr>
        <p:blipFill>
          <a:blip r:embed="rId6"/>
          <a:stretch/>
        </p:blipFill>
        <p:spPr>
          <a:xfrm>
            <a:off x="4643280" y="620640"/>
            <a:ext cx="665280" cy="120492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9" descr=""/>
          <p:cNvPicPr/>
          <p:nvPr/>
        </p:nvPicPr>
        <p:blipFill>
          <a:blip r:embed="rId7"/>
          <a:stretch/>
        </p:blipFill>
        <p:spPr>
          <a:xfrm>
            <a:off x="6515280" y="2349360"/>
            <a:ext cx="66672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4869-8B9A-4BF9-ACED-094DFFB224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7"/>
          <p:cNvSpPr/>
          <p:nvPr/>
        </p:nvSpPr>
        <p:spPr>
          <a:xfrm>
            <a:off x="1042920" y="21398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2411280" y="1268280"/>
            <a:ext cx="6264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学习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借助拼音自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把字音读准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圈出课后的生字，同桌互相读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5" descr="wifi0s0790545964IMG_20140312_095218.jpg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" descr="wifi0s0944201761IMG_20140312_095241.jpg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内容占位符 3" descr="wifi0s01077508379IMG_20140312_09531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975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wifi0s0-1894033990IMG_20140312_09533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700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000" y="549000"/>
            <a:ext cx="843588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位    达尔文    野外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虫子     捉弄       观察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从未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件       粗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外衣     树干       干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尾巴     急坏       翘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691920"/>
            <a:ext cx="821844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学习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继续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声音洪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把句子读通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读给同桌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5" descr="wifi0s0790545964IMG_20140312_095218.jpg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4" descr="wifi0s0944201761IMG_20140312_095241.jpg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内容占位符 3" descr="wifi0s01077508379IMG_20140312_09531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975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wifi0s0-1894033990IMG_20140312_09533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700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11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2:5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