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89C3-5B53-438E-8C3D-3CD93B52E6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BA18-14F4-4441-8B85-E4AEE6EF99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D18-273E-450F-8B36-1AADC602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296-744C-49D0-BFEF-214CF54A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6A6-DFD8-4D74-8E43-940FF4C8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ABE-9130-4F6A-89C1-436ECA41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2F3-1E3B-4EDB-9502-9ED2DFA6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144-AE5D-4CB6-9D5A-D4287C7D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859-1E66-47EF-9A38-0FF91CA8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25A-DA89-4A13-91FE-7A90972F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9A6-6BB7-4778-8A3C-9547D26C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7DD-3DBE-4ABB-8B52-0D60C51F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368-8903-4BE2-B513-00BCB6A8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B0A-1EB3-4102-9220-54FC4872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098F-4D07-4AA2-9D2F-15CE8BF55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644-63825r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矩形 1"/>
          <p:cNvSpPr/>
          <p:nvPr/>
        </p:nvSpPr>
        <p:spPr>
          <a:xfrm>
            <a:off x="3805200" y="213372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只有一个地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827000" y="5516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58ff652098eebc75935807c0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000" y="155736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我们这个地球太</a:t>
            </a:r>
            <a:r>
              <a:rPr b="1" lang="zh-CN" sz="6000" spc="-1" strike="noStrike">
                <a:solidFill>
                  <a:srgbClr val="cc3300"/>
                </a:solidFill>
                <a:latin typeface="Arial"/>
              </a:rPr>
              <a:t>可爱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了，同时又太容易</a:t>
            </a:r>
            <a:r>
              <a:rPr b="1" lang="zh-CN" sz="6000" spc="-1" strike="noStrike">
                <a:solidFill>
                  <a:srgbClr val="cc3300"/>
                </a:solidFill>
                <a:latin typeface="Arial"/>
              </a:rPr>
              <a:t>破碎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了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58ff652098eebc75935807c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2565360"/>
            <a:ext cx="83883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认识词语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遥望   晶莹    资源     矿物    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恩赐   节制    枯竭     滥用     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威胁   指望    设想     移民    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破碎   目睹    和蔼可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58ff652098eebc75935807c0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词语理解</a:t>
            </a:r>
            <a:br>
              <a:rPr sz="44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恩赐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：原指帝王给予赏赐，现泛指因怜悯而施舍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滥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：胡乱或过度地使用。文中指胡乱或过度地使用化学品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威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：用威力逼迫、恫吓，使人屈服。文中指自然资源被破坏及一系列的生态灾难，会对人类的生存造成极大的危害，甚至最终使人类无法生存下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58ff652098eebc75935807c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我们的地球太可爱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映入眼帘的是一个晶莹的球体，上面蓝色和白色的纹痕相互交错，周围裹着一层薄薄的水蓝色“纱衣”。地球，这位人类的母亲，这个生命的摇篮，是那样的美丽壮观，和蔼可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023880" y="5694480"/>
            <a:ext cx="19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外表美丽壮观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58ff652098eebc75935807c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地球是无私的，它向人类慷慨地提供矿产资源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人类生活所需要的水资源、森林资源、生物资源、大气资源，本来是可以不断再生，长期给人类做贡献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304680" y="5124600"/>
            <a:ext cx="21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地球是无私的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58ff652098eebc75935807c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我们的地球太容易破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同茫茫宇宙相比，地球是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渺小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的。它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是一个半径只有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6 300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多公里的星球，在群星璀璨的宇宙中，就像一叶扁舟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它只有这么大，不会再长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469200" y="5556240"/>
            <a:ext cx="193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地球很小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58ff652098eebc75935807c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9528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地球所拥有的自然资源也是有限的。拿矿物资源来说，它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上帝的恩赐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而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经过几百万年，甚至几亿年的地质变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才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形成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如果不加节制地开采，地球上的矿产资源必将越来越少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292720" y="5445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58ff652098eebc75935807c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人类生活所需要的水资源、森林资源、生物资源、大气资源，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本来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是可以不断再生，长期给人类做贡献的。但是因为人类随意毁坏自然资源，不顾后果地滥用化学品，不但使它们不能再生，还造成了一系列生态灾难，给人类生存带来了严重的威胁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5328720" y="5084640"/>
            <a:ext cx="260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自然资源有限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58ff652098eebc75935807c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95280" y="69228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有人会说，宇宙空间不是大得很吗，那里有数不清的星球，在地球资源枯竭的时候，我们不能移居到别的星球上去吗？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　科学家已经证明，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至少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在以地球为中心的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万亿公里的范围内，没有适合人类居住的第二个星球。人类不能指望在破坏了地球以后再移居到别的星球上去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427640" y="5516640"/>
            <a:ext cx="4537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目前人类无法移居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58ff652098eebc75935807c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我们只有一个地球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们这个地球太可爱了，同时又太容易破碎了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3_1270483735aK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58ff652098eebc75935807c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只有一个地球，如果它被破坏了，我们别无去处。如果地球上的各种资源都枯竭了，我们很难从别的地方得到补充。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我们要精心地保护地球，保护地球的生态环境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让地球更好地造福于我们的子孙后代吧！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2550960" y="5877000"/>
            <a:ext cx="53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58ff652098eebc75935807c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1392_big"/>
          <p:cNvPicPr/>
          <p:nvPr/>
        </p:nvPicPr>
        <p:blipFill>
          <a:blip r:embed="rId2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SaveEarth_1030"/>
          <p:cNvPicPr/>
          <p:nvPr/>
        </p:nvPicPr>
        <p:blipFill>
          <a:blip r:embed="rId3"/>
          <a:stretch/>
        </p:blipFill>
        <p:spPr>
          <a:xfrm>
            <a:off x="-2286000" y="-857160"/>
            <a:ext cx="13716000" cy="857232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2"/>
          <p:cNvSpPr txBox="1"/>
          <p:nvPr/>
        </p:nvSpPr>
        <p:spPr>
          <a:xfrm>
            <a:off x="395280" y="260280"/>
            <a:ext cx="8667720" cy="13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想这样保护地球</a:t>
            </a:r>
            <a:r>
              <a:rPr b="0" lang="en-US" sz="8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0" lang="en-US" sz="8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58ff652098eebc75935807c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辨别说明方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9280" y="1268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同茫茫宇宙相比，地球是渺小的。它是一个半径只有六千三百多千米的星球。（   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在璀璨的宇宙中，就像一叶扁舟。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矿物资源不是上帝的恩赐，而是经过几百年，甚至几亿年的地质变化才形成的。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276720" y="256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列数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 flipV="1" rot="10800000">
            <a:off x="1042560" y="3933360"/>
            <a:ext cx="11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楷体_GB2312"/>
              </a:rPr>
              <a:t>打比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822120" y="587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楷体_GB2312"/>
              </a:rPr>
              <a:t>列数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4412880" y="256536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作比较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668573_125443098449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946504_192905043305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9"/>
          <p:cNvSpPr/>
          <p:nvPr/>
        </p:nvSpPr>
        <p:spPr>
          <a:xfrm>
            <a:off x="1258920" y="1484280"/>
            <a:ext cx="8209080" cy="25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Arial"/>
              </a:rPr>
              <a:t>保护地球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Arial"/>
              </a:rPr>
              <a:t>　　人人有责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E047-C793-4E84-8664-D13AB06730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14300000958002128480021861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1692360" y="9169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乱倒垃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6670307504906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3276720" y="3690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乱砍乱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20100331233648253"/>
          <p:cNvPicPr/>
          <p:nvPr/>
        </p:nvPicPr>
        <p:blipFill>
          <a:blip r:embed="rId1"/>
          <a:stretch/>
        </p:blipFill>
        <p:spPr>
          <a:xfrm>
            <a:off x="-108000" y="-189000"/>
            <a:ext cx="9720360" cy="72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061204105872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1795680" y="873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水污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013000001641511238496424798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46829_582776_d8df6ac756a34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Img3203918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2:17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3:13Z</dcterms:modified>
  <cp:revision>8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