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819-F2BB-44F4-9CD1-BB8CA77296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641-32DC-409E-A503-BCA0574C27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9D9-ED2F-4C3E-A49F-387647F5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226-BCEE-4748-A65B-9F95BFDD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91D-5C73-4FA4-9AD7-34874BA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7FC-CA23-450A-A19B-14CEBCC5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4A0-D845-4195-A0E5-B1356963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707-4BCF-422B-A5EC-97BFF937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64A-7315-42BE-AF80-E5806E1F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9BA-30A9-4B84-93C2-09E6BFA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EC3-E38F-4057-AD82-9C78345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84A-FE48-46E2-9A3D-38D849E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645-368D-4825-B5DA-5953D436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0D8-8416-40E3-BF50-0107C4C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F17A-C437-432F-B587-A55FB66E0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533520" y="7477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湘教版二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1312920" y="2036880"/>
            <a:ext cx="644832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鱼米乡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0680" y="57913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请同学们读课文回答老师的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7200" y="1981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美丽富饶的洞庭湖是祖国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09480" y="3657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哪部分讲洞庭湖是祖国的大鱼库？哪部分讲洞庭湖是祖国的大粮仓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23880" y="27432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鱼库、大粮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600200" y="14479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小朋友想想看，鱼汛季节到了，洞庭湖畔会是一种什么样的景象？捕鱼的人们心情怎么样？他们会说些什么？想些什么呢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133720" y="3505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请小朋友带着高兴、愉快的心情读一读这些自然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143000" y="27432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作者用“美丽富饶”来形容这么美的洞庭湖，我想小朋友们也一定感受到了，请你选择自己感兴趣的部分（鱼库、粮仓、楼房）画下来吧！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3124080" y="1219320"/>
            <a:ext cx="2590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拓展延伸</a:t>
            </a:r>
            <a:endParaRPr b="1" lang="en-US" sz="6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2419200" y="5780160"/>
            <a:ext cx="52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523880" y="4038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收集洞庭湖的资料和同学交流，办一张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爱洞庭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主题的小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3124080" y="457200"/>
            <a:ext cx="2438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布置作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600200" y="22860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感情地朗读课文，背诵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523880" y="32004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抄写本课的生字，每个写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1143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美丽的洞庭湖，是祖国江南大地上的一颗明珠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宽阔的湖面上，碧波荡漾，船儿来往，鱼儿蹦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湖畔，是一望无际的稻田。春天，禾苗青青；夏季，稻浪滚滚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是呀，鱼汛季节，鲜活的鱼儿，一筐筐，一担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真的，收割季节，金黄的谷子，一袋袋，一车车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F.</a:t>
            </a: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美丽富饶的洞庭，是祖国的大鱼库、大粮仓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3581280" y="5335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佳句品读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F09-3CBA-4BA4-AFD6-9E99087024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971800" y="304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14400" y="3429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感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课文中描述的优美画面，体会洞庭湖乡的美丽富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990720" y="11430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其中会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、庭、湖、祖、担、仓、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990720" y="236232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力目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书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有感情地朗读课文，背诵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295280" y="12193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美丽的洞庭湖，是祖国江南大地上的一颗明珠，它美丽、富饶是有名的鱼米之乡，那儿景色美丽，物产丰富，让我们一起去看看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今天，我们一起来学习这篇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洞庭鱼米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219320" y="243828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望无际    稻浪滚滚   一袋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838080" y="4724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儿蹦跳    一筐筐    楼房    一担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14600" y="533520"/>
            <a:ext cx="4114800" cy="1143000"/>
          </a:xfrm>
          <a:custGeom>
            <a:avLst/>
            <a:gdLst>
              <a:gd name="textAreaLeft" fmla="*/ 966240 w 4114800"/>
              <a:gd name="textAreaRight" fmla="*/ 3148560 w 4114800"/>
              <a:gd name="textAreaTop" fmla="*/ 268200 h 1143000"/>
              <a:gd name="textAreaBottom" fmla="*/ 8748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词语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66680" y="3581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车车   船儿来往   仓库   粮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4"/>
          <p:cNvSpPr/>
          <p:nvPr/>
        </p:nvSpPr>
        <p:spPr>
          <a:xfrm>
            <a:off x="4041720" y="816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2895480" y="228600"/>
            <a:ext cx="3429000" cy="1066680"/>
          </a:xfrm>
          <a:custGeom>
            <a:avLst/>
            <a:gdLst>
              <a:gd name="textAreaLeft" fmla="*/ 805320 w 3429000"/>
              <a:gd name="textAreaRight" fmla="*/ 2623680 w 342900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4495680"/>
            <a:ext cx="7696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仓    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858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33720" y="4191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50532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ā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5627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62120" y="2666880"/>
            <a:ext cx="68580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洞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621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ò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6668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343400" y="220968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85800" y="1447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828800" y="838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8288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419720" y="1523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715000" y="8380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79132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38080" y="4343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981080" y="3886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9810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4572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791320" y="3581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791320" y="4952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1371600" y="1371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1371600" y="1981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5029200" y="1295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029200" y="1905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V="1">
            <a:off x="1447920" y="4267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1447920" y="4800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 flipV="1">
            <a:off x="5181480" y="39621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>
            <a:off x="525780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6553080" y="5562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 action="ppaction://hlinksldjump"/>
              </a:rPr>
              <a:t>返 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14400" y="2362320"/>
            <a:ext cx="76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、庭、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后鼻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前鼻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平舌音，不要读成翘舌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的的声母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不要读成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是第三声，不要读成第二声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590920" y="304920"/>
            <a:ext cx="4190760" cy="1218960"/>
          </a:xfrm>
          <a:custGeom>
            <a:avLst/>
            <a:gdLst>
              <a:gd name="textAreaLeft" fmla="*/ 983880 w 4190760"/>
              <a:gd name="textAreaRight" fmla="*/ 3206880 w 4190760"/>
              <a:gd name="textAreaTop" fmla="*/ 286200 h 1218960"/>
              <a:gd name="textAreaBottom" fmla="*/ 932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我知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2209680" y="457200"/>
            <a:ext cx="3429000" cy="1066680"/>
          </a:xfrm>
          <a:custGeom>
            <a:avLst/>
            <a:gdLst>
              <a:gd name="textAreaLeft" fmla="*/ 805320 w 3429000"/>
              <a:gd name="textAreaRight" fmla="*/ 2623680 w 3429000"/>
              <a:gd name="textAreaTop" fmla="*/ 250560 h 1066680"/>
              <a:gd name="textAreaBottom" fmla="*/ 8161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我会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90512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的左边“三点水”稍窄，右边的“同”较宽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是左中右结构，写的时候要注意摆匀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是“示字旁”，不要写成“衣”字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字中间的“人”略写开一点，下面的“口”字不要写得太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3352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（   ）担（   ）湖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姐（   ）但（   ）糊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1143000" y="1371600"/>
            <a:ext cx="60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给形近字“找朋友”，组词。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0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43Z</dcterms:modified>
  <cp:revision>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