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0271-0A0E-426A-A936-0BE9EB87BB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31C5-F48B-4E53-A1B6-1B0B4EAE99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599-BE4B-4FAF-B12F-E11C06C4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3BB-2BE9-49A1-95D1-A3C30A4F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BE85B-3F7B-456B-9CB5-7579B972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27732-F639-4703-9464-33A6E645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F737F-DA80-45FB-98A8-F7904922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7323C-26D3-45C6-848D-A5A87AC4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D39EC-2C58-4241-AF6D-EE7312F8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EAC67-5A32-453B-8D68-57CDA0DF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DF342-4DDD-4427-9937-E63A8B14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D2B9E-D81D-492D-91CD-AE8E00BA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5BA97-7523-4BE2-9B33-49990DFD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E6D31-6681-447C-AE87-754691F4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B05-746A-4E87-8F33-4F75CCD6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D69DD-03FA-4E60-926D-8A04360E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052F6-460D-4D0A-8658-45B9D941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4E2A9-4FD5-4509-81F2-BDD850F6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6472F-1F55-4761-B990-E7442756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EEE36-59DD-4306-98B3-2B9F8FB4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889DA-4D26-4379-9EB6-9F37F34C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1F78F-7777-4F6D-8A2C-0EFBC0B6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60949-5CE1-4BDF-BC08-02222F0A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493A0-2D44-46EE-BC10-2077368B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DA021-5449-400D-893D-526FBD02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AC9-4C6B-4107-AF7E-40FA417C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45E30-F37B-4E26-8050-BBED634A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8EB59-FEDC-4416-A4A9-9D5BD145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D0DA9-C244-4F7D-B153-EAA2E06F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15992-47DC-4D01-AE02-54345294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B597A-687A-479C-97A8-62FAEA5E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9E704-2401-4727-8881-A77974F3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163BB-7869-4495-A8E5-AA48856E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4F90A-AAAB-48EE-A047-88045F6E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05DF7-CCE2-432C-BDBA-EF3AF94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27341-6BC4-464E-ABC3-A338384B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EB8D-4661-4AF5-BC8C-E42E7F53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42839-2C6F-48FB-99A7-F963B92A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BA79A-04BF-4F30-8E76-F8D6BCFC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355D8-6552-45FF-82C6-B554BF73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C8730-E3DD-47BD-94F4-7C153FB8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E5414-C712-48B8-B598-46ED9D47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64D72-F92D-48D6-BEF4-C088DECC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F971D-2C57-46D4-A41B-BF0AFA78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77D7A-412C-4C96-AA55-CD73AE2C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F1C16-9752-4F8B-93CB-1DD3C10F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CB504-D10F-4694-A47C-C2D39DE8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EE30-3161-4282-9971-27926AE4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C50D6-A45E-439D-B7B4-8F007A49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7410E-EE00-493E-A46F-6021825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037F9-99E0-4E60-B652-D4FB7B7B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C82D2-4AC5-4C5A-B604-ADBBDF1F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CC4B6-3032-42F3-920D-165A8746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6F0D2-7884-44A1-94C5-1DF2D419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30A3B-1809-49AF-920E-2E14A000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67BDB-1E48-46D1-BA0D-CCCF7568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BB87A-E01D-4020-95C8-638CA3E7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4EC55-86C8-4FCF-9512-4485750A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5140-D1A9-4522-ADAC-31B5594F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9A2DE-3A8B-4AD3-9ACA-1BC92BD4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77F2F-3ED0-4EF7-B75C-883EDEA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3F2B2-9062-4C7C-8E04-DBFE52CD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E5C1B-C748-4290-AFA2-CBBC4F52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96E6B-F82E-4CFE-856E-1C983669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A411A-53CD-4756-BFD8-2B8D6A32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7EDF3-1228-4870-858A-C35F3E8B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B18E-4E73-4E19-9063-258A4B2C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9617-2A54-4558-AE3C-F59A4522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2AA6-2DC0-4CB3-A842-9A88A9F7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9801-D8C2-49BA-897D-530C6B9C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C91-056E-4566-B83C-B7019950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3345-321E-452A-8AFA-AAAC4B5B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C333-A4EC-43B6-B2ED-B667A06C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1D22-9B7E-415A-BACD-72A73208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A182-F123-4C1B-A416-59FEF8A9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726B-5244-4E22-9472-E2F66B33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F58A-C7D5-4052-BB55-9753D950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6125E-ED29-4570-9894-427C55DE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EF4D-311B-4FEA-9AA5-644D33EB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37B6-539B-43B3-9E9A-D223E2DB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F565-C909-4D86-912A-79048212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4E2-99B9-4D78-9C0E-F2F71901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0547-FBCE-48B2-967A-6F3E5AA2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4B87-042C-4AF8-AA90-5544AEC2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D17B-C1BC-4C83-9CC2-71AC5465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6CA3-40C6-44B5-938A-C76D82AA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2D67-F310-49A0-854C-746100F7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AE20-3A0A-478F-BE25-C405A715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374C-DA97-4394-95C4-85471EB3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38EE0-9C53-4316-8734-802C83B7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6FFD-B37F-493B-B648-5D3A2E8F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0A234-AD71-458B-9473-B6EC68B6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5F2-4CC6-44DD-BAB4-2A032A44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4B9C-C422-46AE-BE1B-1BFC26B3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FE52-7738-442A-AFB6-94B05535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81BB-AB92-47D3-8E20-209E4EC4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7DB1-6E1D-4340-952E-1D1B4FB3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285D-9E3A-4F26-9934-A5C06A05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DDE57-E081-4AAB-A72D-8FBAA009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D5A4F-022A-49DF-BFD9-A68B87D5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E17B-6571-4722-93B6-1A728835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EA2D-E114-4002-9413-550E9C1B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D2018-26DC-49D1-BBFD-05928C0B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E8E-E5F0-4468-A03C-4FAF4D3D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661BC-3A16-4B08-943F-45EE8985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27F7A-1F9B-4B44-9D52-78830F56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21B85-B8DF-43A4-B1AD-27F9EAB5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7130D-DA8F-4FE1-8858-D149356B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4F48B-BB8C-4AF3-A624-C0223BB5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65703-1387-42B5-8704-41B2B0DA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45A7-1E76-4ED4-905D-526A1264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731EE-4298-45F8-8AC3-D62D1DB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27BEC-DFC5-4672-A606-25C43586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64730-4E4C-4204-8B67-EB238C1B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BFA-AA17-42A4-B489-51C02869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B98BE-2B40-4DC9-8575-8666B2ED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E3034-2F81-4539-87E9-01C43ADC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B29A7-597C-45AD-890E-50F5C8F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69ACA-6023-4638-BCA4-DC0614B5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90816-DB43-41B5-84FB-8F041E22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240B3-D46D-4B54-8B34-15468858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BA5E2-1C3C-4C64-BD7C-B5721414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734BD-1389-43C6-A793-E98AFEB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7ABDC-E666-4AC2-B26A-13A2D1EC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A79AB-F387-4B1E-A031-821E8AE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742-4923-4C63-8FC8-F500E130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187E1-C48F-41E3-87DC-0DE08980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0A3B7-A7D0-47BE-8262-DDBF84E5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96056-53F1-4CB8-A91A-4E2246FA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EAFC6-E41B-4224-AADD-221D4807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03931-C3ED-49E5-BAF2-D4547B10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93E4F-684B-46F6-886E-C8CC0B12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B912C-2562-481F-9763-2EA64536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51948-1F79-4C2C-8A1A-83F96A70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B3AC-B57D-437B-A899-FF1CF3D2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3F56D-5ACF-4E28-8D35-0A8744EF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ECF-56B6-41AE-8B15-68C3A85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5EB65-2DEB-4096-BD93-2691ADF3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1AE83-7A14-4D67-9732-ECFA3B3E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D9387-679D-421D-B596-337DF593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614EF-F6F9-41E0-9477-38157644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7A14-E377-448D-B8C0-F89CC3E6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817E1-0E89-4A58-92DF-26038461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799F5-32B6-49B2-AFF2-131FEE1C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4C023-EE90-44D8-87D2-1FC8BEE4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6D477-1FD3-40A0-A615-0C715B2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57FCB-F5B3-4BC3-989B-04CEB22A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04C-2213-45DA-9818-FB055DB3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63773-D7C8-4924-8487-F9543A0B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90525-B481-4D4C-84D8-C69A9619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0A436-7E8D-4E23-8171-F287B662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C461B-05A1-41A3-8707-C7A2EAB4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E1C86-CA8F-4A87-A41F-2AA0D0F2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D9CB1-8A0E-4DD4-9887-C35EA09D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DD7CE-2515-40E0-899F-491FFB74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E2392-FB42-4487-AF16-B6282FE2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30895-157D-4250-8667-47B7D7B2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05359-F84F-4DB8-97A1-6B3E6084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7CB0-9F24-4232-BC4C-3D585AECE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7575-35D0-4EC9-B59F-31B90837A6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FDB0-9C8A-4D55-ACA0-DA3DD7A313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78D8-D42C-4684-939C-7C557286A8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42A6-C197-4ED3-AAC2-4598C43B78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4400-ECB0-4ED0-8CDF-7394504387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F503-8069-43D3-A80F-ADEC67885D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869D-D66B-4711-AEE1-A32B4BA33D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2711-C4F7-40BD-9E10-E770704061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233F-B4AE-4316-A84A-6E8B840533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6D18-2351-4635-AD1D-9C6D491B44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FB74-D726-483C-9A8D-06D9B95944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FEE0-0787-40D3-9EA7-AD80365C47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4" descr="白梅.png"/>
          <p:cNvPicPr/>
          <p:nvPr/>
        </p:nvPicPr>
        <p:blipFill>
          <a:blip r:embed="rId2"/>
          <a:stretch/>
        </p:blipFill>
        <p:spPr>
          <a:xfrm>
            <a:off x="5214960" y="2886120"/>
            <a:ext cx="3929040" cy="3971880"/>
          </a:xfrm>
          <a:prstGeom prst="rect">
            <a:avLst/>
          </a:prstGeom>
          <a:ln w="0">
            <a:noFill/>
          </a:ln>
        </p:spPr>
      </p:pic>
      <p:sp>
        <p:nvSpPr>
          <p:cNvPr id="541" name="TextBox 2"/>
          <p:cNvSpPr/>
          <p:nvPr/>
        </p:nvSpPr>
        <p:spPr>
          <a:xfrm>
            <a:off x="2664000" y="1316160"/>
            <a:ext cx="562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3300"/>
                </a:solidFill>
                <a:latin typeface="华文隶书"/>
                <a:ea typeface="华文隶书"/>
              </a:rPr>
              <a:t>冬至的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矩形 3" descr=""/>
          <p:cNvPicPr/>
          <p:nvPr/>
        </p:nvPicPr>
        <p:blipFill>
          <a:blip r:embed="rId3"/>
          <a:stretch/>
        </p:blipFill>
        <p:spPr>
          <a:xfrm>
            <a:off x="1725480" y="5724360"/>
            <a:ext cx="5546880" cy="743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2786040" y="2214720"/>
            <a:ext cx="5572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默读课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每自然段主要讲了什么内容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整体感知"/>
          <p:cNvPicPr/>
          <p:nvPr/>
        </p:nvPicPr>
        <p:blipFill>
          <a:blip r:embed="rId1"/>
          <a:stretch/>
        </p:blipFill>
        <p:spPr>
          <a:xfrm>
            <a:off x="539640" y="1413000"/>
            <a:ext cx="2017800" cy="417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小女孩"/>
          <p:cNvPicPr/>
          <p:nvPr/>
        </p:nvPicPr>
        <p:blipFill>
          <a:blip r:embed="rId2"/>
          <a:stretch/>
        </p:blipFill>
        <p:spPr>
          <a:xfrm>
            <a:off x="755640" y="270828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4"/>
          <p:cNvSpPr/>
          <p:nvPr/>
        </p:nvSpPr>
        <p:spPr>
          <a:xfrm>
            <a:off x="928800" y="228600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一自然段：冬至是怎么回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二自然段：冬至过后，春天悄悄地走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整体感知"/>
          <p:cNvPicPr/>
          <p:nvPr/>
        </p:nvPicPr>
        <p:blipFill>
          <a:blip r:embed="rId1"/>
          <a:stretch/>
        </p:blipFill>
        <p:spPr>
          <a:xfrm>
            <a:off x="571680" y="1357200"/>
            <a:ext cx="2017440" cy="41760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5" descr="图片11.png"/>
          <p:cNvPicPr/>
          <p:nvPr/>
        </p:nvPicPr>
        <p:blipFill>
          <a:blip r:embed="rId2"/>
          <a:stretch/>
        </p:blipFill>
        <p:spPr>
          <a:xfrm>
            <a:off x="5786280" y="5072040"/>
            <a:ext cx="2536920" cy="116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1"/>
          <p:cNvSpPr/>
          <p:nvPr/>
        </p:nvSpPr>
        <p:spPr>
          <a:xfrm>
            <a:off x="1285920" y="2071800"/>
            <a:ext cx="678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三自然段：冬至的等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四自然段：冬至的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五自然段：冬至的记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图片 2" descr="图片11.png"/>
          <p:cNvPicPr/>
          <p:nvPr/>
        </p:nvPicPr>
        <p:blipFill>
          <a:blip r:embed="rId1"/>
          <a:stretch/>
        </p:blipFill>
        <p:spPr>
          <a:xfrm>
            <a:off x="5857920" y="5072040"/>
            <a:ext cx="2536920" cy="11653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整体感知"/>
          <p:cNvPicPr/>
          <p:nvPr/>
        </p:nvPicPr>
        <p:blipFill>
          <a:blip r:embed="rId2"/>
          <a:stretch/>
        </p:blipFill>
        <p:spPr>
          <a:xfrm>
            <a:off x="642960" y="1143000"/>
            <a:ext cx="2017800" cy="417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714240" y="3000240"/>
            <a:ext cx="771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为什么说冬至的梦是“温暖的梦、希望的梦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是从文中哪些地方感受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细读感悟"/>
          <p:cNvPicPr/>
          <p:nvPr/>
        </p:nvPicPr>
        <p:blipFill>
          <a:blip r:embed="rId1"/>
          <a:stretch/>
        </p:blipFill>
        <p:spPr>
          <a:xfrm>
            <a:off x="285840" y="785880"/>
            <a:ext cx="2087640" cy="55872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1808280" y="17859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细读课文，思考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1" descr="冬至.jpg"/>
          <p:cNvPicPr/>
          <p:nvPr/>
        </p:nvPicPr>
        <p:blipFill>
          <a:blip r:embed="rId1"/>
          <a:stretch/>
        </p:blipFill>
        <p:spPr>
          <a:xfrm>
            <a:off x="857160" y="928800"/>
            <a:ext cx="7620120" cy="5064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361C-72F0-417A-8E99-84AB4242AA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4"/>
          <p:cNvSpPr/>
          <p:nvPr/>
        </p:nvSpPr>
        <p:spPr>
          <a:xfrm>
            <a:off x="714240" y="221472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正确认读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体会“我”和爷爷向往、热爱春天的情感，感受生活的美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85880" y="9288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857160" y="2286000"/>
            <a:ext cx="742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节气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春雨惊春清谷天，夏满芒夏暑相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秋处露秋寒霜降，冬雪雪冬小大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创设情境"/>
          <p:cNvPicPr/>
          <p:nvPr/>
        </p:nvPicPr>
        <p:blipFill>
          <a:blip r:embed="rId1"/>
          <a:stretch/>
        </p:blipFill>
        <p:spPr>
          <a:xfrm>
            <a:off x="611280" y="1125360"/>
            <a:ext cx="2074680" cy="570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4"/>
          <p:cNvSpPr/>
          <p:nvPr/>
        </p:nvSpPr>
        <p:spPr>
          <a:xfrm>
            <a:off x="3419640" y="2565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1000080" y="221472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冬至是二十四节气之一，并且是很重要的一个节气。冬至这天，白昼最短，黑夜最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创设情境"/>
          <p:cNvPicPr/>
          <p:nvPr/>
        </p:nvPicPr>
        <p:blipFill>
          <a:blip r:embed="rId1"/>
          <a:stretch/>
        </p:blipFill>
        <p:spPr>
          <a:xfrm>
            <a:off x="611280" y="1125360"/>
            <a:ext cx="2074680" cy="570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1" descr="01300000633474128258827663481.jpg"/>
          <p:cNvPicPr/>
          <p:nvPr/>
        </p:nvPicPr>
        <p:blipFill>
          <a:blip r:embed="rId1"/>
          <a:stretch/>
        </p:blipFill>
        <p:spPr>
          <a:xfrm>
            <a:off x="1285920" y="1143000"/>
            <a:ext cx="6778440" cy="4500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2916360" y="2924280"/>
            <a:ext cx="6984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地窖　　蚯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呓语　　藤条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读一读"/>
          <p:cNvPicPr/>
          <p:nvPr/>
        </p:nvPicPr>
        <p:blipFill>
          <a:blip r:embed="rId1"/>
          <a:stretch/>
        </p:blipFill>
        <p:spPr>
          <a:xfrm>
            <a:off x="250920" y="404640"/>
            <a:ext cx="2114280" cy="25146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5000760" y="2357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qiū  yǐ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5000760" y="4429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t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3357720" y="23572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ji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3000240" y="44290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4"/>
          <p:cNvSpPr/>
          <p:nvPr/>
        </p:nvSpPr>
        <p:spPr>
          <a:xfrm>
            <a:off x="1357200" y="2928960"/>
            <a:ext cx="72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苏醒：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昏迷后醒过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呓语：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梦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严严实实：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严密，没有缝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理解词语"/>
          <p:cNvPicPr/>
          <p:nvPr/>
        </p:nvPicPr>
        <p:blipFill>
          <a:blip r:embed="rId1"/>
          <a:stretch/>
        </p:blipFill>
        <p:spPr>
          <a:xfrm>
            <a:off x="285840" y="214200"/>
            <a:ext cx="1890720" cy="2157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初读感知"/>
          <p:cNvPicPr/>
          <p:nvPr/>
        </p:nvPicPr>
        <p:blipFill>
          <a:blip r:embed="rId1"/>
          <a:stretch/>
        </p:blipFill>
        <p:spPr>
          <a:xfrm>
            <a:off x="539640" y="11970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" descr="小女孩"/>
          <p:cNvPicPr/>
          <p:nvPr/>
        </p:nvPicPr>
        <p:blipFill>
          <a:blip r:embed="rId2"/>
          <a:stretch/>
        </p:blipFill>
        <p:spPr>
          <a:xfrm>
            <a:off x="826920" y="2565360"/>
            <a:ext cx="1967040" cy="327996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7"/>
          <p:cNvSpPr/>
          <p:nvPr/>
        </p:nvSpPr>
        <p:spPr>
          <a:xfrm>
            <a:off x="3000240" y="2071800"/>
            <a:ext cx="53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用自己喜欢的方式阅读课文并思考：这篇课文主要讲了什么？说说你读完的感受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8" descr="小女孩"/>
          <p:cNvPicPr/>
          <p:nvPr/>
        </p:nvPicPr>
        <p:blipFill>
          <a:blip r:embed="rId3"/>
          <a:stretch/>
        </p:blipFill>
        <p:spPr>
          <a:xfrm>
            <a:off x="826920" y="2565360"/>
            <a:ext cx="1967040" cy="3279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4"/>
          <p:cNvSpPr/>
          <p:nvPr/>
        </p:nvSpPr>
        <p:spPr>
          <a:xfrm>
            <a:off x="785880" y="20001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课文主要讲了小时侯的“我”，从冬至开始就做着春天的梦：冬至过后，万物萌动，大地复苏，一切生命都焕发出生机。人们盼望着春天，迎接着春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初读感知"/>
          <p:cNvPicPr/>
          <p:nvPr/>
        </p:nvPicPr>
        <p:blipFill>
          <a:blip r:embed="rId1"/>
          <a:stretch/>
        </p:blipFill>
        <p:spPr>
          <a:xfrm>
            <a:off x="539640" y="119700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2:06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2:31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b000000000001024120</vt:lpwstr>
  </property>
</Properties>
</file>