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applause.wav" ContentType="audio/x-wav"/>
  <Override PartName="/ppt/media/image12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8419-CE0E-44BE-90F5-E602158EE3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8D4-3F29-4F86-BBF0-3759644074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7DF-EABA-40C5-A0D0-F6473385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73D-056F-4D43-898C-5563B0B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305-FFB5-4ABA-ABC3-B7B88BA5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1A1-FD00-4241-BA08-00E2F7E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3EC-E6CC-4CC4-AB37-F87E0CD1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1B3-2080-4701-824E-3EE6BE9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BAC-1AFA-4C15-BEDC-3275B17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7BB-1E6A-49D2-AEC1-7C19811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942-6FC5-46C3-9F12-D748BD71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3AC-6DA5-400D-8574-DDEF398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614-6D3E-4944-9777-A9240092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C4E-00C2-464A-A8FB-B075E6D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0E0-DEB4-4D71-9C7D-1D0586C6A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404_09050104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01480" y="981000"/>
            <a:ext cx="8210880" cy="25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5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风姑姑的照片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1447920" y="5805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1"/>
          <p:cNvPicPr/>
          <p:nvPr/>
        </p:nvPicPr>
        <p:blipFill>
          <a:blip r:embed="rId1"/>
          <a:stretch/>
        </p:blipFill>
        <p:spPr>
          <a:xfrm>
            <a:off x="-322200" y="-455760"/>
            <a:ext cx="9752040" cy="7629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71280" y="0"/>
            <a:ext cx="9072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一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　　  ）地摆　　　　　　　　　    </a:t>
            </a: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填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　　  ）地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   ）地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　  ）的波纹　　　　　　　　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  ）的脸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   ）的柳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"/>
                            </p:stCondLst>
                            <p:childTnLst>
                              <p:par>
                                <p:cTn id="15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200"/>
                            </p:stCondLst>
                            <p:childTnLst>
                              <p:par>
                                <p:cTn id="160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4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100"/>
                            </p:stCondLst>
                            <p:childTnLst>
                              <p:par>
                                <p:cTn id="18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-322200" y="-457200"/>
            <a:ext cx="9752040" cy="7989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20434200">
            <a:off x="0" y="692280"/>
            <a:ext cx="31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5400" spc="1" strike="noStrike">
              <a:ln w="9360">
                <a:solidFill>
                  <a:srgbClr val="ffff00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5280" y="1197000"/>
            <a:ext cx="84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梦梦给风姑姑拍了这么多照片，如果是你给风姑姑拍的话，你还可以从哪些方面来给风姑姑拍照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75131278950158093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u=2909546066,567293547&amp;fm=0&amp;gp=0"/>
          <p:cNvPicPr/>
          <p:nvPr/>
        </p:nvPicPr>
        <p:blipFill>
          <a:blip r:embed="rId2"/>
          <a:stretch/>
        </p:blipFill>
        <p:spPr>
          <a:xfrm>
            <a:off x="3708360" y="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195640" y="5013360"/>
            <a:ext cx="51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谢 谢 指 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8D3-690B-400F-BA5E-7D29268DEF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图片1"/>
          <p:cNvPicPr/>
          <p:nvPr/>
        </p:nvPicPr>
        <p:blipFill>
          <a:blip r:embed="rId2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 rot="6050400">
            <a:off x="-557640" y="736200"/>
            <a:ext cx="2521080" cy="104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猜一猜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3280" y="907920"/>
            <a:ext cx="734400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"/>
                <a:ea typeface="楷体"/>
              </a:rPr>
              <a:t>解 落 三 秋 叶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"/>
                <a:ea typeface="楷体"/>
              </a:rPr>
              <a:t>能 开 二 月 花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"/>
                <a:ea typeface="楷体"/>
              </a:rPr>
              <a:t>过 江 千 尺 浪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"/>
                <a:ea typeface="楷体"/>
              </a:rPr>
              <a:t>入 竹 万 竿 斜。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700360" y="2060640"/>
            <a:ext cx="2952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bbe0e3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风</a:t>
            </a:r>
            <a:endParaRPr b="1" i="1" lang="en-US" sz="1800" spc="1" strike="noStrike">
              <a:ln w="9360">
                <a:solidFill>
                  <a:srgbClr val="bbe0e3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587600" y="596268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小男孩21"/>
          <p:cNvPicPr/>
          <p:nvPr/>
        </p:nvPicPr>
        <p:blipFill>
          <a:blip r:embed="rId2"/>
          <a:stretch/>
        </p:blipFill>
        <p:spPr>
          <a:xfrm>
            <a:off x="-179280" y="-169920"/>
            <a:ext cx="1887480" cy="251784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619280" y="189000"/>
            <a:ext cx="252108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9640" y="220500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照片   大路    旁边  嫩绿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坛   搂着    响声  裙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4365720"/>
            <a:ext cx="87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噢      咔嚓    帆船  驾驶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腮帮  亲吻    打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35150d2el2k2lz7kmbg9j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33280" y="476280"/>
            <a:ext cx="86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梦梦来到大路旁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只见嫩绿的柳条轻轻地摆动着。“哦，这是风姑姑在给小树梳头哩！”梦梦举起了照相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6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10"/>
          <p:cNvPicPr/>
          <p:nvPr/>
        </p:nvPicPr>
        <p:blipFill>
          <a:blip r:embed="rId1"/>
          <a:stretch/>
        </p:blipFill>
        <p:spPr>
          <a:xfrm>
            <a:off x="0" y="0"/>
            <a:ext cx="9325080" cy="701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79280" y="5057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梦梦来到池塘边，只见清清的池水荡漾着金色的波纹。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瞧，这是风姑姑在替小池塘擦脸哩！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梦梦连忙按下了快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00852182335563_2"/>
          <p:cNvPicPr/>
          <p:nvPr/>
        </p:nvPicPr>
        <p:blipFill>
          <a:blip r:embed="rId1"/>
          <a:stretch/>
        </p:blipFill>
        <p:spPr>
          <a:xfrm>
            <a:off x="0" y="2565360"/>
            <a:ext cx="4788000" cy="4292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84360" y="26028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梦梦来了花坛边，只见朵朵花儿在阳光下轻轻地摇着，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噢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），这是风姑姑搂着花儿跳舞哩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梦梦的镜头对准了花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007112314310231_2"/>
          <p:cNvPicPr/>
          <p:nvPr/>
        </p:nvPicPr>
        <p:blipFill>
          <a:blip r:embed="rId2"/>
          <a:stretch/>
        </p:blipFill>
        <p:spPr>
          <a:xfrm>
            <a:off x="4788000" y="2565360"/>
            <a:ext cx="4356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100"/>
                            </p:stCondLst>
                            <p:childTnLst>
                              <p:par>
                                <p:cTn id="78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10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561746_212636341000_2"/>
          <p:cNvPicPr/>
          <p:nvPr/>
        </p:nvPicPr>
        <p:blipFill>
          <a:blip r:embed="rId1"/>
          <a:stretch/>
        </p:blipFill>
        <p:spPr>
          <a:xfrm>
            <a:off x="0" y="0"/>
            <a:ext cx="928512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1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梦梦又来到大河边，只见船儿扬起风帆，快乐地驶向远方。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对了，这一定是风姑姑在帮忙。她正鼓起腮帮，用力地吹呢！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梦梦的照相机咔嚓咔嚓响个不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图片1"/>
          <p:cNvPicPr/>
          <p:nvPr/>
        </p:nvPicPr>
        <p:blipFill>
          <a:blip r:embed="rId1"/>
          <a:stretch/>
        </p:blipFill>
        <p:spPr>
          <a:xfrm>
            <a:off x="-322200" y="-457200"/>
            <a:ext cx="9752040" cy="762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39640" y="836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梦梦把照片送给风姑姑。风姑姑亲吻着梦梦的脸蛋，吹拂着梦梦的花裙子，笑着说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你真是个聪明的孩子。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图片1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50920" y="1413000"/>
            <a:ext cx="66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条摆动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树梳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71640" y="2276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金色波纹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池塘擦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03280" y="5084640"/>
            <a:ext cx="57866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梦梦拍的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“</a:t>
            </a:r>
            <a:r>
              <a:rPr b="1" i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风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      她真聪明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WordArt 6" descr=""/>
          <p:cNvPicPr/>
          <p:nvPr/>
        </p:nvPicPr>
        <p:blipFill>
          <a:blip r:embed="rId2"/>
          <a:stretch/>
        </p:blipFill>
        <p:spPr>
          <a:xfrm>
            <a:off x="2800440" y="-333360"/>
            <a:ext cx="380520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619280" y="3213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花儿轻摇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搂着跳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338640" y="4221000"/>
            <a:ext cx="46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船儿前驶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鼓着腮帮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4:47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10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