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amera.wav" ContentType="audio/x-wav"/>
  <Override PartName="/ppt/media/image7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6CA-C01F-457B-8201-605BF273E2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433-7948-45DE-BACE-DE6CBF2C88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239-7B1D-4B00-842C-B5715807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44D-B826-4136-8EE6-EE8D469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BF3A6-0816-4C73-A5CF-70AC9A3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9F277-9F66-4F8E-A64C-01151AB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822A5-0CCE-429E-BA7A-FD893358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EB422-8054-46F7-B5B8-3C77C02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F4844-5233-4675-83D1-61570E5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A8039-18B6-4021-A97D-F50CF3DD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985A0-74FD-47F5-B0F1-8F9CBD2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1B982-C3BE-427D-9318-F8054E65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E7135-74DB-4DC1-97EC-51D5CFA5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F19C6-2568-4107-A044-C77D61D3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4DE-876A-4815-85ED-2413C28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5A42-4175-4DE4-BC59-1C3D3D9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D47F-7211-41A9-AA83-659F9D0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D7592-8360-47C0-9E3E-F4FE77BF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DDD5A-AEDF-407B-BC86-33EC5F2A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DE347-5F9B-4B7D-8121-8E2BDBCD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F7861-4712-4069-8046-37BCBC1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B51C6-F6DF-4101-BFF2-A3E008B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E232D-CCAF-4436-A0FD-2AEF234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F472C-14B5-495A-BCF6-E68EA284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364B2-2E5C-42A0-8AA0-B29BEDA7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003-08DF-48F0-9B00-1EFC668C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87168-7D8B-48F9-A2CB-DD01B424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310A8-3B42-4BCE-B889-F1E7AF2A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0B139-CB26-4CD1-B8C0-39D6EC3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AA128-AB9E-45AE-A524-8D3D04BD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D4254-E6E9-4F36-A9C6-75F6B0F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D0626-A592-44F6-A73C-CF44EB78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5399-68A2-447F-9710-9ACA70E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62AA-2439-493B-A87A-5B650C4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77F6F-E616-41AF-96B2-64C900B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266E-4305-40C6-B4E1-090231D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F380-306B-43C0-8325-2330FA1E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F930-1B50-4DF2-81DC-844F6E3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25E10-5F76-498F-A674-1A60C7B4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F1BB5-F83B-4EA5-A627-AE0E2876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5247D-4B02-4D8B-BF7D-DE4DB608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A9B2-5BFD-4139-854C-28CB39E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892CE-9C47-4D91-93D2-FDE46DA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EC7AC-D22F-4254-91FF-0F9591C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F70CB-57B8-403E-A9CF-E5788981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4D651-F8B3-44C3-8A08-9DA4ACA9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0160A-D291-4CFF-8C70-B535B61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9777-572D-433C-8405-6AD5802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AB42C-A270-4715-AFA0-82CE52D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A0CDE-B71B-4B59-97DE-32ADDA3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B0E3E-E4FB-43BC-A22D-B06AC62E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28353-37A9-46F8-A009-333E50C7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4D765-CCC1-4A31-9707-5DAA97C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32598-C004-4DC2-B230-B4BA5A21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01E47-5928-4CF2-A7D1-B48F1DC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93FA4-E989-4170-AC04-A36C251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96577-100B-45CA-A0C5-EF481FF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B2F12-D990-41F8-B235-8A6143D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C0F-D35A-4010-BF50-6688684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E91F-5881-4A2D-AF2F-5EC27A4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506FE-A0D1-452D-BE73-308F0F2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4F9DE-4EE7-4D64-B476-22F67BA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5B2F8-10AF-4312-BB5C-5509CC9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FA4A1-DB97-45FD-A34A-641AA1C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9B2EF-906B-48E0-822F-037674F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8FFF0-8775-44FD-B7AB-6604FCFF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57627-40F6-482F-B19B-735B39FA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95FC1-0B01-4050-8689-6367FA4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49613-F4BD-48C0-BA47-215993A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6F6-B934-41D5-8CEB-E176171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CD7C3-C55B-430F-9D11-B794F0DD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C01F4-8F09-4848-9E35-52609BB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74064-3CB0-411A-95ED-58D374A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68E31-DE32-41C3-864B-F775EAA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56361-010A-4541-8041-5755B7D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72078-D3D3-4262-ACED-8B26519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8098F-40AC-4369-A6B0-A5238065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5FEA0-1E82-4FB0-89AB-35BAA4B2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C9012-E42D-4F04-BBE5-73B67528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037A7-A4A8-40EC-BE4B-D6BAC697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F8B-0FD8-43A9-8480-4CC10E3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B70D4-B513-40DE-B025-53F57E0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7AC90-36AF-4E41-A395-94C2B36C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31214-8E63-486B-B953-636434B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7A15A-B9F6-4871-B081-7F59EC86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3A3F8-FD0D-480F-B7B8-AA8FC27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86800-E976-4EDC-8AAA-26788DAE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6D2E3-474B-427E-8A03-540291A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524C9-26F1-4E87-BD6F-8C45D95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83462-EC10-43E2-B7C5-6BF8545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61359-802B-483D-BFBA-4D07D8DC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6E56-61BF-43CF-A08C-D9BB89D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818F6-1B80-4C44-BB49-636D1CC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31CED-4F52-40C8-97BD-FFBDA32C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8F13D-5293-476B-8369-53266F6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DEF20-F1F1-426D-AC94-B9319FD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6C11D-C19C-481F-B67F-5818283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4E5A0-5F42-4871-91BA-0A3B655D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60333-9C40-4029-A3F1-603EA85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A7A07-B611-4291-BED9-AC6AE82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52008-E404-4F46-B23A-A197C42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8CE56-9FC2-4B59-869A-FFBBC67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8AD-6FE9-44FE-9F8B-C7ED2EE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FB4DD-D99C-419B-8C9E-5D25894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07458-2DE2-400B-A7F6-243D5574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3EB2A-BD0F-463B-B802-2709A6CB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93EB9-7DD7-4752-9D02-420F4D4B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B806F-709F-4B70-8229-547AB80C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DC849-E951-47FE-8CA3-FA27F6E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92426-D08D-4B2F-8112-D842B48D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38AB5-A9C1-4D42-AAE4-32C83FB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4D51A-F05F-439D-85C3-DD7930E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22236-01D5-4BAE-9D20-7A50883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F32-9375-4FE0-BD25-4D09D878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4F6C-D470-4ED2-A415-8323D64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4D99C-E8BC-4E2E-8EE1-6AF2992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CCF16-79A7-4AD6-A3D6-81B6F7F2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4449C-3C45-4F36-8056-14F2F7F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C410F-6826-47F7-A5E0-EE261149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7FC78-F553-483B-8545-AB70ADA5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CFADA-4C31-4CD9-8745-657CD9B8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FAB16-06BE-46D9-8CEB-E0627B0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70E26-A294-4B6A-87AF-8BC5E4D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3A5DB-C9A9-4C47-A7FA-14741F18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92323-01D8-4084-BA9F-999A154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0288-2CC3-482C-844A-2EFFCC9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EA3EE-DFC1-455E-90AD-C355BB2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A3C98-78C0-45F6-B576-E13F578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39848-AA8A-4BF2-8D44-63A1731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DBF70-476A-47FE-AB6F-1B323DE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AE7DA-4893-4430-B826-A530F69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34D62-50B5-42AF-AAE4-F49B4038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14117-1D8E-4C1E-8578-30E03161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97DD4-2282-4EFF-A2D8-9E3C418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DDF65-45BC-4F12-BBDC-BD98C44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75FBE-8C24-4B0B-8302-9CFE1D93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8637-E641-44A6-9E55-9E9037A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B845A-0F01-40B5-B187-F98D2108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E37FE-DF88-4509-BC83-C6BBC942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3293A-AF15-4847-94C0-792472C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C1D0A-BAD6-485B-99A7-73950CF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00F63-A974-47DB-8182-FC87BFD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972A9-8D94-42E9-B5C7-43ED87F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9B18E-0971-4C95-95B4-D9931515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406F3-F475-49FD-985B-50056308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9B23C-2CFA-4AA1-A6FD-4357678F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20C23-B8C4-4385-BB47-9B28C48A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6C98-2986-44DD-8BA5-F6C989FB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67563-DB1D-4E45-ABE0-E3F1DFE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71804-642A-4992-AEF7-1535ACE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F95F0-5A29-4BD8-9377-A3B018A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531B0-1BCD-4224-8799-C19049E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E7EC6-7051-477B-958A-377E3C1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742DE-BABB-4479-BAB8-EB85141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9ADD6-9A26-4F65-B854-150E7B6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FD596-DDF3-4E04-94BF-8000C1C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FF037-0626-4B8B-A196-C43E8D8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1FB39-740C-4FEA-A2DF-19202C11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EE18-6753-4F8A-9142-11F88F1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CDE15-4C25-403B-B301-E657598D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94370-9083-45FD-BD33-7EFFE7C1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ED2B5-EA8C-4106-A517-50EB593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3BA33-1BE2-4410-9E4B-CA6CE946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F0950-1F9A-4E6C-B61A-92F6C39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CB953-5EE7-4F9B-85FF-F5722EB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3EB90-4E99-41F7-A63C-DB901A7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276E0-B363-4BA2-83CC-F448F59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7745C-112C-4A01-96F5-273F4B3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2B2D6C-FED7-4E1E-86D0-F216738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3C88-5B59-489F-9EE0-6747E29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F0938-1A29-4988-B1FE-20405AC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823DA-06A0-4BBB-81F2-5F6A0508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DAFD0-641F-487C-AC8E-3475E10B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D700-D6EF-4695-ABD4-AB1B1E4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E5BA-FEFE-4540-9F2E-07920A7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001B-6DED-402D-9646-602A809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3210-E45B-44F4-B93A-1AD5A5D2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F3D-6856-48DE-8F24-378DCEC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8104-84B7-4B9A-9254-E867BB5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1173-6BEC-40CF-818B-989B2856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D3A1-8DE5-4E64-8D74-EAEE642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480F-AF57-4012-9F35-76854A0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4C5A-4560-4A6C-9623-ACCC4199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DC6C-09BA-453E-9B81-30E79A8C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FBD0-7CFE-4D12-82A1-899BAD4D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9820-C52C-4807-B4D1-32CA89CA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19D2D-25EB-444B-8182-B7E7FB61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5D42-A5C5-4E91-922A-0E243DE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A30-34D5-47BB-B251-0E44610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F95F-0D2A-4B64-9EA2-BD5DEF8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AE7D-3D69-468F-A572-80C837D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C4A7-E8DD-4FFA-B4F5-5BB9FD5A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DC7B-A6EC-486A-918B-F8371C8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5DB8-E3AA-4E0C-9329-E96830C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C234-622D-4CC8-8818-3F78A9E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1919-FBEF-4B2F-AC9B-70301CE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E547-0997-40F4-B7C6-F6FF033D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89B5-35BD-49A4-987A-4814800D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A993-AA6B-480E-82A1-1C1798C5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F0A-41C7-4FD9-8A1D-78504B14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7F452-534B-4A10-A9BF-5A4BF93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879F-4D0B-46F6-9CB3-F70A66C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C693-36AF-42AB-87DA-AAD7396A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D444-65B1-45B4-B619-ECE6E5B4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8C08-16A6-415F-AEBE-8D101FE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AC3A-2FDA-42B3-A152-0B9CEE8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55A4-A1EF-4C25-9079-8730A17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11CA-A587-4DEB-8534-648DAB4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1467-CAF3-415E-8BE6-5EAEE846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22E3-FBE5-41CB-B573-861A1363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A45-9390-4139-9163-AEFFA6C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8043-965F-4145-AFDC-A8F4E39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AD0A7-B480-44A1-B45B-F26494C2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2445-E5B2-4AD2-9AD8-CE5A870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076E-CE7D-4CF3-B07F-40DC082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2403-B5F1-43D9-8B6F-B34061C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AB6D-8365-4EC4-B211-B49F77B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6DB3-5A5B-48D9-B626-409B65E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6C1C-82B3-4A60-B8BA-3730390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5F74-DC45-409C-AFE1-C3ACC8C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D9D1-0232-4AB3-AE56-83EA1F4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B20-6464-4781-AFA7-2590D44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700F-89EE-4E7E-8FCC-7EE461E3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2EEE-0801-49D9-BDA7-FCE49E94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668F-5C5B-4FFE-8CD3-6DEF402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4AAFD-C551-417A-A991-F8A64323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B38C5-FE52-4B4F-B67A-EE65476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597E5-D3F1-45EB-8A93-2F9E1988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F594-05A9-4FF1-9E48-FB2565EC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D3D6-1620-4116-B0E9-5F360B6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75D2-17EE-4FC0-BDCB-DBF3E2E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275D-D133-4A6F-A140-DFD10D2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46C-C7CF-486B-9180-A44584F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DD57-DE32-4D7F-9F47-3B929D2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A56D-E9DD-40D4-8245-8663C82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9F18-FEC6-4346-B582-E68329CB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BF64-9104-4BFE-91DD-E0BE01BD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A066-59E0-43F6-912A-3FF44B5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55A4F-2583-4F62-93FD-44E3B7BC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3107-8385-4233-ACF0-DB1F3AC5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3389-E688-482D-A2F8-D0D5612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FE53-69BB-4A27-88B5-483399A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DEF12-384B-4EA3-B924-0EE62C78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910-1EBA-4F98-AE75-91C0643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6715-67C8-43E2-B010-8248D82B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9CF8-CB07-474A-825D-654DB70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A4B9-E0F2-4886-B924-4BB36F4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02103-7EB4-4A75-81C8-358BC87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20F6B-5030-4567-9C62-94792DD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5C03-2496-4A89-A802-549579BC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4E926-5C76-4190-BF45-A6CDFA64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11A67-1749-4134-A67C-E988229B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9C653-EA9A-4134-A8A7-FEEAE6AF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94CD5-8781-4CB1-9B57-7B30D7C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4C4-212E-4B92-A354-77A3427EF2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风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3E76-D732-49BF-9907-A1DE186B40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E9FC-56FF-4377-A487-5238B89F6B8F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风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DA8-8918-4206-924E-2BF29CB2C6B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D41-051D-4CA4-AA20-3E3B17667A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8E6-D821-400F-86E8-AA466365CB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DE36-41DC-4D61-B17C-90ED6BEDC5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7B45-BCA7-4858-AB3A-B7164DF215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7AE-F9EB-47FB-8940-B906484D97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621-3A27-4CB8-B083-D00DEE49B2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7A7-0BDA-4AFD-BB62-A7EA173913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277-5DC9-4AE2-8023-538A4FF101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79AD-73B0-468B-BDA6-3074BACFC0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51FA-859B-41B6-95D6-39EE118B32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697-B41F-4B78-92AD-5344CA66A76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F98-295A-4A89-B460-28ED1832A6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47B-3B48-434D-88CE-C4347C859B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93B-73BA-4A74-B49C-D92911D402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366-B48B-4BEF-8332-CE630FDDA8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823-749F-431D-B67D-802BF31FB7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450-79C6-41F5-A201-3363562474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66C-4848-4B7A-8184-ED68E0DAC3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EA6F-F512-4825-B059-27D4AA0C77E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5E57-E2BC-4466-8C97-A3BC9FA2067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6465-5513-40DD-B605-A9850292D6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96B8-A4B4-4C5E-B87E-CE7B3E5943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690-6DF2-448E-844C-CA1B0CEE61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5F4-E331-44A7-A88E-A9FB04EC69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F64-55BB-42E0-9AB7-8FBE977A70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C70-25E5-48E0-82E0-1B21F61F57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7" name="未知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139" name="未知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1" name="未知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grpSp>
          <p:nvGrpSpPr>
            <p:cNvPr id="14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3" name="未知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148" name="未知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0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728-5E01-4841-B745-91F496527D2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风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E98A-9C62-4926-84D4-1D17EB0D35A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90F4-37EA-476C-AEC8-0732AFC0FE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7E8A-59BA-43B0-9E5A-39C4AD5EE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FEB-01B2-4058-83DB-46E7E69E86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B643-371D-44B9-A1B5-412FAC8F3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0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81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282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83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84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285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28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F14-B7D7-45EA-8B36-BB5A032C76F1}" type="datetime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风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70A6-2FF5-4559-A1F0-A1E5CAB7A7ED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3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F791-E931-4A72-92C3-CE60884EC4F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FFD-4856-44A9-999D-B4BE400B998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-4680" y="20520"/>
            <a:ext cx="9142200" cy="6858000"/>
            <a:chOff x="-4680" y="20520"/>
            <a:chExt cx="9142200" cy="6858000"/>
          </a:xfrm>
        </p:grpSpPr>
        <p:sp>
          <p:nvSpPr>
            <p:cNvPr id="379" name="未知"/>
            <p:cNvSpPr/>
            <p:nvPr/>
          </p:nvSpPr>
          <p:spPr>
            <a:xfrm>
              <a:off x="-4680" y="4897440"/>
              <a:ext cx="91422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-4680" y="20520"/>
              <a:ext cx="91422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381" name="未知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383" name="未知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grpSp>
          <p:nvGrpSpPr>
            <p:cNvPr id="384" name="Group 8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385" name="未知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390" name="未知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2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22C-9931-403D-B937-28BF3101924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8474-B9F8-4FCE-A27A-57A2A36C4B3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风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TextBox 1"/>
          <p:cNvSpPr/>
          <p:nvPr/>
        </p:nvSpPr>
        <p:spPr>
          <a:xfrm>
            <a:off x="971640" y="922320"/>
            <a:ext cx="4176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404040"/>
                </a:solidFill>
                <a:latin typeface="华文隶书"/>
                <a:ea typeface="华文隶书"/>
              </a:rPr>
              <a:t>风 筝</a:t>
            </a:r>
            <a:endParaRPr b="0" lang="en-US" sz="13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40" name="矩形 20"/>
          <p:cNvSpPr/>
          <p:nvPr/>
        </p:nvSpPr>
        <p:spPr>
          <a:xfrm>
            <a:off x="1900800" y="4638600"/>
            <a:ext cx="54738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</a:t>
            </a:r>
            <a:r>
              <a:rPr b="1" lang="en-US" sz="2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网</a:t>
            </a:r>
            <a:r>
              <a:rPr b="1" lang="en-US" sz="26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1PPT.COM</a:t>
            </a:r>
            <a:endParaRPr b="0" lang="en-US" sz="2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日期占位符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E08-49DD-4482-BA57-047C673A891C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1" name="页脚占位符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2" name="灯片编号占位符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083-0E8C-4BA4-9804-94EB445CE33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3850200" y="1371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孤独；没有依靠。文中指风筝少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1700280" y="182880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本指人瘦弱，面色不好看。此指风筝色彩黯淡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2233440" y="2286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苦心钻研，到了别人所达不到的地步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6" name="Rectangle 5"/>
          <p:cNvSpPr/>
          <p:nvPr/>
        </p:nvSpPr>
        <p:spPr>
          <a:xfrm>
            <a:off x="3771720" y="2743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分别（多指不易相见的离别）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7" name="Rectangle 6"/>
          <p:cNvSpPr/>
          <p:nvPr/>
        </p:nvSpPr>
        <p:spPr>
          <a:xfrm>
            <a:off x="311148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可以拿来取笑的资料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239328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令人鄙视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59" name="Rectangle 8"/>
          <p:cNvSpPr/>
          <p:nvPr/>
        </p:nvSpPr>
        <p:spPr>
          <a:xfrm>
            <a:off x="2699640" y="365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虐待人而致死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0" name="Rectangle 9"/>
          <p:cNvSpPr/>
          <p:nvPr/>
        </p:nvSpPr>
        <p:spPr>
          <a:xfrm>
            <a:off x="3777840" y="41148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寒冷、受惊而蜷缩或兼抖动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1" name="Rectangle 10"/>
          <p:cNvSpPr/>
          <p:nvPr/>
        </p:nvSpPr>
        <p:spPr>
          <a:xfrm>
            <a:off x="338544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形容忽然醒悟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2" name="Rectangle 11"/>
          <p:cNvSpPr/>
          <p:nvPr/>
        </p:nvSpPr>
        <p:spPr>
          <a:xfrm>
            <a:off x="20869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惊慌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4231440" y="502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书）形容秋冬天气寒冷，草木枯落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896400" y="139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伶仃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89640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憔悴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1019880" y="2286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苦心孤诣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7" name="Rectangle 16"/>
          <p:cNvSpPr/>
          <p:nvPr/>
        </p:nvSpPr>
        <p:spPr>
          <a:xfrm>
            <a:off x="89640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诀别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89640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笑柄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69" name="Rectangle 18"/>
          <p:cNvSpPr/>
          <p:nvPr/>
        </p:nvSpPr>
        <p:spPr>
          <a:xfrm>
            <a:off x="89640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虐杀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0" name="Rectangle 19"/>
          <p:cNvSpPr/>
          <p:nvPr/>
        </p:nvSpPr>
        <p:spPr>
          <a:xfrm>
            <a:off x="89640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鄙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1" name="Rectangle 20"/>
          <p:cNvSpPr/>
          <p:nvPr/>
        </p:nvSpPr>
        <p:spPr>
          <a:xfrm>
            <a:off x="896400" y="548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惊惶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2" name="Rectangle 21"/>
          <p:cNvSpPr/>
          <p:nvPr/>
        </p:nvSpPr>
        <p:spPr>
          <a:xfrm>
            <a:off x="896400" y="41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瑟缩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3" name="Rectangle 22"/>
          <p:cNvSpPr/>
          <p:nvPr/>
        </p:nvSpPr>
        <p:spPr>
          <a:xfrm>
            <a:off x="1019880" y="457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恍然大悟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4" name="Rectangle 23"/>
          <p:cNvSpPr/>
          <p:nvPr/>
        </p:nvSpPr>
        <p:spPr>
          <a:xfrm>
            <a:off x="89640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肃杀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5" name="Text Box 24"/>
          <p:cNvSpPr/>
          <p:nvPr/>
        </p:nvSpPr>
        <p:spPr>
          <a:xfrm>
            <a:off x="685800" y="623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解释下列词语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53BA-1A0D-4A25-8B60-95BBF3B23A32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7EB3-A87B-452D-A048-8C51B15627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整体感知课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全文的感情基调是什么？用文中的词回答。概括全文主要内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课文中起什么作用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按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现在－－过去－－现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思路，把课文分为三个部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本文采用的是哪一种记叙顺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AE7-AEC6-4C6E-B7FC-5DAAEB7CEFB8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7C96-6E7C-4D63-8873-24BEE352FE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4" name="Text Box 2"/>
          <p:cNvSpPr/>
          <p:nvPr/>
        </p:nvSpPr>
        <p:spPr>
          <a:xfrm>
            <a:off x="1187280" y="5493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文的感情基调是什么？用文中的词回答。概括全文主要内容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1187280" y="204300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案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悲哀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写作者小时候不让弟弟放风筝，还弄坏了弟弟苦心孤诣做好的风筝，中年时，看到外国一本讲论儿童的书后很内疚，希望得到弟弟的宽恕，而弟弟却全然忘却，使作者的内心非常沉重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 spd="med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91D4-3818-4560-93B8-8F816843952E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7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F2A7-C66F-441B-8E60-42570DA4C7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020600" y="260280"/>
            <a:ext cx="8096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课文中起什么作用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76201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线索的作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文围绕风筝主要写了三件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是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少年时虐杀了弟弟的风筝梦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是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年时读了儿童教育的书籍后感到无限懊悔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是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想补过而不得的经过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日期占位符 2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128-EE9F-4C44-B59E-8A1CA49382B9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2" name="页脚占位符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3" name="灯片编号占位符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AC20-4A46-4C49-8792-6AF7205349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4" name="Rectangle 2"/>
          <p:cNvSpPr/>
          <p:nvPr/>
        </p:nvSpPr>
        <p:spPr>
          <a:xfrm>
            <a:off x="-303120" y="1600200"/>
            <a:ext cx="94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5" name="Text Box 3"/>
          <p:cNvSpPr/>
          <p:nvPr/>
        </p:nvSpPr>
        <p:spPr>
          <a:xfrm>
            <a:off x="1116000" y="765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比较北京和故乡放风筝的时令、引出回忆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4479840" y="489744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1116000" y="220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忆小时候在故乡故意弄坏小兄弟风筝的事情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304920" y="5486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6945480" y="1413000"/>
            <a:ext cx="17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—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0" name="Rectangle 8"/>
          <p:cNvSpPr/>
          <p:nvPr/>
        </p:nvSpPr>
        <p:spPr>
          <a:xfrm>
            <a:off x="7016760" y="2708280"/>
            <a:ext cx="17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—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1" name="Rectangle 9"/>
          <p:cNvSpPr/>
          <p:nvPr/>
        </p:nvSpPr>
        <p:spPr>
          <a:xfrm>
            <a:off x="7198560" y="486900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5—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2" name="Text Box 10"/>
          <p:cNvSpPr/>
          <p:nvPr/>
        </p:nvSpPr>
        <p:spPr>
          <a:xfrm>
            <a:off x="1116000" y="40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、到了中年，意识到错误，当道歉时，小弟已忘却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心情更沉重。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48D-E06B-4818-858B-AD0FA85F019E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4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2B64-402E-44F6-A4F1-822DD11025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研读共品（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-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段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8137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看见天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二风筝浮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竟会感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惊异和悲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我惊异什么？悲哀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为什么说春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久经逝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为什么又说这春天就在北京的天空中荡漾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精神的虐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文中具体指哪件事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日期占位符 1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340-9B6B-414C-A3EE-A647B6EA22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0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B14-AD2B-43FE-A4BD-AE65F3758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1" name="Text Box 2"/>
          <p:cNvSpPr/>
          <p:nvPr/>
        </p:nvSpPr>
        <p:spPr>
          <a:xfrm>
            <a:off x="1105200" y="385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明确：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826920" y="1136520"/>
            <a:ext cx="78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为什么说看见 “一二风筝浮动，在我是一种惊异和悲哀”？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348948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684360" y="2492280"/>
            <a:ext cx="80643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故乡的风筝时节，是温和的春二月，而北京却是肃杀的严冬。所以惊异于北京竟在这样的季节放起风筝来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”见风筝而悲哀，是因为想起小时候“精神的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虐杀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的一幕，而且这一幕永远无法补过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惊异和悲哀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，从结构上说，是为了引出下文</a:t>
            </a: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日期占位符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E6E7-7CDC-4E0B-A702-3B60CC0F0E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7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7D2-0754-4A43-8CF6-A979FE9A3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什么说春天“久经逝去”？为什么又说这春天就在北京的天空中荡漾了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792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所说的“春天”，是小时候的故乡的春天，是天空中有风筝的春天。由风筝而联想到故乡风筝时节的春天气息，所以觉得这春天“就在这天空中荡漾了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日期占位符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FC82-7CDB-4891-A2CE-EBBB024F0F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2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9E9-E0B6-428F-A3C7-033989073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7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精神的虐杀”在文中具体指哪件事？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54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指“我”不许小兄弟放风筝，发现他偷做风筝，气得我把他快要完工的风筝抓断踏扁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E98A-4853-4A05-A8C6-3125ABF87720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D0D0-9DDF-4961-A204-0158D2A804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49291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互助释疑、总结提高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15640" y="2565360"/>
            <a:ext cx="76201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小组交流互助释疑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总结本节课的收获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EFD-DF1C-421F-876B-08EB1399255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4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175-33CA-43C7-BADE-73493116FF0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44" name="Picture 2" descr="fz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3"/>
          <p:cNvSpPr/>
          <p:nvPr/>
        </p:nvSpPr>
        <p:spPr>
          <a:xfrm>
            <a:off x="156600" y="54864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飞龙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 spd="med" advTm="3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998B-C522-4D6E-A659-1C9CEA328D68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1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D05D-27D4-4D8E-8FF4-A1DAD1062E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7724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时目标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．品味本文富有表现力的语句，体会作者的感情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．把握文章所揭示的意义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日期占位符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9BBB-BD50-490D-A603-A699A947D4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6" name="灯片编号占位符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F1F-21C6-4A1C-801E-DAC39908E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7424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童年事件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与弟弟对待风筝的态度各是怎样的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3"/>
          <p:cNvSpPr/>
          <p:nvPr/>
        </p:nvSpPr>
        <p:spPr>
          <a:xfrm>
            <a:off x="0" y="3141720"/>
            <a:ext cx="91440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我对弟弟玩风筝这件事的态度有着怎样的变化？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我为什么要抓坏风筝？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64AC-E920-44AD-83A2-45467C49E4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41" name="灯片编号占位符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45D6-15D8-448E-83ED-F8743C4AF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3057480" y="274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755640" y="1668600"/>
          <a:ext cx="7704000" cy="3768480"/>
        </p:xfrm>
        <a:graphic>
          <a:graphicData uri="http://schemas.openxmlformats.org/drawingml/2006/table">
            <a:tbl>
              <a:tblPr/>
              <a:tblGrid>
                <a:gridCol w="2610000"/>
                <a:gridCol w="2692440"/>
                <a:gridCol w="24015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b1ae6"/>
                          </a:solidFill>
                          <a:latin typeface="Arial"/>
                        </a:rPr>
                        <a:t>　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　对象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点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弟弟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”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平时对风筝的态度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”发现弟弟偷做风筝时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4" name="Group 26"/>
          <p:cNvGrpSpPr/>
          <p:nvPr/>
        </p:nvGrpSpPr>
        <p:grpSpPr>
          <a:xfrm>
            <a:off x="3635280" y="2820960"/>
            <a:ext cx="4824360" cy="2403000"/>
            <a:chOff x="3635280" y="2820960"/>
            <a:chExt cx="4824360" cy="2403000"/>
          </a:xfrm>
        </p:grpSpPr>
        <p:sp>
          <p:nvSpPr>
            <p:cNvPr id="1145" name="Text Box 27"/>
            <p:cNvSpPr/>
            <p:nvPr/>
          </p:nvSpPr>
          <p:spPr>
            <a:xfrm>
              <a:off x="3635280" y="28209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张着小嘴、呆看、惊呼、跳跃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146" name="Text Box 28"/>
            <p:cNvSpPr/>
            <p:nvPr/>
          </p:nvSpPr>
          <p:spPr>
            <a:xfrm>
              <a:off x="6372000" y="30369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笑柄、可鄙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147" name="Text Box 29"/>
            <p:cNvSpPr/>
            <p:nvPr/>
          </p:nvSpPr>
          <p:spPr>
            <a:xfrm>
              <a:off x="3706560" y="375768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惊惶、失了色瑟缩着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148" name="Text Box 30"/>
            <p:cNvSpPr/>
            <p:nvPr/>
          </p:nvSpPr>
          <p:spPr>
            <a:xfrm>
              <a:off x="6299280" y="368460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愤怒、折断掷、踏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149" name="Text Box 31"/>
            <p:cNvSpPr/>
            <p:nvPr/>
          </p:nvSpPr>
          <p:spPr>
            <a:xfrm>
              <a:off x="6443640" y="476424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傲然走出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150" name="Text Box 32"/>
            <p:cNvSpPr/>
            <p:nvPr/>
          </p:nvSpPr>
          <p:spPr>
            <a:xfrm>
              <a:off x="3779640" y="45482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绝望地站在小屋里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p:transition spd="med"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日期占位符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662-B5E3-4E82-A6C8-2BC5CB848C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3" name="灯片编号占位符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192-8DC0-4E42-8FB9-D625621BF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表面，是因为我认为这是没有出息孩子所做的玩艺。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深层意义看，是我深受封建礼教的毒害，对儿童无情压制和迫害的结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738-E0AD-4B12-B2F9-4B97F045B71A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1E5-6AAB-4736-AE94-9C734628AD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834920" y="836640"/>
            <a:ext cx="46400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研读共品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-8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段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4247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在明白了自己的错误之后感到了深深的自责，想了哪些办法去弥补自己的错误？效果如何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对待早年的过错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心情如此沉重，总想补过，你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身上学到一种什么精神品质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日期占位符 5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B72C-9CB0-4138-9BF2-E0DB11E95E98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1" name="页脚占位符 6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2" name="灯片编号占位符 7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7940-5938-4220-8368-5B63AB7C20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107964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鲁迅先生在明白了自己的错误之后感到了深深的自责，想了哪些办法去弥补自己的错误？效果如何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179280" y="234936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办法一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送他风筝，一同放风筝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　　　　－－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5" name="Text Box 4"/>
          <p:cNvSpPr/>
          <p:nvPr/>
        </p:nvSpPr>
        <p:spPr>
          <a:xfrm>
            <a:off x="250920" y="400536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办法二：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讨他的宽恕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”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－－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6" name="Text Box 5"/>
          <p:cNvSpPr/>
          <p:nvPr/>
        </p:nvSpPr>
        <p:spPr>
          <a:xfrm>
            <a:off x="79862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失败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7" name="Line 6"/>
          <p:cNvSpPr/>
          <p:nvPr/>
        </p:nvSpPr>
        <p:spPr>
          <a:xfrm>
            <a:off x="6516720" y="314172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8" name="Line 7"/>
          <p:cNvSpPr/>
          <p:nvPr/>
        </p:nvSpPr>
        <p:spPr>
          <a:xfrm flipV="1">
            <a:off x="6588000" y="3644640"/>
            <a:ext cx="9352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3276720" y="29242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他和我一样，早已有胡子了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0" name="Text Box 9"/>
          <p:cNvSpPr/>
          <p:nvPr/>
        </p:nvSpPr>
        <p:spPr>
          <a:xfrm>
            <a:off x="3348000" y="4653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他什么也不记得了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2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7721-5BA0-466A-9AE1-816880746506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2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A92-20BB-4693-AA49-938BD8635D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严于解剖自己，知错就改，勇于自责反省，有自省精神。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387-7DB2-4398-B4D1-3EDB69DB221E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6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08A-24A4-4A25-BFD4-1C847F68C3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讨弟弟宽恕，而弟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全然忘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我的心情怎样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0D20-CEC6-4740-8AEB-B54325E7595A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2F6A-EF87-42CC-9F08-C70595713A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2" name="Text Box 2"/>
          <p:cNvSpPr/>
          <p:nvPr/>
        </p:nvSpPr>
        <p:spPr>
          <a:xfrm>
            <a:off x="533520" y="19810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为了弟弟有出息，我蛮横毁坏风筝的愤怒里；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1447920" y="83808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手足亲情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539640" y="342900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我急于补过，而终于无可补救的悲哀中；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539640" y="47181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2411280" y="4941720"/>
            <a:ext cx="65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533520" y="47530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小兄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全然忘却，毫无怨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心灵里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E2A-78D6-4B36-B5B6-9109B92070E7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89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9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BED-CCD1-4D10-A120-731FB1A2E8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3" name="Picture 4" descr="图片5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5" descr="NA00882_"/>
          <p:cNvPicPr/>
          <p:nvPr/>
        </p:nvPicPr>
        <p:blipFill>
          <a:blip r:embed="rId2"/>
          <a:stretch/>
        </p:blipFill>
        <p:spPr>
          <a:xfrm>
            <a:off x="0" y="2205000"/>
            <a:ext cx="4246560" cy="446400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6"/>
          <p:cNvSpPr/>
          <p:nvPr/>
        </p:nvSpPr>
        <p:spPr>
          <a:xfrm>
            <a:off x="2168640" y="2708280"/>
            <a:ext cx="458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96" name="Text Box 7"/>
          <p:cNvSpPr/>
          <p:nvPr/>
        </p:nvSpPr>
        <p:spPr>
          <a:xfrm>
            <a:off x="971640" y="2276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细读课文，回答问题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　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文章用了哪些方法表现人物的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97" name="Text Box 8"/>
          <p:cNvSpPr/>
          <p:nvPr/>
        </p:nvSpPr>
        <p:spPr>
          <a:xfrm>
            <a:off x="3543480" y="289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FAC-DF18-4C3F-84CE-39160B76E79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4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3039-3294-41AE-9B7D-041DF4DBFE7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49" name="Picture 2" descr="fz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3"/>
          <p:cNvSpPr/>
          <p:nvPr/>
        </p:nvSpPr>
        <p:spPr>
          <a:xfrm>
            <a:off x="228600" y="58672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红蜻蜓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 spd="med" advTm="3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85D-6782-4FD6-93F6-CAADA874E2AB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99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0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1BB-1146-4ABA-9BB1-46ED210992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1" name="Text Box 2"/>
          <p:cNvSpPr/>
          <p:nvPr/>
        </p:nvSpPr>
        <p:spPr>
          <a:xfrm>
            <a:off x="1476360" y="2060640"/>
            <a:ext cx="52545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惟妙惟肖展动作</a:t>
            </a:r>
            <a:endParaRPr b="0" lang="en-US" sz="5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细致入微描神态</a:t>
            </a:r>
            <a:endParaRPr b="0" lang="en-US" sz="5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微妙复杂表心理</a:t>
            </a:r>
            <a:endParaRPr b="0" lang="en-US" sz="5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2" name="Text Box 3"/>
          <p:cNvSpPr/>
          <p:nvPr/>
        </p:nvSpPr>
        <p:spPr>
          <a:xfrm>
            <a:off x="468360" y="33336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海拾贝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日期占位符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CF24-731A-46EF-B288-7ED98B95AF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5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A8BE-D166-4FE9-970A-C227A8E395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听歌曲，忆亲情，诉真情。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0" y="170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水千条山万座我们曾走过，每一次相逢和笑脸都彼此铭刻；星光洒满了所有的童年，风雨走遍了世间的角落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想一想，生活中你与亲人间所发生的一些事情，或让你感动，或让你内疚，或让你……让我们倾吐心声，诉说亲情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08" name="同一首歌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1208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362423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907B-56D0-4A45-AFEF-0C6FA3C39543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0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E72-B62E-4F52-8D69-677087E3ED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2" name="Picture 2" descr="BJ202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5238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1213" name="Rectangle 3"/>
          <p:cNvSpPr/>
          <p:nvPr/>
        </p:nvSpPr>
        <p:spPr>
          <a:xfrm>
            <a:off x="1116000" y="1700280"/>
            <a:ext cx="324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和煦的春风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黑夜的星光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游子身上衣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慈母手中线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心灵的港湾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生命的源泉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父母温暖的怀抱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兄妹甜美的欢笑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4" name="Rectangle 4"/>
          <p:cNvSpPr/>
          <p:nvPr/>
        </p:nvSpPr>
        <p:spPr>
          <a:xfrm>
            <a:off x="4716360" y="1628640"/>
            <a:ext cx="30416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家乡古井水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家乡河坝泥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意味深长的牵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血脉相依的思念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夕阳中的牵手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晚风里的祝福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亲情是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斩不断的茎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       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永远忘不了的根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1403280" y="4762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黑体"/>
                <a:ea typeface="黑体"/>
              </a:rPr>
              <a:t>亲    情</a:t>
            </a:r>
            <a:endParaRPr b="0" lang="en-US" sz="6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6" name="秋日私语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202485" fill="hold"/>
                                        <p:tgtEl>
                                          <p:spTgt spid="1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2DC-46D1-4610-B716-56BBBCBF2880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8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1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93C-CCF5-46F3-9471-A0A3CD83EE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板书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我   嫌恶   毁坏   忘却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小兄弟  喜欢   偷做   悔恨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日期占位符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64CC-1506-4748-911D-6D73F2E62FCF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3" name="页脚占位符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35CF-7425-4F4C-A971-F960D1141D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布置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阅读你喜欢的鲁迅作品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8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29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31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32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23EF-C2EF-4BE6-8308-AEE63E1253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日期占位符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E90B-2C73-4E9C-9D4B-87D560F8962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FED-2361-471D-BAF4-35A8949AC8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539640" y="1484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，理解内容，体会情感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539640" y="272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合作探究式地探讨问题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539640" y="4087800"/>
            <a:ext cx="84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文中浓浓的手足之情，体验人间真情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矩形 10"/>
          <p:cNvSpPr/>
          <p:nvPr/>
        </p:nvSpPr>
        <p:spPr>
          <a:xfrm>
            <a:off x="255600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9" name="日期占位符 1"/>
          <p:cNvSpPr/>
          <p:nvPr/>
        </p:nvSpPr>
        <p:spPr>
          <a:xfrm>
            <a:off x="279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CD8-8292-403B-BF66-512E75080C0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0" name="页脚占位符 2"/>
          <p:cNvSpPr/>
          <p:nvPr/>
        </p:nvSpPr>
        <p:spPr>
          <a:xfrm>
            <a:off x="30844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1" name="灯片编号占位符 3"/>
          <p:cNvSpPr/>
          <p:nvPr/>
        </p:nvSpPr>
        <p:spPr>
          <a:xfrm>
            <a:off x="6683400" y="6342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06C-B1E5-4400-89E7-A800980A7BA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2" name="Text Box 2"/>
          <p:cNvSpPr/>
          <p:nvPr/>
        </p:nvSpPr>
        <p:spPr>
          <a:xfrm>
            <a:off x="3635280" y="40464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国现代伟大的文学家、思想家、革命家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原名周树人，字豫才，浙江绍兴人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出身于破落封建家庭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0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去日本学医，后从事文艺工作，希望用以改变国民精神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63" name="Picture 3" descr="lu062"/>
          <p:cNvPicPr/>
          <p:nvPr/>
        </p:nvPicPr>
        <p:blipFill>
          <a:blip r:embed="rId1"/>
          <a:stretch/>
        </p:blipFill>
        <p:spPr>
          <a:xfrm>
            <a:off x="0" y="0"/>
            <a:ext cx="3619440" cy="53737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4"/>
          <p:cNvSpPr/>
          <p:nvPr/>
        </p:nvSpPr>
        <p:spPr>
          <a:xfrm>
            <a:off x="247680" y="5264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1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，首次用笔名“鲁迅”发表中国现代文学史上第一篇白话小说《狂人日记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708360" y="333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188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1936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66" name="WordArt 6" descr=""/>
          <p:cNvPicPr/>
          <p:nvPr/>
        </p:nvPicPr>
        <p:blipFill>
          <a:blip r:embed="rId2"/>
          <a:stretch/>
        </p:blipFill>
        <p:spPr>
          <a:xfrm>
            <a:off x="3700440" y="324000"/>
            <a:ext cx="148104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D64-4CF4-45CB-811A-D1D17B2F7A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69" name="灯片编号占位符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C54D-99DB-413B-B6AF-9DDEAC793A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0" y="191628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现代伟大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文学家、思想家、革命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“骨头最硬的人”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品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集：  《呐喊》、《彷徨》、《故事新编》  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文集：  《朝花夕拾》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   散文诗集：《野草》。杂文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493920" y="450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鲁迅的性格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2700360" y="450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横眉冷对千夫指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俯首甘为孺子牛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353808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善于自我解剖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2608200" y="122400"/>
            <a:ext cx="2468520" cy="764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流感知</a:t>
            </a:r>
            <a:endParaRPr b="0" lang="en-US" sz="4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324000" y="112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作者和背景</a:t>
            </a:r>
            <a:endParaRPr b="0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41F-493C-41AF-8783-3CD2E608422F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78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D5D-ED60-4772-A848-08616B031F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79" name="Picture 2" descr="bg0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3"/>
          <p:cNvSpPr/>
          <p:nvPr/>
        </p:nvSpPr>
        <p:spPr>
          <a:xfrm>
            <a:off x="479520" y="754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533520" y="762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304920" y="33526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3" name="Text Box 6"/>
          <p:cNvSpPr/>
          <p:nvPr/>
        </p:nvSpPr>
        <p:spPr>
          <a:xfrm>
            <a:off x="228600" y="4572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805680" y="2492280"/>
            <a:ext cx="73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à    l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ng d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  xi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wù           b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1169640" y="3141720"/>
            <a:ext cx="61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丫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伶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嫌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可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鄙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480240" y="1125360"/>
            <a:ext cx="77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              huáng    sè                 shù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1317240" y="1773360"/>
            <a:ext cx="59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物      惊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缩      宽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恕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406440" y="3716280"/>
            <a:ext cx="73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z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nüè         duò                     yì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1468080" y="4221000"/>
            <a:ext cx="564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掷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杀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苦心孤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诣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259200" y="4941720"/>
            <a:ext cx="77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qi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o cuì     mú        wú g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  chéng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1423800" y="5516640"/>
            <a:ext cx="58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憔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样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蜈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罚</a:t>
            </a:r>
            <a:endParaRPr b="0" lang="en-US" sz="5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2" name="Text Box 15"/>
          <p:cNvSpPr/>
          <p:nvPr/>
        </p:nvSpPr>
        <p:spPr>
          <a:xfrm>
            <a:off x="395280" y="260280"/>
            <a:ext cx="45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检查字词预习</a:t>
            </a:r>
            <a:endParaRPr b="0" lang="en-US" sz="4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219-481D-4DC9-A88E-68B1FD480D34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5BDF-0040-45DA-9012-C8E72912CB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996" name="Picture 2" descr="bg0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3"/>
          <p:cNvSpPr/>
          <p:nvPr/>
        </p:nvSpPr>
        <p:spPr>
          <a:xfrm>
            <a:off x="1752480" y="914400"/>
            <a:ext cx="53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8" name="Text Box 4"/>
          <p:cNvSpPr/>
          <p:nvPr/>
        </p:nvSpPr>
        <p:spPr>
          <a:xfrm>
            <a:off x="1676520" y="1600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99" name="Rectangle 5"/>
          <p:cNvSpPr/>
          <p:nvPr/>
        </p:nvSpPr>
        <p:spPr>
          <a:xfrm>
            <a:off x="-206280" y="2714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0" name="Text Box 6"/>
          <p:cNvSpPr/>
          <p:nvPr/>
        </p:nvSpPr>
        <p:spPr>
          <a:xfrm>
            <a:off x="556272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í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1" name="Rectangle 7"/>
          <p:cNvSpPr/>
          <p:nvPr/>
        </p:nvSpPr>
        <p:spPr>
          <a:xfrm>
            <a:off x="6724080" y="106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物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2" name="Rectangle 8"/>
          <p:cNvSpPr/>
          <p:nvPr/>
        </p:nvSpPr>
        <p:spPr>
          <a:xfrm>
            <a:off x="702864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么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4543920" y="16002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4" name="AutoShape 10"/>
          <p:cNvSpPr/>
          <p:nvPr/>
        </p:nvSpPr>
        <p:spPr>
          <a:xfrm>
            <a:off x="5486400" y="403848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5488200" y="1905120"/>
            <a:ext cx="136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n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6" name="Rectangle 12"/>
          <p:cNvSpPr/>
          <p:nvPr/>
        </p:nvSpPr>
        <p:spPr>
          <a:xfrm>
            <a:off x="657720" y="1676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恶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7" name="AutoShape 13"/>
          <p:cNvSpPr/>
          <p:nvPr/>
        </p:nvSpPr>
        <p:spPr>
          <a:xfrm>
            <a:off x="1219320" y="114300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8" name="Rectangle 14"/>
          <p:cNvSpPr/>
          <p:nvPr/>
        </p:nvSpPr>
        <p:spPr>
          <a:xfrm>
            <a:off x="1524960" y="9144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è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230436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凶恶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0" name="Rectangle 16"/>
          <p:cNvSpPr/>
          <p:nvPr/>
        </p:nvSpPr>
        <p:spPr>
          <a:xfrm>
            <a:off x="1544760" y="16002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ě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1" name="Rectangle 17"/>
          <p:cNvSpPr/>
          <p:nvPr/>
        </p:nvSpPr>
        <p:spPr>
          <a:xfrm>
            <a:off x="2228040" y="1600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恶心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1449720" y="22096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w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2532960" y="2286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嫌恶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4848840" y="4267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模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5" name="AutoShape 21"/>
          <p:cNvSpPr/>
          <p:nvPr/>
        </p:nvSpPr>
        <p:spPr>
          <a:xfrm>
            <a:off x="5334120" y="12193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6" name="Rectangle 22"/>
          <p:cNvSpPr/>
          <p:nvPr/>
        </p:nvSpPr>
        <p:spPr>
          <a:xfrm>
            <a:off x="5716800" y="3809880"/>
            <a:ext cx="99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m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ó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7" name="Rectangle 23"/>
          <p:cNvSpPr/>
          <p:nvPr/>
        </p:nvSpPr>
        <p:spPr>
          <a:xfrm>
            <a:off x="6800040" y="3809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劳模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8" name="Rectangle 24"/>
          <p:cNvSpPr/>
          <p:nvPr/>
        </p:nvSpPr>
        <p:spPr>
          <a:xfrm>
            <a:off x="5717520" y="464832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m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ú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19" name="Rectangle 25"/>
          <p:cNvSpPr/>
          <p:nvPr/>
        </p:nvSpPr>
        <p:spPr>
          <a:xfrm>
            <a:off x="6800040" y="4648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模样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020" name="Picture 26" descr="zgzp12_1"/>
          <p:cNvPicPr/>
          <p:nvPr/>
        </p:nvPicPr>
        <p:blipFill>
          <a:blip r:embed="rId2"/>
          <a:stretch/>
        </p:blipFill>
        <p:spPr>
          <a:xfrm>
            <a:off x="152280" y="3657600"/>
            <a:ext cx="4038840" cy="2844720"/>
          </a:xfrm>
          <a:prstGeom prst="rect">
            <a:avLst/>
          </a:prstGeom>
          <a:ln w="0">
            <a:noFill/>
          </a:ln>
        </p:spPr>
      </p:pic>
      <p:grpSp>
        <p:nvGrpSpPr>
          <p:cNvPr id="1021" name="Group 27"/>
          <p:cNvGrpSpPr/>
          <p:nvPr/>
        </p:nvGrpSpPr>
        <p:grpSpPr>
          <a:xfrm>
            <a:off x="-608040" y="3200400"/>
            <a:ext cx="5419440" cy="342720"/>
            <a:chOff x="-608040" y="3200400"/>
            <a:chExt cx="5419440" cy="342720"/>
          </a:xfrm>
        </p:grpSpPr>
        <p:sp>
          <p:nvSpPr>
            <p:cNvPr id="1022" name="Rectangle 28"/>
            <p:cNvSpPr/>
            <p:nvPr/>
          </p:nvSpPr>
          <p:spPr>
            <a:xfrm>
              <a:off x="-608040" y="3200400"/>
              <a:ext cx="541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023" name="Rectangle 29"/>
            <p:cNvSpPr/>
            <p:nvPr/>
          </p:nvSpPr>
          <p:spPr>
            <a:xfrm>
              <a:off x="-608040" y="3200400"/>
              <a:ext cx="541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_x000b__x000c_"/>
                </a:rPr>
                <a:t>鲁迅在八道湾的住房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0AB-9417-4FF5-97D6-C50EE86B20F7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25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风筝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26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D1FD-AA0A-46DF-87D0-CEB837C5C4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027" name="Picture 2" descr="bg0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AutoShape 3"/>
          <p:cNvSpPr/>
          <p:nvPr/>
        </p:nvSpPr>
        <p:spPr>
          <a:xfrm>
            <a:off x="838080" y="10666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1038600" y="91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嫌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1749240" y="990720"/>
            <a:ext cx="22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xi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án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嫌恶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1038600" y="1828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赚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1749960" y="1981080"/>
            <a:ext cx="24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zh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àn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赚钱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3" name="AutoShape 8"/>
          <p:cNvSpPr/>
          <p:nvPr/>
        </p:nvSpPr>
        <p:spPr>
          <a:xfrm>
            <a:off x="4876920" y="99072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5229720" y="838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诀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5" name="Rectangle 10"/>
          <p:cNvSpPr/>
          <p:nvPr/>
        </p:nvSpPr>
        <p:spPr>
          <a:xfrm>
            <a:off x="6017040" y="914400"/>
            <a:ext cx="17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诀别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6" name="Rectangle 11"/>
          <p:cNvSpPr/>
          <p:nvPr/>
        </p:nvSpPr>
        <p:spPr>
          <a:xfrm>
            <a:off x="5245200" y="14540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决</a:t>
            </a:r>
            <a:endParaRPr b="0" lang="en-US" sz="5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7" name="Rectangle 12"/>
          <p:cNvSpPr/>
          <p:nvPr/>
        </p:nvSpPr>
        <p:spPr>
          <a:xfrm>
            <a:off x="6017400" y="160020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决定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8" name="Rectangle 13"/>
          <p:cNvSpPr/>
          <p:nvPr/>
        </p:nvSpPr>
        <p:spPr>
          <a:xfrm>
            <a:off x="5229720" y="220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抉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39" name="Rectangle 14"/>
          <p:cNvSpPr/>
          <p:nvPr/>
        </p:nvSpPr>
        <p:spPr>
          <a:xfrm>
            <a:off x="6017400" y="236232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抉择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0" name="AutoShape 15"/>
          <p:cNvSpPr/>
          <p:nvPr/>
        </p:nvSpPr>
        <p:spPr>
          <a:xfrm>
            <a:off x="838080" y="38098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1" name="Rectangle 16"/>
          <p:cNvSpPr/>
          <p:nvPr/>
        </p:nvSpPr>
        <p:spPr>
          <a:xfrm>
            <a:off x="1038600" y="3733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堕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2" name="Rectangle 17"/>
          <p:cNvSpPr/>
          <p:nvPr/>
        </p:nvSpPr>
        <p:spPr>
          <a:xfrm>
            <a:off x="1826280" y="3809880"/>
            <a:ext cx="19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d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ò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堕落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3" name="Rectangle 18"/>
          <p:cNvSpPr/>
          <p:nvPr/>
        </p:nvSpPr>
        <p:spPr>
          <a:xfrm>
            <a:off x="1114920" y="4572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坠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4" name="Rectangle 19"/>
          <p:cNvSpPr/>
          <p:nvPr/>
        </p:nvSpPr>
        <p:spPr>
          <a:xfrm>
            <a:off x="1902240" y="4724280"/>
            <a:ext cx="20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zhu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ì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下坠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5" name="AutoShape 20"/>
          <p:cNvSpPr/>
          <p:nvPr/>
        </p:nvSpPr>
        <p:spPr>
          <a:xfrm>
            <a:off x="5029200" y="38098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6" name="Rectangle 21"/>
          <p:cNvSpPr/>
          <p:nvPr/>
        </p:nvSpPr>
        <p:spPr>
          <a:xfrm>
            <a:off x="5306040" y="4648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恕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7" name="Rectangle 22"/>
          <p:cNvSpPr/>
          <p:nvPr/>
        </p:nvSpPr>
        <p:spPr>
          <a:xfrm>
            <a:off x="6093720" y="480060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宽恕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8" name="Rectangle 23"/>
          <p:cNvSpPr/>
          <p:nvPr/>
        </p:nvSpPr>
        <p:spPr>
          <a:xfrm>
            <a:off x="6017400" y="3809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n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愤怒</a:t>
            </a:r>
            <a:endParaRPr b="0" lang="en-US" sz="4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49" name="Text Box 24"/>
          <p:cNvSpPr/>
          <p:nvPr/>
        </p:nvSpPr>
        <p:spPr>
          <a:xfrm>
            <a:off x="5181480" y="3733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怒</a:t>
            </a:r>
            <a:endParaRPr b="0" lang="en-US" sz="4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04:23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47Z</dcterms:modified>
  <cp:revision>1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