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11.jpeg" ContentType="image/jpeg"/>
  <Override PartName="/ppt/media/drumroll.wav" ContentType="audio/x-wav"/>
  <Override PartName="/ppt/media/image10.gif" ContentType="image/gif"/>
  <Override PartName="/ppt/media/image9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applause.wav" ContentType="audio/x-wav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D9F5-B7EB-4A5D-A463-2D90D0EF58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6AA-B9AA-487B-9E01-06EBBFF52A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28F-6F3E-4DE4-B2CF-5118BC7B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E9A-BBF9-4CFB-9007-2513E7D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EFBFB-FCA1-494B-924D-D0F5C1C1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75933-B1F5-47DF-8377-6A916E73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E0DA-D05B-46A9-BC25-2BE6E96B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35FB8-7EA1-4D6C-AA12-03E5731C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D4533-7654-44D9-A10A-D38CA2A2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ECEDE-BF8F-4914-9196-C6ACCA30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42D04-4474-4B0B-88E0-19CDA0D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E36D6-7682-44B5-8EE3-505C65E0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1F0FD-124E-4EA5-81DC-89CEBE80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EB34C-28E5-4F8F-89D3-64564A2C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BF9-10F5-4DE8-90E9-DEF0C5ED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1EC38-D32F-41E7-9251-E84FF0A4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BE4AC-E066-4A67-AB11-783C851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CF63A-C5C9-4B52-8DA7-D09EE2D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0841-BDC7-42A4-9F06-7CA66197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E6A14-2FF2-44C2-9850-040758B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8879F-F76C-4C3D-949F-BE6BBA2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E33B3-1FA7-4131-B4C4-3C8E974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B2656-73D2-42B4-9A7A-2CDA3787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EAD2-2634-4255-A703-ACE5C9E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59068-CBAA-4D06-ADC5-C63A04CE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C69-D856-44DD-85F2-5D1A67EB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44740-C224-414B-8CB1-2196653F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E04D5-098B-4C2F-8550-8F6A5AD7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453E3-8D55-463E-8C6D-5E24A36D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C0D46-FD03-4436-B7C6-BCF1757C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F583-130E-40CD-B345-D0494B4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D9BE0-276A-4A6D-A398-18A55E0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EE07-0B86-4B0F-99C4-14DB351B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7C36C-0B20-4490-BA7F-0A5A6E16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3E556-CC0E-4EC4-9184-0F8865B2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8FD8B-35DF-4DDE-AB81-F4A4DB0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2D03-4831-470B-A806-E6D89EE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218D1-44E8-4EB4-8B89-91DBD37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580EF-99C1-4C6B-9BA7-B7F1D2A1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A3750-57CD-4119-9A8F-64D39403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02613-2E17-4166-AE47-77241DD8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3EEF-3B06-42A6-8981-CAD45877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104F5-1B38-4919-A943-53BC30F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8DF9D-E3F9-49F8-88F4-B26675D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FC5DA-5BD1-47E9-829E-C777AAE1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997B-F097-4E75-8173-6C93B2CC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0B510-7809-4C41-BDE6-F77972B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D900-A086-4703-A193-0F1F9FC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46E2D-AFD7-49C8-B848-DC78139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35335-6E51-4DB2-B07A-1C3D9A5C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67096-E902-48A4-8C35-90E808E3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A1FD6-475A-40B1-9BA9-A690ED96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277FE-586F-465D-87ED-5510E1D6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CA442-3BB4-4194-A82E-AE34AFF4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15786-14C7-4F74-84C6-E0BBDB95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CBF42-9B03-4938-86CE-68DA800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5C038-716D-4287-8975-6D914F0F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69EA9-9F03-4EEA-9724-05A03F65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1F8-7317-4383-905A-7D7C112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19E52-B57B-41BD-ACE2-08F31A9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EC4EB-7018-4E10-841B-26026D3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269FC-AD62-43C3-9AE6-F6BC3B2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AA2FF-99FD-4B93-BA35-180A1B0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94BDE-F690-4472-84E9-C1BE5126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37044-61A3-4980-AFFF-226DD299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15B55-81F0-4B2F-8CAF-C50BB70E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3B392-40B9-4A9B-94E3-B38509B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D7BCA-30BA-486A-B335-D0003D5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0C06E-3314-4B21-9A77-2477B60B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B4D0-A3BF-48FE-8CF4-8F34900B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C695B-69F6-4CE0-831A-F657745F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52D51-B801-4B7F-BAC0-D23AF891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4B858-991D-4B87-A1FE-5AC7B6B1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79635-83EE-4F62-8729-0BD4FA0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DAE2A-9332-48EF-A324-A23FDB1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4F485-8936-44A1-BE1F-F1C615EE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A8FDD-9F1E-4483-9F8F-D9809D02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5A9EC-82F3-491C-B1C6-35790ED5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9E24B-373C-429B-A5AD-38E990F8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C2AF-42C4-4DD4-B81D-CC8117C6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4C02-743C-4DAF-A9D7-E33E21A4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9835-0DD7-4879-BC81-2596358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1FF-7CC4-4F82-91D3-B431173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FC39-CED1-49C1-AD22-A2010EA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A355-2C78-48F8-A80E-B7873AD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4CD-0834-48AF-A32D-74196C18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D62-D4B7-4333-BA32-7A318F13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629-7332-44F9-8C7B-A9639DD2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9539-D158-45DA-88A3-B205E34E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817F-B493-4FC9-940E-B4E49629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FD7B-DD4D-412D-BFE7-0D9CEBC6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CD25-54A6-4DF7-A630-13842E6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1A71-79BB-41F4-9F92-53E00C1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57A-FECC-46D3-AA0F-7CCB56D4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3687-EB6E-4DF4-B218-7DD5CC4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C968-A3E8-4F0F-B994-1CBC2D9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AC05-E14B-449A-A402-32497EE9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1488-6CEA-4733-B601-47E43A4B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2132-F7B2-45AC-B821-4C77C19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AF3C-3163-4C7F-8899-A06E76FC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52DB-F548-4EB5-A007-C20DC743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07E2-EB62-4A8C-AD1F-FBDF7AEB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7B6F-5EDB-4700-9C51-6F17564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0DD1-F090-4219-B39A-0146F4EF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8DE-ADFB-444C-A67A-168FEC0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1C58-EB26-4EE8-ABDA-A3202987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2488-ADA3-419B-BE79-EA5CB765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7873-D844-4C76-9BB8-DF61063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BEE2-2AFA-4C13-8E3E-121954F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D72A-2D43-4204-93E4-31D556B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C32A-DB5B-4527-B19F-902E7D5F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2C9E-953C-44D6-A6F7-B50E67F5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EC26-691F-4502-9CA4-582BE9DB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544D-F54D-4050-90CD-CD060DA7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C21E-359A-4781-A42A-ACD54D8C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DF3-613E-4C02-80F9-BD10E25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3068-5446-420E-A9C6-E5A482F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5271-F0A6-45FB-8BB0-F624480C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29BFB-85B6-4188-BD30-4E6B3BAE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0C52-1F3B-4DEE-9BF8-2F83AE5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F33B-76A8-43A3-B65C-B94B8D0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F0BE-151F-4641-9390-04B78BD9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941C2-6601-490B-A9A1-F654E4D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F1CC-928F-4170-AD68-5CEFA50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588DE-AE79-4271-AA00-1AE1950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0D36-E70D-4F7F-9E60-4BA00D5E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104-CBF5-4DC3-A49F-8A7B9B42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E776-952C-4628-AD2C-F90E7691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C799D-5A11-4714-BC2C-9A75FE8B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354C0-72C0-4607-8437-91230C0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39A29-F61F-4440-B783-DBFB26E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2F750-55E4-472D-B41B-A8DF8D8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03EA7-7848-447C-AECF-950A9F96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72F3-AFA8-4D54-8318-FFB52E84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8DF5-EF6E-4FFB-A9EB-68E7D10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14E67-E754-4DCE-BD62-3A917C0A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4749-5A75-45FE-A09C-431CAAA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6B3-9538-4F50-B282-AD8CF95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DED0-245F-4C24-91EA-5BD7542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ECE2-AE2F-4784-99F2-49C452D3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F3C3-B977-4052-951C-B6720804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720AC-433A-4DD1-8C52-230D127B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1F11-2274-4744-83D7-B0BDBBCB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8D59-1436-4A5D-A75E-8A18ED2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5D4E-D8CA-4EF7-91A9-2A959F6F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3056-9106-49FC-88BE-E5B3164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56CB-E48C-4E2A-A8EA-B5CFBF8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ED909-4721-4BD7-AA36-8FF9A6D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A5A-D744-4C09-BF78-D1FD76C9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0EA9-A587-4CBC-8FF6-0F9F668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BD82E-2A15-4943-B59B-2EB3E6C5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AEEB-028F-42DA-B4A1-A51E4E2F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68640-BF65-4BEB-9F86-7AAFBE60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2681-D438-4D68-97E7-39A955D0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E20FB-A9A1-44E5-9023-EA7B78F7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B1B7-6427-4072-96AF-F63F3812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0DB1-5A7C-42EA-A369-65B706CD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5201-03AF-4BE0-895F-F88A413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B3F5-80AA-4526-8366-0BDEFA3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B64-052F-46FB-AF21-F6F96D8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6DF37-D1FA-4620-9D11-446FDB08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5BD8-B008-4351-B73F-65C656A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260B-1E71-4B7A-8EFB-9D1465B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07DFF-D926-42AD-BA34-A1C4BEE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DDBDE-F2B8-44D5-97CB-B611A920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738A-4C5D-48F7-A000-22151252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6300-F73F-458A-9B85-49ACC18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A2F11-6E12-45CD-AFD3-22A33F7A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E9E0-7AE2-4BB1-97A3-9AA99D24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CC677-11CE-41FD-84ED-3FEDB292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129-398F-4AD2-B5B6-24AC604AF67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0213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F44-E06E-4D16-8C50-6842EE8274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3C49-5A6C-48A4-BF08-CE52C09D58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9F0-147E-464C-9E8E-AB2F1A7052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32C3-C418-4609-9AF3-62566B0B6B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93E3-ABCC-4912-BE7E-77361307B9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D932-0A6C-4814-8FE3-00C1BDBB0A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025D-C0F9-483B-83BF-3346BFE4FE8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0980-B289-4D0D-A75D-BAF54AD432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7216-1B14-4488-8C58-B7F5EBDCDA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203C-F7C7-4E88-9B78-0FC0E652FC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1C35-CA04-4A94-B535-CA6E9DFB9D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6FD-FF56-4988-BA4E-EB7FC1D09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C5AA-EE26-4917-BFC7-E38101C079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fc1"/>
          <p:cNvPicPr/>
          <p:nvPr/>
        </p:nvPicPr>
        <p:blipFill>
          <a:blip r:embed="rId1"/>
          <a:stretch/>
        </p:blipFill>
        <p:spPr>
          <a:xfrm>
            <a:off x="1042920" y="560520"/>
            <a:ext cx="7338960" cy="542448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631800" y="436680"/>
            <a:ext cx="4537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6600"/>
                </a:solidFill>
                <a:latin typeface="华文隶书"/>
                <a:ea typeface="华文隶书"/>
              </a:rPr>
              <a:t>风 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 rot="60000">
            <a:off x="7397640" y="3362400"/>
            <a:ext cx="63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9900"/>
                </a:solidFill>
                <a:latin typeface="Times New Roman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"/>
          <p:cNvSpPr/>
          <p:nvPr/>
        </p:nvSpPr>
        <p:spPr>
          <a:xfrm>
            <a:off x="2012400" y="609300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2340000" y="1701360"/>
            <a:ext cx="2736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线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006633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风筝</a:t>
            </a:r>
            <a:r>
              <a:rPr b="1" lang="zh-CN" sz="4800" spc="-1" strike="noStrike">
                <a:solidFill>
                  <a:srgbClr val="006633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在课文中起什么作用？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20" name="Picture 4" descr="cz4"/>
          <p:cNvPicPr/>
          <p:nvPr/>
        </p:nvPicPr>
        <p:blipFill>
          <a:blip r:embed="rId2"/>
          <a:stretch/>
        </p:blipFill>
        <p:spPr>
          <a:xfrm>
            <a:off x="6318360" y="2967120"/>
            <a:ext cx="2782800" cy="32004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281160" y="3429000"/>
            <a:ext cx="60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围绕风筝主要写了三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一是：“我”少年时虐杀了弟弟的风筝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二是：“我”中年时读了儿童教育的书籍后感到无限懊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三是：“我”想补过而不得的经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828720" y="190440"/>
            <a:ext cx="808812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全文表达的主要感情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文中的一个词概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</a:t>
            </a: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悲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鲁迅《风筝》mp3音频课文朗读.MP3" descr=""/>
          <p:cNvPicPr/>
          <p:nvPr/>
        </p:nvPicPr>
        <p:blipFill>
          <a:blip r:embed="rId2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cz5"/>
          <p:cNvPicPr/>
          <p:nvPr/>
        </p:nvPicPr>
        <p:blipFill>
          <a:blip r:embed="rId3"/>
          <a:stretch/>
        </p:blipFill>
        <p:spPr>
          <a:xfrm>
            <a:off x="5334120" y="4653000"/>
            <a:ext cx="33829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560074" fill="hold"/>
                                        <p:tgtEl>
                                          <p:spTgt spid="6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4.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本文写了一件什么事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6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文章说的是小时候小兄弟最喜欢放风筝，</a:t>
            </a:r>
            <a:r>
              <a:rPr b="1" lang="zh-CN" sz="2800" spc="-1" strike="noStrike">
                <a:solidFill>
                  <a:srgbClr val="009900"/>
                </a:solidFill>
                <a:latin typeface="新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9900"/>
                </a:solidFill>
                <a:latin typeface="新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准小兄弟弄这种没出息的玩艺，行为十分粗暴。待到明白游戏之于儿童的意义，鲁迅醒悟过来，自己当年的行径，简直是</a:t>
            </a:r>
            <a:r>
              <a:rPr b="1" lang="zh-CN" sz="2800" spc="-1" strike="noStrike">
                <a:solidFill>
                  <a:srgbClr val="009900"/>
                </a:solidFill>
                <a:latin typeface="新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对于精神的虐杀</a:t>
            </a:r>
            <a:r>
              <a:rPr b="1" lang="zh-CN" sz="2800" spc="-1" strike="noStrike">
                <a:solidFill>
                  <a:srgbClr val="009900"/>
                </a:solidFill>
                <a:latin typeface="新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。虽然事隔久远，鲁迅还是一心想补过，然而小兄弟却全然忘却，</a:t>
            </a:r>
            <a:r>
              <a:rPr b="1" lang="zh-CN" sz="2800" spc="-1" strike="noStrike">
                <a:solidFill>
                  <a:srgbClr val="009900"/>
                </a:solidFill>
                <a:latin typeface="新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9900"/>
                </a:solidFill>
                <a:latin typeface="新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的沉重的心只得一直沉重下去。</a:t>
            </a:r>
            <a:r>
              <a:rPr b="1" lang="zh-CN" sz="2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4" descr="hanpengb"/>
          <p:cNvPicPr/>
          <p:nvPr/>
        </p:nvPicPr>
        <p:blipFill>
          <a:blip r:embed="rId1"/>
          <a:stretch/>
        </p:blipFill>
        <p:spPr>
          <a:xfrm>
            <a:off x="4861080" y="134316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1120" y="2649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3b812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既然基调是悲哀的为何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故乡的风筝时节”</a:t>
            </a: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却写得很温和、鲜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412920" y="2205000"/>
            <a:ext cx="584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交代了惊异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396720" y="35733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使往事的温和与现实的寒威互相映衬。透露出作者不满黑暗    现实，向往光明天地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1</a:t>
            </a:r>
            <a:r>
              <a:rPr b="0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、第一段属于什么描写？ 此段有何作用？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自然环境描写，渲染严冬肃杀的气氛，烘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新宋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新宋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悲哀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开篇点题，引出回忆，定下感情基调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作者看到</a:t>
            </a:r>
            <a:r>
              <a:rPr b="1" lang="zh-CN" sz="4200" spc="-1" strike="noStrike">
                <a:solidFill>
                  <a:srgbClr val="3b812f"/>
                </a:solidFill>
                <a:latin typeface="Arial"/>
                <a:ea typeface="隶书"/>
              </a:rPr>
              <a:t>“</a:t>
            </a:r>
            <a:r>
              <a:rPr b="1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远处有一二风筝浮动</a:t>
            </a:r>
            <a:r>
              <a:rPr b="1" lang="zh-CN" sz="4200" spc="-1" strike="noStrike">
                <a:solidFill>
                  <a:srgbClr val="3b812f"/>
                </a:solidFill>
                <a:latin typeface="Arial"/>
                <a:ea typeface="隶书"/>
              </a:rPr>
              <a:t>”</a:t>
            </a:r>
            <a:r>
              <a:rPr b="1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，就感到</a:t>
            </a:r>
            <a:r>
              <a:rPr b="1" lang="zh-CN" sz="4200" spc="-1" strike="noStrike">
                <a:solidFill>
                  <a:srgbClr val="3b812f"/>
                </a:solidFill>
                <a:latin typeface="Arial"/>
                <a:ea typeface="隶书"/>
              </a:rPr>
              <a:t>“</a:t>
            </a:r>
            <a:r>
              <a:rPr b="1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惊异和悲哀</a:t>
            </a:r>
            <a:r>
              <a:rPr b="1" lang="zh-CN" sz="4200" spc="-1" strike="noStrike">
                <a:solidFill>
                  <a:srgbClr val="3b812f"/>
                </a:solidFill>
                <a:latin typeface="Arial"/>
                <a:ea typeface="隶书"/>
              </a:rPr>
              <a:t>”</a:t>
            </a:r>
            <a:r>
              <a:rPr b="1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为什么？</a:t>
            </a:r>
            <a:br>
              <a:rPr sz="4200"/>
            </a:br>
            <a:r>
              <a:rPr b="1" lang="zh-CN" sz="4200" spc="-1" strike="noStrike">
                <a:solidFill>
                  <a:srgbClr val="3b812f"/>
                </a:solidFill>
                <a:latin typeface="隶书"/>
                <a:ea typeface="隶书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故乡的风筝时节，是春二月，春光明媚，北京冬季未过，就放风筝，所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惊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见到风筝，就想起小时候精神的虐杀的一幕，而且无从补过，心头不禁悲哀。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5003640" y="170028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向来不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    </a:t>
            </a:r>
            <a:r>
              <a:rPr b="0" lang="zh-CN" sz="4000" spc="-1" strike="noStrike">
                <a:solidFill>
                  <a:srgbClr val="800000"/>
                </a:solidFill>
                <a:latin typeface="新宋体"/>
                <a:ea typeface="新宋体"/>
              </a:rPr>
              <a:t>嫌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5796000" y="321300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没出息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600200" y="1762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最喜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380880" y="328464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呆看出神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380880" y="4508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惊呼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0880" y="522936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高兴的跳跃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/>
          <p:cNvSpPr/>
          <p:nvPr/>
        </p:nvSpPr>
        <p:spPr>
          <a:xfrm>
            <a:off x="3132000" y="2997360"/>
            <a:ext cx="381240" cy="2361960"/>
          </a:xfrm>
          <a:custGeom>
            <a:avLst/>
            <a:gdLst>
              <a:gd name="textAreaLeft" fmla="*/ 0 w 381240"/>
              <a:gd name="textAreaRight" fmla="*/ 137520 w 381240"/>
              <a:gd name="textAreaTop" fmla="*/ 25920 h 2361960"/>
              <a:gd name="textAreaBottom" fmla="*/ 233604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"/>
                  <a:pt x="10800" y="759"/>
                </a:cubicBezTo>
                <a:lnTo>
                  <a:pt x="10800" y="7763"/>
                </a:lnTo>
                <a:cubicBezTo>
                  <a:pt x="10800" y="8143"/>
                  <a:pt x="16200" y="8522"/>
                  <a:pt x="21600" y="8522"/>
                </a:cubicBezTo>
                <a:cubicBezTo>
                  <a:pt x="16200" y="8522"/>
                  <a:pt x="10800" y="8902"/>
                  <a:pt x="10800" y="9281"/>
                </a:cubicBezTo>
                <a:lnTo>
                  <a:pt x="10800" y="20841"/>
                </a:lnTo>
                <a:cubicBezTo>
                  <a:pt x="10800" y="2122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81280" y="270828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天真活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5796000" y="393372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笑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可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0" y="2602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三、读第三段：用不同符号划出我和弟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对风筝的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9528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小半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380880" y="26020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张着小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3749040" y="2781360"/>
            <a:ext cx="1399320" cy="25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对     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533520" y="17622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新宋体"/>
                <a:ea typeface="新宋体"/>
              </a:rPr>
              <a:t>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6"/>
          <p:cNvSpPr/>
          <p:nvPr/>
        </p:nvSpPr>
        <p:spPr>
          <a:xfrm>
            <a:off x="5148360" y="1773360"/>
            <a:ext cx="14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0" y="0"/>
            <a:ext cx="87487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四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读第四段：用不同符号划出发现弟弟偷做风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后我和弟弟的神态和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我为什么那样做，弟为何不反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457200" y="1363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3635280" y="2492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8244000" y="263700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新宋体"/>
                <a:ea typeface="隶书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30492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很惊惶地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304920" y="2666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失了色瑟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04920" y="3200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绝望地站在小屋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4648320" y="2133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愤怒   即刻伸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8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抓断、掷、塌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4724280" y="3421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傲然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2"/>
          <p:cNvSpPr/>
          <p:nvPr/>
        </p:nvSpPr>
        <p:spPr>
          <a:xfrm>
            <a:off x="2209680" y="22860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3"/>
          <p:cNvSpPr/>
          <p:nvPr/>
        </p:nvSpPr>
        <p:spPr>
          <a:xfrm>
            <a:off x="1777680" y="2057400"/>
            <a:ext cx="1833840" cy="2362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惊恐不安的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悲苦无奈的神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4"/>
          <p:cNvSpPr/>
          <p:nvPr/>
        </p:nvSpPr>
        <p:spPr>
          <a:xfrm>
            <a:off x="7238880" y="23623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5"/>
          <p:cNvSpPr/>
          <p:nvPr/>
        </p:nvSpPr>
        <p:spPr>
          <a:xfrm>
            <a:off x="7623000" y="2286000"/>
            <a:ext cx="546120" cy="1828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专制、盛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6"/>
          <p:cNvSpPr/>
          <p:nvPr/>
        </p:nvSpPr>
        <p:spPr>
          <a:xfrm>
            <a:off x="5638680" y="41148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7"/>
          <p:cNvSpPr/>
          <p:nvPr/>
        </p:nvSpPr>
        <p:spPr>
          <a:xfrm>
            <a:off x="4572000" y="4724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认为管的对，受封建家长制传统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8"/>
          <p:cNvSpPr/>
          <p:nvPr/>
        </p:nvSpPr>
        <p:spPr>
          <a:xfrm>
            <a:off x="990720" y="4267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9"/>
          <p:cNvSpPr/>
          <p:nvPr/>
        </p:nvSpPr>
        <p:spPr>
          <a:xfrm>
            <a:off x="22860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认为管是正当，自认该罚。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0"/>
          <p:cNvSpPr/>
          <p:nvPr/>
        </p:nvSpPr>
        <p:spPr>
          <a:xfrm>
            <a:off x="1523880" y="6248520"/>
            <a:ext cx="4953240" cy="457200"/>
          </a:xfrm>
          <a:prstGeom prst="leftArrow">
            <a:avLst>
              <a:gd name="adj1" fmla="val 50000"/>
              <a:gd name="adj2" fmla="val 27084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1"/>
          <p:cNvSpPr/>
          <p:nvPr/>
        </p:nvSpPr>
        <p:spPr>
          <a:xfrm>
            <a:off x="3352680" y="5562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同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五、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五至十一段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；用不同符号划出我是如何省悟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补过的的及弟弟知道有这么一件事后的神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563868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2057400" y="1295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新宋体"/>
                <a:ea typeface="隶书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106668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幸偶尔看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10666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心变铅块堕下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10666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补过、讨宽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52578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惊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5148360" y="2590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什么也不记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0"/>
          <p:cNvSpPr/>
          <p:nvPr/>
        </p:nvSpPr>
        <p:spPr>
          <a:xfrm>
            <a:off x="2057400" y="33526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685800" y="3886200"/>
            <a:ext cx="395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深深自责、严于自我解剖，抛弃旧我、追求新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5943600" y="30481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4952880" y="388620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毫不抗争，麻木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幼稚纯真，健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533520" y="4952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揭示了“游戏是儿童最正当的行为，玩具是儿童的天使”这一科学道理。批判了封建教育制度对儿童自由、活泼的天性的扼杀。——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533520" y="19810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bf39"/>
                </a:solidFill>
                <a:latin typeface="Tahoma"/>
              </a:rPr>
              <a:t>荡漾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为了弟弟有出息，我蛮横毁坏风筝的愤怒里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447920" y="83808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手足情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539640" y="342900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bf39"/>
                </a:solidFill>
                <a:latin typeface="Tahoma"/>
              </a:rPr>
              <a:t>荡漾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我急于补过，而终于无可补救的悲哀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684360" y="472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bf39"/>
                </a:solidFill>
                <a:latin typeface="Tahoma"/>
              </a:rPr>
              <a:t>荡漾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2411280" y="4941720"/>
            <a:ext cx="65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500040" y="4724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小兄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全然忘却，毫无怨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心灵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 rot="589200">
            <a:off x="7610040" y="17269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3207240" y="1402920"/>
            <a:ext cx="450648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草长莺飞二月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拂堤杨柳醉春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童放学归来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忙趁东风放纸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——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鼎《村居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舒伯特-小夜曲.mp3" descr=""/>
          <p:cNvPicPr/>
          <p:nvPr/>
        </p:nvPicPr>
        <p:blipFill>
          <a:blip r:embed="rId2"/>
          <a:stretch/>
        </p:blipFill>
        <p:spPr>
          <a:xfrm>
            <a:off x="824400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蝴蝶"/>
          <p:cNvPicPr/>
          <p:nvPr/>
        </p:nvPicPr>
        <p:blipFill>
          <a:blip r:embed="rId2"/>
          <a:stretch/>
        </p:blipFill>
        <p:spPr>
          <a:xfrm>
            <a:off x="7497720" y="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3"/>
          <p:cNvSpPr/>
          <p:nvPr/>
        </p:nvSpPr>
        <p:spPr>
          <a:xfrm>
            <a:off x="228600" y="15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六、合作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219240" y="1096920"/>
            <a:ext cx="70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b812f"/>
                </a:solidFill>
                <a:latin typeface="隶书"/>
                <a:ea typeface="隶书"/>
              </a:rPr>
              <a:t>看到一本外国的讲论儿童的书，为什么说是</a:t>
            </a:r>
            <a:r>
              <a:rPr b="0" lang="zh-CN" sz="4000" spc="-1" strike="noStrike">
                <a:solidFill>
                  <a:srgbClr val="3b812f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3b812f"/>
                </a:solidFill>
                <a:latin typeface="隶书"/>
                <a:ea typeface="隶书"/>
              </a:rPr>
              <a:t>不幸</a:t>
            </a:r>
            <a:r>
              <a:rPr b="0" lang="zh-CN" sz="4000" spc="-1" strike="noStrike">
                <a:solidFill>
                  <a:srgbClr val="3b812f"/>
                </a:solidFill>
                <a:latin typeface="Times New Roman"/>
                <a:ea typeface="隶书"/>
              </a:rPr>
              <a:t>”</a:t>
            </a:r>
            <a:r>
              <a:rPr b="0" lang="zh-CN" sz="4000" spc="-1" strike="noStrike">
                <a:solidFill>
                  <a:srgbClr val="3b812f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324000" y="2565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惩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词联系起来就明白了，因为自己一向以为管小兄弟管得对，现在见到书上的道理，心情一下子沉重起来，受到惩罚了，对旧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说，良心遭受了谴责，可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蝴蝶"/>
          <p:cNvPicPr/>
          <p:nvPr/>
        </p:nvPicPr>
        <p:blipFill>
          <a:blip r:embed="rId2"/>
          <a:stretch/>
        </p:blipFill>
        <p:spPr>
          <a:xfrm>
            <a:off x="7497720" y="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3"/>
          <p:cNvSpPr/>
          <p:nvPr/>
        </p:nvSpPr>
        <p:spPr>
          <a:xfrm>
            <a:off x="0" y="20574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为什么说不许弟弟放风筝是“对于精神的虐杀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52280" y="25909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游戏是儿童最正当的行为，玩具是儿童的天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游戏实在出于儿童天性，游戏使儿童活泼、健康、聪明。因此不准游戏，无异于虐杀儿童天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文中所说的</a:t>
            </a:r>
            <a:r>
              <a:rPr b="0" lang="zh-CN" sz="2800" spc="-1" strike="noStrike">
                <a:solidFill>
                  <a:srgbClr val="3b812f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对于精神的虐杀的这一幕</a:t>
            </a:r>
            <a:r>
              <a:rPr b="0" lang="zh-CN" sz="2800" spc="-1" strike="noStrike">
                <a:solidFill>
                  <a:srgbClr val="3b812f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具体指什么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3b812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0" y="990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一幕，是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许小兄弟放风筝，发现他偷做风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得我把他快要完工的风筝抓断踏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0" y="3789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5.</a:t>
            </a: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为什么</a:t>
            </a: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20</a:t>
            </a: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年来毫不忆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0" y="44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自己一向以为管小兄弟管得对，小兄弟偷做风筝，自己也并不认为正当，以为兄长该管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9"/>
          <p:cNvSpPr/>
          <p:nvPr/>
        </p:nvSpPr>
        <p:spPr>
          <a:xfrm>
            <a:off x="0" y="5300640"/>
            <a:ext cx="8153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6.</a:t>
            </a:r>
            <a:r>
              <a:rPr b="1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为什么说心不竟堕下去而至于断绝？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0"/>
          <p:cNvSpPr/>
          <p:nvPr/>
        </p:nvSpPr>
        <p:spPr>
          <a:xfrm>
            <a:off x="250920" y="5950080"/>
            <a:ext cx="805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因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知道还有补过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137160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8.</a:t>
            </a:r>
            <a:r>
              <a:rPr b="0" lang="zh-CN" sz="2800" spc="-1" strike="noStrike">
                <a:solidFill>
                  <a:srgbClr val="3b812f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我</a:t>
            </a:r>
            <a:r>
              <a:rPr b="0" lang="zh-CN" sz="2800" spc="-1" strike="noStrike">
                <a:solidFill>
                  <a:srgbClr val="3b812f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懂得游戏的意义后心情沉重，总想补过，说明什么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3b812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鲁迅一旦接触科学思想，就认识错误，设法补过，并不因为自己当初的动机是好的就原谅自己，也不因为当初的想法是受了传统的影响而宽恕自己，也不因为时间相隔久远就不了了之，他的心情是那么沉重，可见他是多么严厉的解剖自己，他的为人是多么严肃认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7.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小兄弟为什么全然忘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来他偷做风筝，自己也并不认为正当，以为兄长该管，因此并不耿耿于怀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0" y="3429000"/>
            <a:ext cx="899172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9.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为什么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的心只得沉重着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为什么小兄弟全然忘却，毫无怨恨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小兄弟不怨恨好不好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文章是不是局限在风筝事件上，有没有更加深广的含义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0" y="457524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了更深沉的悲哀。小时候，自己对弟弟那样管束，简直是精神的虐杀，而弟弟却并不认为兄长的行为是精神的虐杀，时过境迁，忘得一干二净。我也无从补过，无从求得心情的轻松，因而更加悲哀。被虐杀者甘受虐杀，毫无抗争，使虐杀者横行无忌，这正是旧秩序能够维持的原因，所以令人悲哀、沉重。（中国人的思想行为要用科学思想指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539640" y="76500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10. 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末段的语句怎样理解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为什么说</a:t>
            </a:r>
            <a:r>
              <a:rPr b="0" lang="zh-CN" sz="2800" spc="-1" strike="noStrike">
                <a:solidFill>
                  <a:srgbClr val="3b812f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悲哀</a:t>
            </a:r>
            <a:r>
              <a:rPr b="0" lang="zh-CN" sz="2800" spc="-1" strike="noStrike">
                <a:solidFill>
                  <a:srgbClr val="3b812f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是无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把握的悲哀</a:t>
            </a:r>
            <a:r>
              <a:rPr b="0" lang="zh-CN" sz="2800" spc="-1" strike="noStrike">
                <a:solidFill>
                  <a:srgbClr val="3b812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826920" y="19162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讨弟弟的宽恕，抚平他精神的创伤，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弟弟却全然忘却，毫无怨恨，精神被虐杀而不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，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重的心情因无法补过而只能一直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下去，这是怎样的悲哀啊。而这种悲哀是意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到的，所以说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可把握的悲哀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想摆脱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30168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把握主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本文通过对风筝事件的叙述和严肃的自我解剖，批判了那些受封建教育思想影响、无端压制子弟的父兄，抒发了因四周的寒威和冷气而形成的无可把握的悲哀，表达了对冷酷现实的极端憎恶和对春日温和的热烈憧憬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468360" y="404640"/>
            <a:ext cx="8675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有不自满的人的种族，永远前进，永远有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有只知责人不知反省的人的种族，祸哉祸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533520" y="2060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自责和反省是一种美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533520" y="42210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仅表现了我个人的悔恨，其中也包含着作者对这种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普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精神麻木状态的忧虑和痛惜的感情。表示了对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封建教育思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伦理道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否定和深恶痛绝，并启发人们思考，从而有所觉悟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0CCD-E8B0-4989-85F2-815C55FDF1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3635280" y="981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国现代伟大的文学家、思想家、革命家。原名周树人，字豫才，浙江绍兴人。出身于破落封建家庭。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0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去日本学医，后从事文艺工作，希望用以改变国民精神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1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3" descr="lu062"/>
          <p:cNvPicPr/>
          <p:nvPr/>
        </p:nvPicPr>
        <p:blipFill>
          <a:blip r:embed="rId1"/>
          <a:stretch/>
        </p:blipFill>
        <p:spPr>
          <a:xfrm>
            <a:off x="34920" y="262080"/>
            <a:ext cx="3619440" cy="59036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3637080" y="4869000"/>
            <a:ext cx="53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次用笔名“鲁迅”发表中国现代文学史上第一篇白话小说《狂人日记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708360" y="333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188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1936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6"/>
          <p:cNvSpPr txBox="1"/>
          <p:nvPr/>
        </p:nvSpPr>
        <p:spPr>
          <a:xfrm>
            <a:off x="3708360" y="333360"/>
            <a:ext cx="144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9360">
                <a:solidFill>
                  <a:srgbClr val="006633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4"/>
          <p:cNvSpPr/>
          <p:nvPr/>
        </p:nvSpPr>
        <p:spPr>
          <a:xfrm>
            <a:off x="2771640" y="231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826920" y="907920"/>
            <a:ext cx="8172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鲁迅代表作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说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呐喊》《彷徨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散文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朝花夕拾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野草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杂文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二心集》《而已集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" descr="003"/>
          <p:cNvPicPr/>
          <p:nvPr/>
        </p:nvPicPr>
        <p:blipFill>
          <a:blip r:embed="rId2"/>
          <a:stretch/>
        </p:blipFill>
        <p:spPr>
          <a:xfrm>
            <a:off x="6445080" y="981000"/>
            <a:ext cx="2210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39640" y="1484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感情地朗读课文，理解内容，体会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68360" y="299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主合作探究式地探讨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95280" y="4365720"/>
            <a:ext cx="84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受文中浓浓的手足之情，体验人间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2666880" y="1522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生字及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533520" y="974880"/>
            <a:ext cx="8915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zhēng       lěi       duò        chà       z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íngdīng         wù          sùshā           j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ǐ           shí          huáng            sèsu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nüèshā            shù                    huǎ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ì          chéng         tiān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qiáo c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0" y="1050840"/>
            <a:ext cx="9220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筝            蕾        堕      丫杈       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伶仃               嫌恶       肃杀           诀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鄙      什物        惊惶            瑟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虐杀              宽恕              恍然大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苦心孤诣     惩罚           添刻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憔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0" y="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孤独，没有依靠。（风筝数量少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瘦弱，面色不好看（色彩暗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厌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拿来取笑的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令人鄙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形容忽然醒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费尽心思钻研或经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0" y="-1116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伶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憔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嫌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笑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可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恍然大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苦心孤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2"/>
          <p:cNvSpPr/>
          <p:nvPr/>
        </p:nvSpPr>
        <p:spPr>
          <a:xfrm>
            <a:off x="4876920" y="1600200"/>
            <a:ext cx="3962160" cy="2971800"/>
          </a:xfrm>
          <a:prstGeom prst="cloudCallout">
            <a:avLst>
              <a:gd name="adj1" fmla="val -65546"/>
              <a:gd name="adj2" fmla="val 48129"/>
            </a:avLst>
          </a:prstGeom>
          <a:solidFill>
            <a:srgbClr val="3366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方正舒体"/>
                <a:ea typeface="方正舒体"/>
              </a:rPr>
              <a:t>比一比，看一看，谁的反应快</a:t>
            </a:r>
            <a:r>
              <a:rPr b="1" lang="zh-CN" sz="3600" spc="-1" strike="noStrike">
                <a:solidFill>
                  <a:srgbClr val="99ff33"/>
                </a:solidFill>
                <a:latin typeface="方正舒体"/>
                <a:ea typeface="方正舒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468360" y="1628640"/>
            <a:ext cx="2743200" cy="1905120"/>
          </a:xfrm>
          <a:prstGeom prst="wedgeRoundRectCallout">
            <a:avLst>
              <a:gd name="adj1" fmla="val -21527"/>
              <a:gd name="adj2" fmla="val 98166"/>
              <a:gd name="adj3" fmla="val 16667"/>
            </a:avLst>
          </a:prstGeom>
          <a:solidFill>
            <a:srgbClr val="3366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4"/>
          <p:cNvSpPr txBox="1"/>
          <p:nvPr/>
        </p:nvSpPr>
        <p:spPr>
          <a:xfrm>
            <a:off x="684360" y="1989000"/>
            <a:ext cx="2209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抢答题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3" name="Picture 5" descr="0277"/>
          <p:cNvPicPr/>
          <p:nvPr/>
        </p:nvPicPr>
        <p:blipFill>
          <a:blip r:embed="rId3"/>
          <a:stretch/>
        </p:blipFill>
        <p:spPr>
          <a:xfrm>
            <a:off x="609480" y="4572000"/>
            <a:ext cx="2514600" cy="14922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6"/>
          <p:cNvSpPr/>
          <p:nvPr/>
        </p:nvSpPr>
        <p:spPr>
          <a:xfrm>
            <a:off x="755640" y="62064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一、听读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2819520" y="3428640"/>
            <a:ext cx="39621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不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761760" y="1447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、课文是介绍</a:t>
            </a:r>
            <a:r>
              <a:rPr b="1" lang="zh-CN" sz="5400" spc="-1" strike="noStrike">
                <a:solidFill>
                  <a:srgbClr val="006633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风筝</a:t>
            </a:r>
            <a:r>
              <a:rPr b="1" lang="zh-CN" sz="5400" spc="-1" strike="noStrike">
                <a:solidFill>
                  <a:srgbClr val="006633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这种工艺品的吗？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17" name="Picture 4" descr="hsc101"/>
          <p:cNvPicPr/>
          <p:nvPr/>
        </p:nvPicPr>
        <p:blipFill>
          <a:blip r:embed="rId2"/>
          <a:stretch/>
        </p:blipFill>
        <p:spPr>
          <a:xfrm>
            <a:off x="6477120" y="4191120"/>
            <a:ext cx="228600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0:18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37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