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gif" ContentType="image/gif"/>
  <Override PartName="/ppt/media/image3.jpeg" ContentType="image/jpeg"/>
  <Override PartName="/ppt/media/image24.jpeg" ContentType="image/jpeg"/>
  <Override PartName="/ppt/media/image7.gif" ContentType="image/gif"/>
  <Override PartName="/ppt/media/image26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EA6D-2E0C-42E3-A4CD-6ADA32B2414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80E2-76C7-49A4-8428-0C22EE5673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EC5-7BDC-47E5-9AAF-43CC9362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3CEC-C80E-4B64-9F5D-CE1CF85F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07C-39BC-47EA-A4CC-128CB3FF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A259-54EC-445F-B72E-E35301C3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C07D-E779-4B61-AB2C-B36D58AF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7FBA-2AA6-4364-B8F0-32F8D5AE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4E32-C276-4AAF-ABE3-5538731E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8207-21BC-4C6E-B719-3E660F41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F109-6580-42D9-9CF5-504F9D51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4D07-7511-444E-BA6F-AFF64C07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7E52-8D11-4F8E-B146-69082B2F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ADE-A8F8-46E6-9B6B-2ED76348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C3B9-DC4C-4141-BD0A-0D79D0BA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21F6-C604-4E8D-977A-91352345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0E76-36BC-406F-BCA2-BA9E2AB4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CFC6-7668-4DED-8134-F5DB5D62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A2D6-4EC6-4474-9699-008EC598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C27E2-BD33-4164-ABD9-3FB0B702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42924-1C47-40F7-A1CB-1ED7F48F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86419-32AE-4DC4-B521-4F8B94F5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B02E6-65A2-4500-BF68-3441A104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C17D3-4D20-4A6A-AE6E-FED5FDB5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036-AA0C-4E85-8736-14FD4D88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06F52-E8AC-4A77-BB79-CB09F235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6AFDA-0C09-4BCC-9EFA-D871D37E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7C8D3-050A-404F-AA69-9BFA2926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DC011-50F1-400B-8B24-AD497FE3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939F7-C7E8-4BA6-B4F3-66FD1830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4E920-4D3C-4DF6-AB6A-5A79D5E4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534B0-739A-446C-A5FE-72B62B44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F897-0215-4A52-9430-AFC72C58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0B5-02D7-4BDD-BCA5-D8781963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5E48-1CBE-4D17-870A-BDAA735C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44C4-4DC0-4BE7-A241-3811AA35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1CB1-4122-4944-806F-E71BE612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33C-E426-4927-8F48-6D0EB669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400440"/>
            <a:ext cx="2895840" cy="3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456840" y="6400440"/>
            <a:ext cx="2133720" cy="3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D6C5-08C7-428A-B6D0-30C0059004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2704-FD4D-4516-A278-587DBA9BD0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E3BF-AEEF-4259-AA27-B8D76C972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Text Box 1029" descr=""/>
          <p:cNvPicPr/>
          <p:nvPr/>
        </p:nvPicPr>
        <p:blipFill>
          <a:blip r:embed="rId2"/>
          <a:stretch/>
        </p:blipFill>
        <p:spPr>
          <a:xfrm>
            <a:off x="358920" y="404640"/>
            <a:ext cx="4924440" cy="1862280"/>
          </a:xfrm>
          <a:prstGeom prst="rect">
            <a:avLst/>
          </a:prstGeom>
          <a:ln w="0">
            <a:noFill/>
          </a:ln>
        </p:spPr>
      </p:pic>
      <p:pic>
        <p:nvPicPr>
          <p:cNvPr id="132" name="矩形 7" descr=""/>
          <p:cNvPicPr/>
          <p:nvPr/>
        </p:nvPicPr>
        <p:blipFill>
          <a:blip r:embed="rId3"/>
          <a:stretch/>
        </p:blipFill>
        <p:spPr>
          <a:xfrm>
            <a:off x="2214720" y="5877000"/>
            <a:ext cx="47703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0" y="836640"/>
            <a:ext cx="9468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四言诗每句一般读成“二、二”节拍。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关 雎鸠，在河 之洲。窈窕  淑女，君子 好逑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参差 荇菜，左右 流之。窈窕  淑女，寤寐 求之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之 不得，寤寐 思服。悠哉  悠哉，辗转 反侧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"/>
          <p:cNvSpPr/>
          <p:nvPr/>
        </p:nvSpPr>
        <p:spPr>
          <a:xfrm flipH="1">
            <a:off x="1258560" y="2203560"/>
            <a:ext cx="142920" cy="21744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 flipH="1">
            <a:off x="3419640" y="2133720"/>
            <a:ext cx="142560" cy="21744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5651640" y="2133720"/>
            <a:ext cx="142560" cy="21744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 flipH="1">
            <a:off x="7811640" y="2205000"/>
            <a:ext cx="142920" cy="21744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 flipH="1">
            <a:off x="1258560" y="3139920"/>
            <a:ext cx="142920" cy="21780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1"/>
          <p:cNvSpPr/>
          <p:nvPr/>
        </p:nvSpPr>
        <p:spPr>
          <a:xfrm flipH="1">
            <a:off x="3419640" y="3139920"/>
            <a:ext cx="142560" cy="21780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2"/>
          <p:cNvSpPr/>
          <p:nvPr/>
        </p:nvSpPr>
        <p:spPr>
          <a:xfrm flipH="1">
            <a:off x="5651640" y="3141720"/>
            <a:ext cx="142560" cy="21744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3"/>
          <p:cNvSpPr/>
          <p:nvPr/>
        </p:nvSpPr>
        <p:spPr>
          <a:xfrm flipH="1">
            <a:off x="7811640" y="3141720"/>
            <a:ext cx="142920" cy="21744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4"/>
          <p:cNvSpPr/>
          <p:nvPr/>
        </p:nvSpPr>
        <p:spPr>
          <a:xfrm flipH="1">
            <a:off x="1258560" y="4075200"/>
            <a:ext cx="142920" cy="21744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 flipH="1">
            <a:off x="3419640" y="4076640"/>
            <a:ext cx="142560" cy="21600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6"/>
          <p:cNvSpPr/>
          <p:nvPr/>
        </p:nvSpPr>
        <p:spPr>
          <a:xfrm flipH="1">
            <a:off x="5579640" y="4149720"/>
            <a:ext cx="142920" cy="21744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7"/>
          <p:cNvSpPr/>
          <p:nvPr/>
        </p:nvSpPr>
        <p:spPr>
          <a:xfrm flipH="1">
            <a:off x="7811640" y="4149720"/>
            <a:ext cx="142920" cy="21744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2484360" y="47628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读，注意停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028"/>
          <p:cNvSpPr/>
          <p:nvPr/>
        </p:nvSpPr>
        <p:spPr>
          <a:xfrm>
            <a:off x="1332000" y="2924280"/>
            <a:ext cx="7488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读，欣赏体会，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先明白意思，小组讨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324000" y="260280"/>
            <a:ext cx="74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395280" y="1341360"/>
            <a:ext cx="2232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双双对对雎鸠鸟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沙洲上面关关叫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漂亮文静好姑娘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你是我的好对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2554200" y="1341360"/>
            <a:ext cx="230508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长短不齐的荇菜，顺水漂浮左右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漂亮文静好姑娘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醒来梦中来求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向她求爱不回应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夜思念坐不宁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意绵绵思不停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法入睡如烙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4643280" y="1341360"/>
            <a:ext cx="230508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长短不齐的荇菜，两手不停左右摘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漂亮文静好姑娘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弹琴鼓瑟表达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长短不齐的荇菜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两手不停左右采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漂亮文静好姑娘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敲钟打鼓让你乐开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5400720" cy="2735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关 关 雎 鸠 ，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在 河 之 洲 。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窈 窕 淑 女 ，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君 子 好 逑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39640" y="4869000"/>
            <a:ext cx="748836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99ff"/>
                </a:solidFill>
                <a:latin typeface="Arial"/>
              </a:rPr>
              <a:t>雎鸠：水鸟名，即鱼鹰。传说它们情意专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ffffff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0" y="105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e"/>
                </a:solidFill>
                <a:latin typeface="隶书"/>
                <a:ea typeface="隶书"/>
              </a:rPr>
              <a:t>第一节：</a:t>
            </a:r>
            <a:r>
              <a:rPr b="1" lang="zh-CN" sz="3600" spc="-1" strike="noStrike">
                <a:solidFill>
                  <a:srgbClr val="00009e"/>
                </a:solidFill>
                <a:latin typeface="隶书"/>
                <a:ea typeface="隶书"/>
              </a:rPr>
              <a:t>关关雎鸠</a:t>
            </a:r>
            <a:r>
              <a:rPr b="0" lang="zh-CN" sz="3600" spc="-1" strike="noStrike">
                <a:solidFill>
                  <a:srgbClr val="00009e"/>
                </a:solidFill>
                <a:latin typeface="隶书"/>
                <a:ea typeface="隶书"/>
              </a:rPr>
              <a:t> （情意真挚，互相和唱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268360" y="429264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汉鼎简隶变"/>
              </a:rPr>
              <a:t>君子、淑女和乐恭敬相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>
            <a:off x="4500720" y="177336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935800" y="2349360"/>
            <a:ext cx="11552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联  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4862880" y="2565360"/>
            <a:ext cx="850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  <a:ea typeface="隶书"/>
              </a:rPr>
              <a:t>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381636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参 差 荇 菜 ，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左 右 流 之 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窈 窕 淑 女 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寤 寐 求 之 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求 之 不 得 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寤寐 思 服 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悠 哉 悠 哉 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辗 转 反 侧 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1332000" y="476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：参差荇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5"/>
          <p:cNvSpPr/>
          <p:nvPr/>
        </p:nvSpPr>
        <p:spPr>
          <a:xfrm>
            <a:off x="3564000" y="1341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2987640" y="227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难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627280" y="4581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窈窕淑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3635280" y="31417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2"/>
          <p:cNvSpPr/>
          <p:nvPr/>
        </p:nvSpPr>
        <p:spPr>
          <a:xfrm flipH="1">
            <a:off x="3924360" y="2637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5867280" y="242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君子思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2843280" y="134136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1692360" y="227664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Arial"/>
              </a:rPr>
              <a:t>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6"/>
          <p:cNvSpPr/>
          <p:nvPr/>
        </p:nvSpPr>
        <p:spPr>
          <a:xfrm>
            <a:off x="4572000" y="620640"/>
            <a:ext cx="396072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参 差 荇 菜 ，</a:t>
            </a:r>
            <a:br>
              <a:rPr sz="4000"/>
            </a:b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左 右 采 之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.</a:t>
            </a:r>
            <a:br>
              <a:rPr sz="4000"/>
            </a:b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窈 窕 淑 女 ， </a:t>
            </a:r>
            <a:br>
              <a:rPr sz="4000"/>
            </a:b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琴 瑟 友 之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参 差 荇 菜 ， </a:t>
            </a:r>
            <a:br>
              <a:rPr sz="4000"/>
            </a:b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左 右 芼 之 。 </a:t>
            </a:r>
            <a:br>
              <a:rPr sz="4000"/>
            </a:b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窈 窕 淑 女 ，</a:t>
            </a:r>
            <a:br>
              <a:rPr sz="4000"/>
            </a:b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钟 鼓 乐 之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0" descr="图片16"/>
          <p:cNvPicPr/>
          <p:nvPr/>
        </p:nvPicPr>
        <p:blipFill>
          <a:blip r:embed="rId1"/>
          <a:stretch/>
        </p:blipFill>
        <p:spPr>
          <a:xfrm>
            <a:off x="108000" y="549360"/>
            <a:ext cx="4341600" cy="547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028"/>
          <p:cNvSpPr/>
          <p:nvPr/>
        </p:nvSpPr>
        <p:spPr>
          <a:xfrm>
            <a:off x="1187280" y="836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：君子因思成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29"/>
          <p:cNvSpPr/>
          <p:nvPr/>
        </p:nvSpPr>
        <p:spPr>
          <a:xfrm>
            <a:off x="4356000" y="1773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1619280" y="414972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3419640" y="3716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友、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"/>
          <p:cNvSpPr/>
          <p:nvPr/>
        </p:nvSpPr>
        <p:spPr>
          <a:xfrm>
            <a:off x="527040" y="6486480"/>
            <a:ext cx="56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7"/>
          <p:cNvSpPr/>
          <p:nvPr/>
        </p:nvSpPr>
        <p:spPr>
          <a:xfrm>
            <a:off x="324000" y="0"/>
            <a:ext cx="50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雎鸠的阵阵鸣叫诱动了小伙子的痴情，使他独自陶醉在对姑娘 的一往深情之中。种种复杂的情感油仍而生。一位纯情少年热恋中的心态在这里表露得淋漓尽致。 成双成对的雎鸠就象恩爱的情侣，看者它们河中小岛上相依相和的 融融之景，小伙子的眼光被采荇女吸引。诗人在这里采用了“流”、 “采”等词描述小伙子的心里变化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2004459532440740"/>
          <p:cNvPicPr/>
          <p:nvPr/>
        </p:nvPicPr>
        <p:blipFill>
          <a:blip r:embed="rId2"/>
          <a:stretch/>
        </p:blipFill>
        <p:spPr>
          <a:xfrm>
            <a:off x="6804000" y="189000"/>
            <a:ext cx="2152800" cy="6094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0" y="1196640"/>
            <a:ext cx="8567640" cy="43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唐代大诗人白居易这样论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隶书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诗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　　绮美，瑰奇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　　明月夜，落花时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　　能助欢笑，亦伤别离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　　调清金石怨，吟苦鬼神悲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　　天下只应我爱，世间唯有君知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隶书"/>
              </a:rPr>
              <a:t>……”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275240" y="1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诗人论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2131231"/>
          <p:cNvPicPr/>
          <p:nvPr/>
        </p:nvPicPr>
        <p:blipFill>
          <a:blip r:embed="rId1"/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43280" y="188640"/>
            <a:ext cx="4392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切景语皆情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427640" y="2921400"/>
            <a:ext cx="4356000" cy="22885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从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关 雎、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参差荇菜这些州上之物即景生情，从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ffcc00"/>
                </a:solidFill>
                <a:latin typeface="隶书"/>
                <a:ea typeface="隶书"/>
              </a:rPr>
              <a:t>求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ffcc00"/>
                </a:solidFill>
                <a:latin typeface="隶书"/>
                <a:ea typeface="隶书"/>
              </a:rPr>
              <a:t>这个全篇的中心到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ffcc00"/>
                </a:solidFill>
                <a:latin typeface="隶书"/>
                <a:ea typeface="隶书"/>
              </a:rPr>
              <a:t>友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隶书"/>
              </a:rPr>
              <a:t>““</a:t>
            </a:r>
            <a:r>
              <a:rPr b="0" lang="zh-CN" sz="3600" spc="-1" strike="noStrike">
                <a:solidFill>
                  <a:srgbClr val="ffcc00"/>
                </a:solidFill>
                <a:latin typeface="隶书"/>
                <a:ea typeface="隶书"/>
              </a:rPr>
              <a:t>乐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ffcc00"/>
                </a:solidFill>
                <a:latin typeface="隶书"/>
                <a:ea typeface="隶书"/>
              </a:rPr>
              <a:t>二字的逐渐加深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，表现了一个男子对女子的思念爱慕之情，写求之不得的焦虑和梦中求得的喜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" descr="m1860606"/>
          <p:cNvPicPr/>
          <p:nvPr/>
        </p:nvPicPr>
        <p:blipFill>
          <a:blip r:embed="rId2"/>
          <a:stretch/>
        </p:blipFill>
        <p:spPr>
          <a:xfrm>
            <a:off x="539640" y="476280"/>
            <a:ext cx="3672000" cy="5329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395280" y="54936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中许多句子都蕴含着很深很美的含意，千古传颂的佳句有 “窈窕淑女”，既赞扬她的“美状”，又赞扬她的“美心”，可 说是前后呼应，相辅相成。又如“辗转反侧”句，极为传神地表达 了恋人的相思苦，后来白居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恨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孤灯极尽难成眠”，乔 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蟾宫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寄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饭不沾匙，睡如翻饼”，都是从这里化出的 名句。而最后一句“钟鼓乐之”，又更是“千金难买美人笑”之类 的故事的原本。通过这不知名的作者的笔，我们完全被这朴实恋情 和美丽如画的场景感动了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3"/>
          <p:cNvSpPr/>
          <p:nvPr/>
        </p:nvSpPr>
        <p:spPr>
          <a:xfrm>
            <a:off x="1763640" y="907920"/>
            <a:ext cx="556272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朝吟风雅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暮唱赋比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秋看鱼虫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春观草木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60A3-E1A6-4003-BBCA-B2575F7DA7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26" descr="2004459532440740"/>
          <p:cNvPicPr/>
          <p:nvPr/>
        </p:nvPicPr>
        <p:blipFill>
          <a:blip r:embed="rId2"/>
          <a:stretch/>
        </p:blipFill>
        <p:spPr>
          <a:xfrm>
            <a:off x="6732720" y="404640"/>
            <a:ext cx="2152440" cy="609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27"/>
          <p:cNvSpPr/>
          <p:nvPr/>
        </p:nvSpPr>
        <p:spPr>
          <a:xfrm>
            <a:off x="140328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28"/>
          <p:cNvSpPr/>
          <p:nvPr/>
        </p:nvSpPr>
        <p:spPr>
          <a:xfrm>
            <a:off x="0" y="2642040"/>
            <a:ext cx="9144000" cy="155628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华文楷体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ffffff"/>
                </a:solidFill>
                <a:latin typeface="华文楷体"/>
                <a:ea typeface="楷体_GB2312"/>
              </a:rPr>
              <a:t>根据同学们对于中国的古典诗歌了解，大家能说出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我国古典文学现实主义传统的源头</a:t>
            </a:r>
            <a:r>
              <a:rPr b="1" lang="zh-CN" sz="4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吗</a:t>
            </a: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29"/>
          <p:cNvSpPr/>
          <p:nvPr/>
        </p:nvSpPr>
        <p:spPr>
          <a:xfrm>
            <a:off x="7275240" y="352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想想说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604360" cy="46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诗经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是我国第一部诗歌总集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共收录自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西周初年至春秋中叶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大约五百年的诗歌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黑体"/>
              </a:rPr>
              <a:t>30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篇，又称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“诗三百”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后被</a:t>
            </a:r>
            <a:r>
              <a:rPr b="1" lang="zh-CN" sz="36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儒家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奉为经典，相传为孔子所编定，才称为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诗经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分为</a:t>
            </a:r>
            <a:r>
              <a:rPr b="1" lang="en-US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《</a:t>
            </a:r>
            <a:r>
              <a:rPr b="1" lang="zh-CN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风</a:t>
            </a:r>
            <a:r>
              <a:rPr b="1" lang="en-US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》 </a:t>
            </a:r>
            <a:r>
              <a:rPr b="1" lang="zh-CN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160</a:t>
            </a:r>
            <a:r>
              <a:rPr b="1" lang="zh-CN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篇） 、</a:t>
            </a:r>
            <a:r>
              <a:rPr b="1" lang="en-US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《</a:t>
            </a:r>
            <a:r>
              <a:rPr b="1" lang="zh-CN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雅</a:t>
            </a:r>
            <a:r>
              <a:rPr b="1" lang="en-US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》 </a:t>
            </a:r>
            <a:r>
              <a:rPr b="1" lang="zh-CN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105</a:t>
            </a:r>
            <a:r>
              <a:rPr b="1" lang="zh-CN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篇） 、</a:t>
            </a:r>
            <a:r>
              <a:rPr b="1" lang="en-US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《</a:t>
            </a:r>
            <a:r>
              <a:rPr b="1" lang="zh-CN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颂</a:t>
            </a:r>
            <a:r>
              <a:rPr b="1" lang="en-US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》 </a:t>
            </a:r>
            <a:r>
              <a:rPr b="1" lang="zh-CN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40</a:t>
            </a:r>
            <a:r>
              <a:rPr b="1" lang="zh-CN" sz="3600" spc="-1" strike="noStrike">
                <a:solidFill>
                  <a:srgbClr val="333399"/>
                </a:solidFill>
                <a:latin typeface="仿宋_GB2312"/>
                <a:ea typeface="仿宋_GB2312"/>
              </a:rPr>
              <a:t>篇）三大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中国古诗词欣赏"/>
          <p:cNvPicPr/>
          <p:nvPr/>
        </p:nvPicPr>
        <p:blipFill>
          <a:blip r:embed="rId1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中国古诗词欣赏"/>
          <p:cNvPicPr/>
          <p:nvPr/>
        </p:nvPicPr>
        <p:blipFill>
          <a:blip r:embed="rId2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0" y="380880"/>
            <a:ext cx="87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06200" y="260280"/>
            <a:ext cx="9037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   </a:t>
            </a:r>
            <a:r>
              <a:rPr b="1" lang="en-US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《</a:t>
            </a: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诗经</a:t>
            </a:r>
            <a:r>
              <a:rPr b="1" lang="en-US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》</a:t>
            </a: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共分</a:t>
            </a:r>
            <a:r>
              <a:rPr b="1" lang="zh-CN" sz="3600" spc="-1" strike="noStrike">
                <a:solidFill>
                  <a:srgbClr val="ff3300"/>
                </a:solidFill>
                <a:latin typeface="方正楷体简体"/>
                <a:ea typeface="方正楷体简体"/>
              </a:rPr>
              <a:t>风、雅、颂</a:t>
            </a: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三个部分。</a:t>
            </a:r>
            <a:r>
              <a:rPr b="1" lang="en-US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(</a:t>
            </a: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风又包括十五国风</a:t>
            </a:r>
            <a:r>
              <a:rPr b="1" lang="en-US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雅分为大雅、小雅</a:t>
            </a:r>
            <a:r>
              <a:rPr b="1" lang="en-US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颂分为周、鲁、商颂</a:t>
            </a:r>
            <a:r>
              <a:rPr b="1" lang="en-US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e1302"/>
                </a:solidFill>
                <a:latin typeface="方正楷体简体"/>
                <a:ea typeface="方正楷体简体"/>
              </a:rPr>
              <a:t>风</a:t>
            </a: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多是各地民歌</a:t>
            </a:r>
            <a:r>
              <a:rPr b="1" lang="en-US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e1302"/>
                </a:solidFill>
                <a:latin typeface="方正楷体简体"/>
                <a:ea typeface="方正楷体简体"/>
              </a:rPr>
              <a:t>雅</a:t>
            </a: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是西周王城区域朝会宴饮所用诗歌</a:t>
            </a:r>
            <a:r>
              <a:rPr b="1" lang="en-US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e1302"/>
                </a:solidFill>
                <a:latin typeface="方正楷体简体"/>
                <a:ea typeface="方正楷体简体"/>
              </a:rPr>
              <a:t>颂</a:t>
            </a: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多为宗庙祭祀的舞曲歌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诗经</a:t>
            </a:r>
            <a:r>
              <a:rPr b="1" lang="zh-CN" sz="3600" spc="-1" strike="noStrike">
                <a:solidFill>
                  <a:srgbClr val="ee1302"/>
                </a:solidFill>
                <a:latin typeface="Times New Roman"/>
                <a:ea typeface="方正楷体简体"/>
              </a:rPr>
              <a:t>“</a:t>
            </a:r>
            <a:r>
              <a:rPr b="1" lang="zh-CN" sz="3600" spc="-1" strike="noStrike">
                <a:solidFill>
                  <a:srgbClr val="ee1302"/>
                </a:solidFill>
                <a:latin typeface="方正楷体简体"/>
                <a:ea typeface="方正楷体简体"/>
              </a:rPr>
              <a:t>六义</a:t>
            </a:r>
            <a:r>
              <a:rPr b="1" lang="zh-CN" sz="3600" spc="-1" strike="noStrike">
                <a:solidFill>
                  <a:srgbClr val="ee1302"/>
                </a:solidFill>
                <a:latin typeface="Times New Roman"/>
                <a:ea typeface="方正楷体简体"/>
              </a:rPr>
              <a:t>”</a:t>
            </a:r>
            <a:r>
              <a:rPr b="1" lang="en-US" sz="3600" spc="-1" strike="noStrike">
                <a:solidFill>
                  <a:srgbClr val="ee1302"/>
                </a:solidFill>
                <a:latin typeface="方正楷体简体"/>
                <a:ea typeface="方正楷体简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指</a:t>
            </a:r>
            <a:r>
              <a:rPr b="1" lang="zh-CN" sz="3600" spc="-1" strike="noStrike">
                <a:solidFill>
                  <a:srgbClr val="ff3300"/>
                </a:solidFill>
                <a:latin typeface="方正楷体简体"/>
                <a:ea typeface="方正楷体简体"/>
              </a:rPr>
              <a:t>风、雅、颂、赋、比、兴</a:t>
            </a:r>
            <a:r>
              <a:rPr b="1" lang="zh-CN" sz="3600" spc="-1" strike="noStrike">
                <a:solidFill>
                  <a:srgbClr val="333399"/>
                </a:solidFill>
                <a:latin typeface="方正楷体简体"/>
                <a:ea typeface="方正楷体简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-108000" y="3733920"/>
            <a:ext cx="793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cnimg_net_062"/>
          <p:cNvPicPr/>
          <p:nvPr/>
        </p:nvPicPr>
        <p:blipFill>
          <a:blip r:embed="rId2"/>
          <a:stretch/>
        </p:blipFill>
        <p:spPr>
          <a:xfrm>
            <a:off x="8159760" y="5715000"/>
            <a:ext cx="984240" cy="1143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9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2346480" y="420840"/>
            <a:ext cx="4511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14400" y="3808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《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诗经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》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三种表现手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219320" y="1828800"/>
            <a:ext cx="99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39480" y="1676520"/>
            <a:ext cx="103356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朱熹的解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209680" y="2895480"/>
            <a:ext cx="10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8"/>
          <p:cNvGrpSpPr/>
          <p:nvPr/>
        </p:nvGrpSpPr>
        <p:grpSpPr>
          <a:xfrm>
            <a:off x="1450800" y="1717560"/>
            <a:ext cx="7077240" cy="1881360"/>
            <a:chOff x="1450800" y="1717560"/>
            <a:chExt cx="7077240" cy="1881360"/>
          </a:xfrm>
        </p:grpSpPr>
        <p:sp>
          <p:nvSpPr>
            <p:cNvPr id="155" name="Text Box 9"/>
            <p:cNvSpPr/>
            <p:nvPr/>
          </p:nvSpPr>
          <p:spPr>
            <a:xfrm>
              <a:off x="1511280" y="1717560"/>
              <a:ext cx="6111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“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赋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者，敷陈其事而直言之也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"/>
            <p:cNvSpPr/>
            <p:nvPr/>
          </p:nvSpPr>
          <p:spPr>
            <a:xfrm>
              <a:off x="1527120" y="2363760"/>
              <a:ext cx="547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“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比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者，以彼物比此物也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1"/>
            <p:cNvSpPr/>
            <p:nvPr/>
          </p:nvSpPr>
          <p:spPr>
            <a:xfrm>
              <a:off x="1450800" y="3017520"/>
              <a:ext cx="707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“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兴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者，先言他物以引起所咏之物也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2"/>
          <p:cNvSpPr/>
          <p:nvPr/>
        </p:nvSpPr>
        <p:spPr>
          <a:xfrm>
            <a:off x="263520" y="4365720"/>
            <a:ext cx="10335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现在的解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2209680" y="4792680"/>
            <a:ext cx="1600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4098960" y="4764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5"/>
          <p:cNvGrpSpPr/>
          <p:nvPr/>
        </p:nvGrpSpPr>
        <p:grpSpPr>
          <a:xfrm>
            <a:off x="1598760" y="4292640"/>
            <a:ext cx="6324480" cy="1648080"/>
            <a:chOff x="1598760" y="4292640"/>
            <a:chExt cx="6324480" cy="1648080"/>
          </a:xfrm>
        </p:grpSpPr>
        <p:sp>
          <p:nvSpPr>
            <p:cNvPr id="162" name="Text Box 16"/>
            <p:cNvSpPr/>
            <p:nvPr/>
          </p:nvSpPr>
          <p:spPr>
            <a:xfrm>
              <a:off x="1598760" y="4292640"/>
              <a:ext cx="601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1302"/>
                  </a:solidFill>
                  <a:latin typeface="Times New Roman"/>
                  <a:ea typeface="宋体"/>
                </a:rPr>
                <a:t>赋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就是铺陈直叙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1598760" y="4826160"/>
              <a:ext cx="342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1302"/>
                  </a:solidFill>
                  <a:latin typeface="Times New Roman"/>
                  <a:ea typeface="宋体"/>
                </a:rPr>
                <a:t>比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就是比喻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1598760" y="5359320"/>
              <a:ext cx="632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1302"/>
                  </a:solidFill>
                  <a:latin typeface="Times New Roman"/>
                  <a:ea typeface="宋体"/>
                </a:rPr>
                <a:t>兴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就是借助其它事物为所咏之内容作铺垫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Bamb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457200" y="22860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ee1302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ee1302"/>
                </a:solidFill>
                <a:latin typeface="Times New Roman"/>
              </a:rPr>
              <a:t>诗经</a:t>
            </a:r>
            <a:r>
              <a:rPr b="1" lang="en-US" sz="3200" spc="-1" strike="noStrike">
                <a:solidFill>
                  <a:srgbClr val="ee1302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ee1302"/>
                </a:solidFill>
                <a:latin typeface="Times New Roman"/>
              </a:rPr>
              <a:t>四言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为主，兼有</a:t>
            </a:r>
            <a:r>
              <a:rPr b="1" lang="zh-CN" sz="3200" spc="-1" strike="noStrike">
                <a:solidFill>
                  <a:srgbClr val="ee1302"/>
                </a:solidFill>
                <a:latin typeface="Times New Roman"/>
              </a:rPr>
              <a:t>杂言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在结构上多采用</a:t>
            </a:r>
            <a:r>
              <a:rPr b="1" lang="zh-CN" sz="3200" spc="-1" strike="noStrike">
                <a:solidFill>
                  <a:srgbClr val="ee1302"/>
                </a:solidFill>
                <a:latin typeface="Times New Roman"/>
              </a:rPr>
              <a:t>重章叠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形式加强抒情效果。每一章只变换几个字，却能收到</a:t>
            </a:r>
            <a:r>
              <a:rPr b="1" lang="zh-CN" sz="3200" spc="-1" strike="noStrike">
                <a:solidFill>
                  <a:srgbClr val="ee1302"/>
                </a:solidFill>
                <a:latin typeface="Times New Roman"/>
              </a:rPr>
              <a:t>回旋跌宕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艺术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在语言上多采用</a:t>
            </a:r>
            <a:r>
              <a:rPr b="1" lang="zh-CN" sz="3200" spc="-1" strike="noStrike">
                <a:solidFill>
                  <a:srgbClr val="ee1302"/>
                </a:solidFill>
                <a:latin typeface="Times New Roman"/>
              </a:rPr>
              <a:t>双声叠韵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叠字连绵词来状物、拟声、穷貌。</a:t>
            </a:r>
            <a:r>
              <a:rPr b="1" lang="zh-CN" sz="3200" spc="-1" strike="noStrike">
                <a:solidFill>
                  <a:srgbClr val="0000ff"/>
                </a:solidFill>
                <a:latin typeface="Courier New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少总多，情貌无遗</a:t>
            </a:r>
            <a:r>
              <a:rPr b="1" lang="zh-CN" sz="3200" spc="-1" strike="noStrike">
                <a:solidFill>
                  <a:srgbClr val="0000ff"/>
                </a:solidFill>
                <a:latin typeface="Courier New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此外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诗经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在押韵上有的句句押韵，有的隔句押韵，有的一韵到底，有的中途转韵，现代诗歌的用韵规律在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诗经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几乎都已经具备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ird02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 flipV="1">
            <a:off x="1066680" y="45036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371600" y="12952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4762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84360" y="1628640"/>
            <a:ext cx="79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汉武帝时将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诗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》《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书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》《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礼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》《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易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》《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春秋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称为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五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风景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5640" y="1844640"/>
            <a:ext cx="280836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关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3508200" y="287280"/>
            <a:ext cx="5302440" cy="661068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关关睢鸠，在河之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窈窕淑女，君子好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参差荇菜，左右流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窈窕淑女，寤寐求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求之不得，寤寐思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悠哉悠哉，辗转反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参差荇菜，左右采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窈窕淑女，琴瑟友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参差荇菜，左右芼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窈窕淑女，钟鼓乐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788000" y="0"/>
            <a:ext cx="61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j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219640" y="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ji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1"/>
          <p:cNvGrpSpPr/>
          <p:nvPr/>
        </p:nvGrpSpPr>
        <p:grpSpPr>
          <a:xfrm>
            <a:off x="6659640" y="692280"/>
            <a:ext cx="974160" cy="520560"/>
            <a:chOff x="6659640" y="692280"/>
            <a:chExt cx="974160" cy="520560"/>
          </a:xfrm>
        </p:grpSpPr>
        <p:sp>
          <p:nvSpPr>
            <p:cNvPr id="178" name="Text Box 12"/>
            <p:cNvSpPr/>
            <p:nvPr/>
          </p:nvSpPr>
          <p:spPr>
            <a:xfrm>
              <a:off x="6659640" y="692280"/>
              <a:ext cx="97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Arial"/>
                  <a:ea typeface="隶书"/>
                </a:rPr>
                <a:t>ha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"/>
            <p:cNvGrpSpPr/>
            <p:nvPr/>
          </p:nvGrpSpPr>
          <p:grpSpPr>
            <a:xfrm>
              <a:off x="7013520" y="772560"/>
              <a:ext cx="176760" cy="97920"/>
              <a:chOff x="7013520" y="772560"/>
              <a:chExt cx="176760" cy="97920"/>
            </a:xfrm>
          </p:grpSpPr>
          <p:sp>
            <p:nvSpPr>
              <p:cNvPr id="180" name="Line 14"/>
              <p:cNvSpPr/>
              <p:nvPr/>
            </p:nvSpPr>
            <p:spPr>
              <a:xfrm>
                <a:off x="7013520" y="772560"/>
                <a:ext cx="88200" cy="97920"/>
              </a:xfrm>
              <a:prstGeom prst="line">
                <a:avLst/>
              </a:prstGeom>
              <a:ln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5"/>
              <p:cNvSpPr/>
              <p:nvPr/>
            </p:nvSpPr>
            <p:spPr>
              <a:xfrm flipH="1">
                <a:off x="7101720" y="772560"/>
                <a:ext cx="88560" cy="97920"/>
              </a:xfrm>
              <a:prstGeom prst="line">
                <a:avLst/>
              </a:prstGeom>
              <a:ln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Text Box 16"/>
          <p:cNvSpPr/>
          <p:nvPr/>
        </p:nvSpPr>
        <p:spPr>
          <a:xfrm>
            <a:off x="7451640" y="67788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ji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4427640" y="1413000"/>
            <a:ext cx="13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xì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5508720" y="2060640"/>
            <a:ext cx="22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wù mè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6443640" y="4653000"/>
            <a:ext cx="7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s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6588000" y="530064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mà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1"/>
          <p:cNvGrpSpPr/>
          <p:nvPr/>
        </p:nvGrpSpPr>
        <p:grpSpPr>
          <a:xfrm>
            <a:off x="3564000" y="692280"/>
            <a:ext cx="974160" cy="520560"/>
            <a:chOff x="3564000" y="692280"/>
            <a:chExt cx="974160" cy="520560"/>
          </a:xfrm>
        </p:grpSpPr>
        <p:sp>
          <p:nvSpPr>
            <p:cNvPr id="188" name="Text Box 22"/>
            <p:cNvSpPr/>
            <p:nvPr/>
          </p:nvSpPr>
          <p:spPr>
            <a:xfrm>
              <a:off x="3564000" y="692280"/>
              <a:ext cx="97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Arial"/>
                  <a:ea typeface="隶书"/>
                </a:rPr>
                <a:t>ya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23"/>
            <p:cNvGrpSpPr/>
            <p:nvPr/>
          </p:nvGrpSpPr>
          <p:grpSpPr>
            <a:xfrm>
              <a:off x="3917880" y="772200"/>
              <a:ext cx="176760" cy="97560"/>
              <a:chOff x="3917880" y="772200"/>
              <a:chExt cx="176760" cy="97560"/>
            </a:xfrm>
          </p:grpSpPr>
          <p:sp>
            <p:nvSpPr>
              <p:cNvPr id="190" name="Line 24"/>
              <p:cNvSpPr/>
              <p:nvPr/>
            </p:nvSpPr>
            <p:spPr>
              <a:xfrm>
                <a:off x="3917880" y="772200"/>
                <a:ext cx="88200" cy="97560"/>
              </a:xfrm>
              <a:prstGeom prst="line">
                <a:avLst/>
              </a:prstGeom>
              <a:ln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 flipH="1">
                <a:off x="4006080" y="772200"/>
                <a:ext cx="88560" cy="97560"/>
              </a:xfrm>
              <a:prstGeom prst="line">
                <a:avLst/>
              </a:prstGeom>
              <a:ln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Group 26"/>
          <p:cNvGrpSpPr/>
          <p:nvPr/>
        </p:nvGrpSpPr>
        <p:grpSpPr>
          <a:xfrm>
            <a:off x="4284720" y="692280"/>
            <a:ext cx="972720" cy="520560"/>
            <a:chOff x="4284720" y="692280"/>
            <a:chExt cx="972720" cy="520560"/>
          </a:xfrm>
        </p:grpSpPr>
        <p:sp>
          <p:nvSpPr>
            <p:cNvPr id="193" name="Text Box 27"/>
            <p:cNvSpPr/>
            <p:nvPr/>
          </p:nvSpPr>
          <p:spPr>
            <a:xfrm>
              <a:off x="4284720" y="692280"/>
              <a:ext cx="97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Arial"/>
                  <a:ea typeface="隶书"/>
                </a:rPr>
                <a:t>tia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28"/>
            <p:cNvGrpSpPr/>
            <p:nvPr/>
          </p:nvGrpSpPr>
          <p:grpSpPr>
            <a:xfrm>
              <a:off x="4638240" y="772200"/>
              <a:ext cx="176760" cy="97560"/>
              <a:chOff x="4638240" y="772200"/>
              <a:chExt cx="176760" cy="97560"/>
            </a:xfrm>
          </p:grpSpPr>
          <p:sp>
            <p:nvSpPr>
              <p:cNvPr id="195" name="Line 29"/>
              <p:cNvSpPr/>
              <p:nvPr/>
            </p:nvSpPr>
            <p:spPr>
              <a:xfrm>
                <a:off x="4638240" y="772200"/>
                <a:ext cx="88200" cy="97560"/>
              </a:xfrm>
              <a:prstGeom prst="line">
                <a:avLst/>
              </a:prstGeom>
              <a:ln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30"/>
              <p:cNvSpPr/>
              <p:nvPr/>
            </p:nvSpPr>
            <p:spPr>
              <a:xfrm flipH="1">
                <a:off x="4726440" y="772200"/>
                <a:ext cx="88560" cy="97560"/>
              </a:xfrm>
              <a:prstGeom prst="line">
                <a:avLst/>
              </a:prstGeom>
              <a:ln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Text Box 31"/>
          <p:cNvSpPr/>
          <p:nvPr/>
        </p:nvSpPr>
        <p:spPr>
          <a:xfrm>
            <a:off x="324000" y="50796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读，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2:38:5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6:30Z</dcterms:modified>
  <cp:revision>3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