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drumroll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95092-2D70-4597-A66A-2FFB8A0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9C0CE-9854-482A-867C-D36A3B3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3356D0-AAA7-4D6B-A69C-BC7F017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49568-890F-43F5-B928-B0C3B3D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25473-644E-4B84-B77C-F5D3342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9809E-7E8C-495D-8D4D-DA98CB4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D5FC5-1B78-4AF7-8B6F-5A81838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59229-B17B-474F-88D1-81854916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1112B-3941-4739-A96F-BFC0D37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E6922-957A-49D6-ADCB-E7B0CF08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E806C-28DC-419A-BBED-4A877A5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92BF79-B245-4E62-B8A4-B069E7D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694B9D-64A6-4219-9F6C-F82266C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F6846-73F0-4787-A3C4-2372B3C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17544C-BE40-4CFE-998E-5C5BBB9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057F6B-7F76-42F3-87D9-894281F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A850D-7BB3-4E47-B834-9ECE386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438D40-7CE8-49C9-B447-85F977A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557C9-C10A-4B38-B5D2-9C37C42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61920-7EA6-4AFE-AB0D-40AC8D4D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966E04-B966-40CB-881A-B2E77DB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D6F62B-96DE-4DE0-9679-2015DC06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104DEA-F226-4E7F-8F06-062BD5A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1143B0-FD0E-457C-AEE8-2269DC3E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46F5BC-9057-4311-970B-9532F89A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FE7286-7D50-480F-9D6C-A9853C5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7FABF4-190E-4A83-8AE7-C9ACEB05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061BCB-C7B1-4D9E-BD80-14DDE8F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7A9AD1-801A-41FD-B0BA-EEDC238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A4F1F-A517-4B08-8575-1ED7347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B01CF-2E5A-41D6-994F-7F5809A7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E2C14-BE7F-4F91-BB30-F72627C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EB6DB6-E534-4DC0-9245-0BE86BA0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BA58F-E4B0-4DA9-82FF-7781E99F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5B408C-BF73-4A9A-BB7B-404C0D5A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2CDF0E-D91B-40A9-B3CA-47A1BE8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A04167-918A-44FC-B232-F746DED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A87155-3734-4AC7-AD39-0185070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2E2126-F178-40A4-BF1F-4DEE3C4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224D9E-28C1-4155-B8B1-90E2161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4C2CDC-B42A-4E12-9AA6-374FD83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8D665-D603-4AA7-AAAC-AE4A001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A70460-964D-4196-99E3-1ABA9C6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240926-B137-402F-B952-545F4C9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FC83B4-84D4-4D71-A93F-C8096EE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810EB7-0641-4390-83ED-760B8FB8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E7834C-A563-44C4-92CF-51BFC93A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8ED4E-EF0E-4CB6-BC06-153EBBF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9CF31-CEA8-4888-95C2-C2A44044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DD897-3066-4A26-884C-0F7D73B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CFD8-1C82-4785-85BF-137576F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D7450-F596-4317-BE01-1741A08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3486D-428F-4197-9C1F-21C6811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EE288-5BA2-473E-8A2E-71758A9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C4FAA-2969-48A7-8AB1-EC7F593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E91A-F6BE-4B43-8DA3-8EA2DA4C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E78BB-58AA-4C96-9F0B-53C377C2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F8AAD-2E04-4787-87DE-A4C4C2DC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B7C50-B349-470B-B87C-57FC44A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E74B0-CDB0-4D9B-A696-0109FAE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46BFA-D100-4A71-9FED-1B8B3AD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D6549-1501-4BB7-A002-A80E49F2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8EA39-307D-4182-90E5-E224B5E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878D4-1FFB-4DE4-B802-857D39F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56AEF-0D95-4357-8477-6B7F7A70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E5790-54BD-4FE3-AEBF-9EF420D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D57B-1657-4CA9-AE15-CC8AC488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14962-D034-472D-8A19-84283BA3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B1BDB-047C-4234-AA1F-8C2F8BDF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D141D-4B83-4699-B747-24C861ED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55CF3-F74B-4C45-AE69-6C8103BD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4FBF6-A218-4A56-97B7-849B76F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F789F-26E9-4502-B8D3-C229DFB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7FD7C-0940-4675-AC0D-3E2F4D9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73929-52A8-4909-9825-0AC49A4D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6BC4C-EB1C-488B-8F49-2C96680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7B5DE-DDC3-4060-BDFF-628F1B9F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4B456-254B-4145-990F-7CFB4F6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C0C24-0899-409E-9B80-FE811C5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E81F8-242C-4228-9EE2-CE061B5A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BCE43-41B5-458E-AC35-8489ED9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9999D-7ADD-44BB-8AF0-AE88452A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3F1CA-9B08-496B-AC36-7F32863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C5A19-9091-4604-AB8C-302499C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6D0B8-02BB-4E65-8B27-7F683A42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CF4ED-D5EC-4102-99D5-216EFCE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0E41E-36A7-4313-B48D-BCA9086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5B5CF-CFF7-483E-9E0E-1852F054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EA6B0-EBA2-4BF9-ACD3-4B0283B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D9704-5421-4E72-9AAF-F0730E4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2FC91-4F41-43A7-A6C3-7369BD6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4B9A8-BB97-4C9E-9FA4-E6DEADE4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F529C-C858-42AD-A6F6-6F5DBC54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C4CF5-5EAC-4AC9-A365-3B73DC98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F5B9E-0B38-441B-831A-01AC342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9075F-665E-412F-9DD3-E522B2C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03772-D033-4FC1-8D68-CD08A36B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D3A70-3791-4F26-A244-9FB4659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F3559-E846-421C-9059-3FE38AC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19D6E-7640-4670-AB95-F29D257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1896D-EDB8-4AA2-8806-9A5475C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3467C-21DB-4E06-A8FE-7A6DB71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9A97C-55C2-41CC-ADA3-263E55D8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258E1-301B-4724-AD49-1663C57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B7EE9-26CD-4CDF-BAD0-024E5526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1BF20-47E5-4D3D-8ED8-36E1196F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A14DB-CAAB-4BCA-B2FF-7D0FA68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5CE20-C059-427E-B8C5-52E0CEE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A58D3-3F95-43F1-B5BB-2710316D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A2195-5C21-49F7-8EBC-351508A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47136-6AC8-4E96-9449-B1166C9E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2A086-026B-4BC1-8B50-B4B7790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DA05D-90F1-4FF4-9760-363F776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06F4B-7FEB-4C34-A77B-D5065404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E30D8-4BD7-4F67-A1A5-C6C6B48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EC1D8-50F2-4116-BB7A-2FCA9354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92ABF-7018-49C2-809F-6BEAA84D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C5CD6-6E95-4EA5-85EF-9D83B8FA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87E5B-3C62-4481-924B-62BC7821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BA3242-9756-4639-8FBB-419109A7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CE010-A16C-4870-ADE1-F2CC79E1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1D0CD-0005-439B-9933-477281EF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EA8A1-9A9B-4B6D-B91C-8A5BFD6F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B0A3D-75FF-4FC8-9B49-B2C82FC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E9360-EBD5-4658-B86A-FFB961E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FF211-FFE9-4B91-9357-3311811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7996E-0EB0-4593-B19A-A47A81C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81992-CD16-4CA6-8C3F-5D1436F7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56844-A1FA-4F58-93B5-D9301D6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F8167-31B6-45A5-8B50-53E8CD7B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D90A6-E989-4D07-8BE6-8356697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9AB21A-AD2F-466C-AB2A-3695D43A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B00-0C9D-4A75-B684-169C5FE8C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22A-8AC6-4C03-8F07-C9A2B6BC1D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53A0-8BCD-416E-A752-CFF5F1601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3E3-E55B-4C69-82C4-AA6BAE361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E858-AEA2-4BB7-B299-926C13DDD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8B01-B291-4941-9209-EB04354F8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E07-EB2D-497D-BA83-8D1AEA4AB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F2A-0D23-418C-B39B-9C0DBF6D6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A51-B986-4477-B1F5-4732E89D0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F11-7D19-4CD0-90A9-287F0CDDD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0486-7731-46CA-B95B-B42F3FFF7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1422360" y="2592360"/>
            <a:ext cx="6789600" cy="37846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11"/>
          <p:cNvSpPr txBox="1"/>
          <p:nvPr/>
        </p:nvSpPr>
        <p:spPr>
          <a:xfrm rot="19492200">
            <a:off x="6732720" y="25992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4" name="WordArt 10"/>
          <p:cNvSpPr txBox="1"/>
          <p:nvPr/>
        </p:nvSpPr>
        <p:spPr>
          <a:xfrm rot="19492200">
            <a:off x="4500720" y="141264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5" name="WordArt 8"/>
          <p:cNvSpPr txBox="1"/>
          <p:nvPr/>
        </p:nvSpPr>
        <p:spPr>
          <a:xfrm rot="19492200">
            <a:off x="1763640" y="54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pic>
        <p:nvPicPr>
          <p:cNvPr id="496" name="矩形 1" descr=""/>
          <p:cNvPicPr/>
          <p:nvPr/>
        </p:nvPicPr>
        <p:blipFill>
          <a:blip r:embed="rId2"/>
          <a:stretch/>
        </p:blipFill>
        <p:spPr>
          <a:xfrm>
            <a:off x="2489040" y="692280"/>
            <a:ext cx="4561200" cy="2216160"/>
          </a:xfrm>
          <a:prstGeom prst="rect">
            <a:avLst/>
          </a:prstGeom>
          <a:ln w="0">
            <a:noFill/>
          </a:ln>
        </p:spPr>
      </p:pic>
      <p:sp>
        <p:nvSpPr>
          <p:cNvPr id="497" name="矩形 21"/>
          <p:cNvSpPr/>
          <p:nvPr/>
        </p:nvSpPr>
        <p:spPr>
          <a:xfrm>
            <a:off x="2454480" y="6377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228600" y="205596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关关雎鸠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求之不得，                    悠哉悠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1942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0948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20868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709488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194280" y="345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7094880" y="350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1942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70948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319428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709488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380880" y="914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宋体"/>
              </a:rPr>
              <a:t>课文内容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84360" y="1341000"/>
            <a:ext cx="702144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、托物起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对于诗歌中渲染气氛、创造意境起着极大的作用。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开头以雎鸠和鸣的情景起兴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是为了渲染一种情意绵绵、痴心相恋的情调。鸟儿的呼唤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关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从听觉上触动了诗人的情怀；随声望去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在河之洲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又从视觉上引起诗人的遐思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那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窈窕淑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真是自己理想的伴侣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258560" y="4292640"/>
            <a:ext cx="44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二、韵律和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音（关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双声（参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韵（窈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一唱三叹的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4"/>
          <p:cNvSpPr txBox="1"/>
          <p:nvPr/>
        </p:nvSpPr>
        <p:spPr>
          <a:xfrm>
            <a:off x="971640" y="476280"/>
            <a:ext cx="3600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写作特色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4"/>
          <p:cNvSpPr/>
          <p:nvPr/>
        </p:nvSpPr>
        <p:spPr>
          <a:xfrm>
            <a:off x="809640" y="2558520"/>
            <a:ext cx="70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雎鸠关关在歌唱，在那河中小岛上。善良美丽的姑娘，小伙理想的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顺流两边去采收。善良美丽的姑娘，朝朝暮暮想追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追求没能如心愿，日夜心头在挂牵。长夜漫漫不到头，翻来复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手左右去采摘。善良美丽的姑娘，弹琴鼓瑟表爱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边仔细来挑选。善良美丽的姑娘，钟声换来她笑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1042920" y="2558520"/>
            <a:ext cx="64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鱼鹰儿关关和唱，在河心小小洲上。好姑娘苗苗条条，哥儿想和她成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短不齐，采荇菜左右东西。好姑娘苗苗条条，追求她直到梦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追求她成了空想，睁眼想闭眼也想。夜长长相思不断，尽翻身直到天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长和短水边荇菜，采荇人左采右采。好姑娘苗苗条条，弹琴瑟迎她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长短短，采荇人左拣右拣。好姑娘苗苗条条，娶她来钟鼓喧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070520" y="1340280"/>
            <a:ext cx="483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雎鸠关关相对唱，双栖黄河小岛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真是我的好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鲜荇菜，顺着水流左右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白天想她梦里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追求姑娘未如愿，醒来梦里意常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相思悠悠情无限，翻来覆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采了左边采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弹琴奏瑟亲无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拣了左边拣右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敲钟打鼓使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4"/>
          <p:cNvSpPr/>
          <p:nvPr/>
        </p:nvSpPr>
        <p:spPr>
          <a:xfrm>
            <a:off x="971640" y="2549520"/>
            <a:ext cx="59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雎鸠关关叫得欢，成双成对在河滩。美丽贤良的女子，正是我的好伴侣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右采摘忙不停。美丽贤良的女子，做梦也在把她念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追求她却不可得，日夜思念在心间。想啊想啊心忧伤，翻来覆去欲断肠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弹琴鼓瑟永相爱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鸣钟击鼓乐她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" descr=""/>
          <p:cNvPicPr/>
          <p:nvPr/>
        </p:nvPicPr>
        <p:blipFill>
          <a:blip r:embed="rId1"/>
          <a:stretch/>
        </p:blipFill>
        <p:spPr>
          <a:xfrm>
            <a:off x="789120" y="1195560"/>
            <a:ext cx="6486480" cy="5619600"/>
          </a:xfrm>
          <a:prstGeom prst="rect">
            <a:avLst/>
          </a:prstGeom>
          <a:ln w="0">
            <a:noFill/>
          </a:ln>
        </p:spPr>
      </p:pic>
      <p:sp>
        <p:nvSpPr>
          <p:cNvPr id="608" name="WordArt 5"/>
          <p:cNvSpPr txBox="1"/>
          <p:nvPr/>
        </p:nvSpPr>
        <p:spPr>
          <a:xfrm>
            <a:off x="2771640" y="2852640"/>
            <a:ext cx="25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再见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5ACB-E1AE-44CE-B5D1-9C8E7E9936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755640" y="1197000"/>
            <a:ext cx="70581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我国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一部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总集，它收集了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西周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春秋中期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约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间的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0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。在先秦古籍中，被称 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或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三百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相传孔子曾整理过这些诗并用来传授弟子，所以后来被尊为儒家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经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一，称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4479840" y="3048120"/>
            <a:ext cx="397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697120" y="6093000"/>
            <a:ext cx="523800" cy="322200"/>
          </a:xfrm>
          <a:custGeom>
            <a:avLst/>
            <a:gdLst/>
            <a:ahLst/>
            <a:rect l="l" t="t" r="r" b="b"/>
            <a:pathLst>
              <a:path w="330" h="277">
                <a:moveTo>
                  <a:pt x="171" y="0"/>
                </a:moveTo>
                <a:lnTo>
                  <a:pt x="139" y="2"/>
                </a:lnTo>
                <a:lnTo>
                  <a:pt x="107" y="8"/>
                </a:lnTo>
                <a:lnTo>
                  <a:pt x="78" y="19"/>
                </a:lnTo>
                <a:lnTo>
                  <a:pt x="52" y="37"/>
                </a:lnTo>
                <a:lnTo>
                  <a:pt x="32" y="57"/>
                </a:lnTo>
                <a:lnTo>
                  <a:pt x="15" y="82"/>
                </a:lnTo>
                <a:lnTo>
                  <a:pt x="6" y="109"/>
                </a:lnTo>
                <a:lnTo>
                  <a:pt x="0" y="139"/>
                </a:lnTo>
                <a:lnTo>
                  <a:pt x="0" y="169"/>
                </a:lnTo>
                <a:lnTo>
                  <a:pt x="9" y="197"/>
                </a:lnTo>
                <a:lnTo>
                  <a:pt x="24" y="221"/>
                </a:lnTo>
                <a:lnTo>
                  <a:pt x="44" y="242"/>
                </a:lnTo>
                <a:lnTo>
                  <a:pt x="67" y="259"/>
                </a:lnTo>
                <a:lnTo>
                  <a:pt x="96" y="270"/>
                </a:lnTo>
                <a:lnTo>
                  <a:pt x="125" y="276"/>
                </a:lnTo>
                <a:lnTo>
                  <a:pt x="159" y="277"/>
                </a:lnTo>
                <a:lnTo>
                  <a:pt x="194" y="274"/>
                </a:lnTo>
                <a:lnTo>
                  <a:pt x="226" y="264"/>
                </a:lnTo>
                <a:lnTo>
                  <a:pt x="255" y="251"/>
                </a:lnTo>
                <a:lnTo>
                  <a:pt x="281" y="233"/>
                </a:lnTo>
                <a:lnTo>
                  <a:pt x="301" y="213"/>
                </a:lnTo>
                <a:lnTo>
                  <a:pt x="315" y="192"/>
                </a:lnTo>
                <a:lnTo>
                  <a:pt x="327" y="167"/>
                </a:lnTo>
                <a:lnTo>
                  <a:pt x="330" y="140"/>
                </a:lnTo>
                <a:lnTo>
                  <a:pt x="327" y="114"/>
                </a:lnTo>
                <a:lnTo>
                  <a:pt x="318" y="89"/>
                </a:lnTo>
                <a:lnTo>
                  <a:pt x="304" y="66"/>
                </a:lnTo>
                <a:lnTo>
                  <a:pt x="287" y="46"/>
                </a:lnTo>
                <a:lnTo>
                  <a:pt x="263" y="28"/>
                </a:lnTo>
                <a:lnTo>
                  <a:pt x="234" y="14"/>
                </a:lnTo>
                <a:lnTo>
                  <a:pt x="206" y="5"/>
                </a:lnTo>
                <a:lnTo>
                  <a:pt x="171" y="0"/>
                </a:lnTo>
                <a:close/>
              </a:path>
            </a:pathLst>
          </a:custGeom>
          <a:solidFill>
            <a:srgbClr val="ff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2057400" y="6308640"/>
            <a:ext cx="463680" cy="18108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8" y="0"/>
                </a:moveTo>
                <a:lnTo>
                  <a:pt x="119" y="3"/>
                </a:lnTo>
                <a:lnTo>
                  <a:pt x="90" y="9"/>
                </a:lnTo>
                <a:lnTo>
                  <a:pt x="67" y="19"/>
                </a:lnTo>
                <a:lnTo>
                  <a:pt x="44" y="33"/>
                </a:lnTo>
                <a:lnTo>
                  <a:pt x="26" y="49"/>
                </a:lnTo>
                <a:lnTo>
                  <a:pt x="12" y="68"/>
                </a:lnTo>
                <a:lnTo>
                  <a:pt x="3" y="90"/>
                </a:lnTo>
                <a:lnTo>
                  <a:pt x="0" y="112"/>
                </a:lnTo>
                <a:lnTo>
                  <a:pt x="3" y="135"/>
                </a:lnTo>
                <a:lnTo>
                  <a:pt x="12" y="156"/>
                </a:lnTo>
                <a:lnTo>
                  <a:pt x="26" y="175"/>
                </a:lnTo>
                <a:lnTo>
                  <a:pt x="44" y="192"/>
                </a:lnTo>
                <a:lnTo>
                  <a:pt x="67" y="206"/>
                </a:lnTo>
                <a:lnTo>
                  <a:pt x="90" y="216"/>
                </a:lnTo>
                <a:lnTo>
                  <a:pt x="119" y="222"/>
                </a:lnTo>
                <a:lnTo>
                  <a:pt x="148" y="224"/>
                </a:lnTo>
                <a:lnTo>
                  <a:pt x="177" y="222"/>
                </a:lnTo>
                <a:lnTo>
                  <a:pt x="206" y="216"/>
                </a:lnTo>
                <a:lnTo>
                  <a:pt x="229" y="206"/>
                </a:lnTo>
                <a:lnTo>
                  <a:pt x="252" y="192"/>
                </a:lnTo>
                <a:lnTo>
                  <a:pt x="269" y="175"/>
                </a:lnTo>
                <a:lnTo>
                  <a:pt x="281" y="156"/>
                </a:lnTo>
                <a:lnTo>
                  <a:pt x="289" y="135"/>
                </a:lnTo>
                <a:lnTo>
                  <a:pt x="292" y="112"/>
                </a:lnTo>
                <a:lnTo>
                  <a:pt x="289" y="90"/>
                </a:lnTo>
                <a:lnTo>
                  <a:pt x="281" y="68"/>
                </a:lnTo>
                <a:lnTo>
                  <a:pt x="269" y="49"/>
                </a:lnTo>
                <a:lnTo>
                  <a:pt x="252" y="33"/>
                </a:lnTo>
                <a:lnTo>
                  <a:pt x="229" y="19"/>
                </a:lnTo>
                <a:lnTo>
                  <a:pt x="206" y="9"/>
                </a:lnTo>
                <a:lnTo>
                  <a:pt x="177" y="3"/>
                </a:lnTo>
                <a:lnTo>
                  <a:pt x="148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5181480" y="6021360"/>
            <a:ext cx="463680" cy="46836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7" y="0"/>
                </a:moveTo>
                <a:lnTo>
                  <a:pt x="176" y="2"/>
                </a:lnTo>
                <a:lnTo>
                  <a:pt x="205" y="8"/>
                </a:lnTo>
                <a:lnTo>
                  <a:pt x="228" y="19"/>
                </a:lnTo>
                <a:lnTo>
                  <a:pt x="251" y="32"/>
                </a:lnTo>
                <a:lnTo>
                  <a:pt x="269" y="49"/>
                </a:lnTo>
                <a:lnTo>
                  <a:pt x="280" y="68"/>
                </a:lnTo>
                <a:lnTo>
                  <a:pt x="289" y="89"/>
                </a:lnTo>
                <a:lnTo>
                  <a:pt x="292" y="112"/>
                </a:lnTo>
                <a:lnTo>
                  <a:pt x="289" y="134"/>
                </a:lnTo>
                <a:lnTo>
                  <a:pt x="280" y="156"/>
                </a:lnTo>
                <a:lnTo>
                  <a:pt x="269" y="175"/>
                </a:lnTo>
                <a:lnTo>
                  <a:pt x="251" y="191"/>
                </a:lnTo>
                <a:lnTo>
                  <a:pt x="228" y="205"/>
                </a:lnTo>
                <a:lnTo>
                  <a:pt x="205" y="215"/>
                </a:lnTo>
                <a:lnTo>
                  <a:pt x="176" y="221"/>
                </a:lnTo>
                <a:lnTo>
                  <a:pt x="147" y="224"/>
                </a:lnTo>
                <a:lnTo>
                  <a:pt x="118" y="221"/>
                </a:lnTo>
                <a:lnTo>
                  <a:pt x="89" y="215"/>
                </a:lnTo>
                <a:lnTo>
                  <a:pt x="66" y="205"/>
                </a:lnTo>
                <a:lnTo>
                  <a:pt x="43" y="191"/>
                </a:lnTo>
                <a:lnTo>
                  <a:pt x="26" y="175"/>
                </a:lnTo>
                <a:lnTo>
                  <a:pt x="11" y="156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1" y="68"/>
                </a:lnTo>
                <a:lnTo>
                  <a:pt x="26" y="49"/>
                </a:lnTo>
                <a:lnTo>
                  <a:pt x="43" y="32"/>
                </a:lnTo>
                <a:lnTo>
                  <a:pt x="66" y="19"/>
                </a:lnTo>
                <a:lnTo>
                  <a:pt x="89" y="8"/>
                </a:lnTo>
                <a:lnTo>
                  <a:pt x="118" y="2"/>
                </a:lnTo>
                <a:lnTo>
                  <a:pt x="147" y="0"/>
                </a:lnTo>
                <a:close/>
              </a:path>
            </a:pathLst>
          </a:custGeom>
          <a:solidFill>
            <a:srgbClr val="a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5867280" y="6553080"/>
            <a:ext cx="459000" cy="88920"/>
          </a:xfrm>
          <a:custGeom>
            <a:avLst/>
            <a:gdLst/>
            <a:ahLst/>
            <a:rect l="l" t="t" r="r" b="b"/>
            <a:pathLst>
              <a:path w="289" h="223">
                <a:moveTo>
                  <a:pt x="145" y="0"/>
                </a:moveTo>
                <a:lnTo>
                  <a:pt x="174" y="2"/>
                </a:lnTo>
                <a:lnTo>
                  <a:pt x="203" y="9"/>
                </a:lnTo>
                <a:lnTo>
                  <a:pt x="226" y="19"/>
                </a:lnTo>
                <a:lnTo>
                  <a:pt x="249" y="32"/>
                </a:lnTo>
                <a:lnTo>
                  <a:pt x="266" y="49"/>
                </a:lnTo>
                <a:lnTo>
                  <a:pt x="278" y="68"/>
                </a:lnTo>
                <a:lnTo>
                  <a:pt x="287" y="89"/>
                </a:lnTo>
                <a:lnTo>
                  <a:pt x="289" y="112"/>
                </a:lnTo>
                <a:lnTo>
                  <a:pt x="287" y="134"/>
                </a:lnTo>
                <a:lnTo>
                  <a:pt x="278" y="155"/>
                </a:lnTo>
                <a:lnTo>
                  <a:pt x="266" y="174"/>
                </a:lnTo>
                <a:lnTo>
                  <a:pt x="249" y="190"/>
                </a:lnTo>
                <a:lnTo>
                  <a:pt x="226" y="204"/>
                </a:lnTo>
                <a:lnTo>
                  <a:pt x="203" y="214"/>
                </a:lnTo>
                <a:lnTo>
                  <a:pt x="174" y="220"/>
                </a:lnTo>
                <a:lnTo>
                  <a:pt x="145" y="223"/>
                </a:lnTo>
                <a:lnTo>
                  <a:pt x="116" y="220"/>
                </a:lnTo>
                <a:lnTo>
                  <a:pt x="87" y="214"/>
                </a:lnTo>
                <a:lnTo>
                  <a:pt x="64" y="204"/>
                </a:lnTo>
                <a:lnTo>
                  <a:pt x="44" y="190"/>
                </a:lnTo>
                <a:lnTo>
                  <a:pt x="24" y="174"/>
                </a:lnTo>
                <a:lnTo>
                  <a:pt x="12" y="155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2" y="68"/>
                </a:lnTo>
                <a:lnTo>
                  <a:pt x="24" y="49"/>
                </a:lnTo>
                <a:lnTo>
                  <a:pt x="44" y="32"/>
                </a:lnTo>
                <a:lnTo>
                  <a:pt x="64" y="19"/>
                </a:lnTo>
                <a:lnTo>
                  <a:pt x="87" y="9"/>
                </a:lnTo>
                <a:lnTo>
                  <a:pt x="116" y="2"/>
                </a:lnTo>
                <a:lnTo>
                  <a:pt x="145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3325680" y="6181560"/>
            <a:ext cx="615960" cy="4320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4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4" y="46"/>
                </a:lnTo>
                <a:lnTo>
                  <a:pt x="298" y="101"/>
                </a:lnTo>
                <a:lnTo>
                  <a:pt x="211" y="38"/>
                </a:lnTo>
                <a:lnTo>
                  <a:pt x="203" y="85"/>
                </a:lnTo>
                <a:lnTo>
                  <a:pt x="142" y="34"/>
                </a:lnTo>
                <a:lnTo>
                  <a:pt x="119" y="79"/>
                </a:lnTo>
                <a:lnTo>
                  <a:pt x="73" y="38"/>
                </a:lnTo>
                <a:lnTo>
                  <a:pt x="55" y="73"/>
                </a:lnTo>
                <a:lnTo>
                  <a:pt x="52" y="68"/>
                </a:lnTo>
                <a:lnTo>
                  <a:pt x="44" y="55"/>
                </a:lnTo>
                <a:lnTo>
                  <a:pt x="32" y="40"/>
                </a:lnTo>
                <a:lnTo>
                  <a:pt x="21" y="28"/>
                </a:lnTo>
                <a:lnTo>
                  <a:pt x="12" y="17"/>
                </a:lnTo>
                <a:lnTo>
                  <a:pt x="6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3216240" y="6315120"/>
            <a:ext cx="692280" cy="52200"/>
          </a:xfrm>
          <a:custGeom>
            <a:avLst/>
            <a:gdLst/>
            <a:ahLst/>
            <a:rect l="l" t="t" r="r" b="b"/>
            <a:pathLst>
              <a:path w="436" h="128">
                <a:moveTo>
                  <a:pt x="0" y="0"/>
                </a:moveTo>
                <a:lnTo>
                  <a:pt x="321" y="39"/>
                </a:lnTo>
                <a:lnTo>
                  <a:pt x="324" y="40"/>
                </a:lnTo>
                <a:lnTo>
                  <a:pt x="329" y="42"/>
                </a:lnTo>
                <a:lnTo>
                  <a:pt x="341" y="46"/>
                </a:lnTo>
                <a:lnTo>
                  <a:pt x="353" y="51"/>
                </a:lnTo>
                <a:lnTo>
                  <a:pt x="367" y="58"/>
                </a:lnTo>
                <a:lnTo>
                  <a:pt x="384" y="66"/>
                </a:lnTo>
                <a:lnTo>
                  <a:pt x="399" y="75"/>
                </a:lnTo>
                <a:lnTo>
                  <a:pt x="413" y="85"/>
                </a:lnTo>
                <a:lnTo>
                  <a:pt x="431" y="104"/>
                </a:lnTo>
                <a:lnTo>
                  <a:pt x="436" y="118"/>
                </a:lnTo>
                <a:lnTo>
                  <a:pt x="433" y="126"/>
                </a:lnTo>
                <a:lnTo>
                  <a:pt x="431" y="128"/>
                </a:lnTo>
                <a:lnTo>
                  <a:pt x="318" y="65"/>
                </a:lnTo>
                <a:lnTo>
                  <a:pt x="335" y="118"/>
                </a:lnTo>
                <a:lnTo>
                  <a:pt x="237" y="54"/>
                </a:lnTo>
                <a:lnTo>
                  <a:pt x="223" y="102"/>
                </a:lnTo>
                <a:lnTo>
                  <a:pt x="159" y="46"/>
                </a:lnTo>
                <a:lnTo>
                  <a:pt x="130" y="94"/>
                </a:lnTo>
                <a:lnTo>
                  <a:pt x="81" y="47"/>
                </a:lnTo>
                <a:lnTo>
                  <a:pt x="58" y="85"/>
                </a:lnTo>
                <a:lnTo>
                  <a:pt x="55" y="79"/>
                </a:lnTo>
                <a:lnTo>
                  <a:pt x="46" y="65"/>
                </a:lnTo>
                <a:lnTo>
                  <a:pt x="35" y="47"/>
                </a:lnTo>
                <a:lnTo>
                  <a:pt x="20" y="34"/>
                </a:lnTo>
                <a:lnTo>
                  <a:pt x="9" y="21"/>
                </a:lnTo>
                <a:lnTo>
                  <a:pt x="3" y="1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3413160" y="6446880"/>
            <a:ext cx="615960" cy="4428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3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3" y="46"/>
                </a:lnTo>
                <a:lnTo>
                  <a:pt x="298" y="101"/>
                </a:lnTo>
                <a:lnTo>
                  <a:pt x="211" y="38"/>
                </a:lnTo>
                <a:lnTo>
                  <a:pt x="200" y="85"/>
                </a:lnTo>
                <a:lnTo>
                  <a:pt x="142" y="34"/>
                </a:lnTo>
                <a:lnTo>
                  <a:pt x="116" y="79"/>
                </a:lnTo>
                <a:lnTo>
                  <a:pt x="72" y="38"/>
                </a:lnTo>
                <a:lnTo>
                  <a:pt x="52" y="73"/>
                </a:lnTo>
                <a:lnTo>
                  <a:pt x="49" y="68"/>
                </a:lnTo>
                <a:lnTo>
                  <a:pt x="41" y="55"/>
                </a:lnTo>
                <a:lnTo>
                  <a:pt x="29" y="40"/>
                </a:lnTo>
                <a:lnTo>
                  <a:pt x="18" y="28"/>
                </a:lnTo>
                <a:lnTo>
                  <a:pt x="9" y="17"/>
                </a:lnTo>
                <a:lnTo>
                  <a:pt x="3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5105520" y="6248520"/>
            <a:ext cx="618840" cy="42840"/>
          </a:xfrm>
          <a:custGeom>
            <a:avLst/>
            <a:gdLst/>
            <a:ahLst/>
            <a:rect l="l" t="t" r="r" b="b"/>
            <a:pathLst>
              <a:path w="390" h="111">
                <a:moveTo>
                  <a:pt x="390" y="0"/>
                </a:moveTo>
                <a:lnTo>
                  <a:pt x="104" y="22"/>
                </a:lnTo>
                <a:lnTo>
                  <a:pt x="95" y="24"/>
                </a:lnTo>
                <a:lnTo>
                  <a:pt x="75" y="33"/>
                </a:lnTo>
                <a:lnTo>
                  <a:pt x="49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3" y="109"/>
                </a:lnTo>
                <a:lnTo>
                  <a:pt x="6" y="111"/>
                </a:lnTo>
                <a:lnTo>
                  <a:pt x="104" y="47"/>
                </a:lnTo>
                <a:lnTo>
                  <a:pt x="90" y="101"/>
                </a:lnTo>
                <a:lnTo>
                  <a:pt x="179" y="39"/>
                </a:lnTo>
                <a:lnTo>
                  <a:pt x="188" y="86"/>
                </a:lnTo>
                <a:lnTo>
                  <a:pt x="246" y="34"/>
                </a:lnTo>
                <a:lnTo>
                  <a:pt x="272" y="80"/>
                </a:lnTo>
                <a:lnTo>
                  <a:pt x="315" y="39"/>
                </a:lnTo>
                <a:lnTo>
                  <a:pt x="335" y="73"/>
                </a:lnTo>
                <a:lnTo>
                  <a:pt x="338" y="68"/>
                </a:lnTo>
                <a:lnTo>
                  <a:pt x="347" y="56"/>
                </a:lnTo>
                <a:lnTo>
                  <a:pt x="358" y="41"/>
                </a:lnTo>
                <a:lnTo>
                  <a:pt x="370" y="28"/>
                </a:lnTo>
                <a:lnTo>
                  <a:pt x="379" y="18"/>
                </a:lnTo>
                <a:lnTo>
                  <a:pt x="384" y="9"/>
                </a:lnTo>
                <a:lnTo>
                  <a:pt x="390" y="3"/>
                </a:lnTo>
                <a:lnTo>
                  <a:pt x="3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5129280" y="6335640"/>
            <a:ext cx="614160" cy="4464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1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5"/>
                </a:lnTo>
                <a:lnTo>
                  <a:pt x="3" y="86"/>
                </a:lnTo>
                <a:lnTo>
                  <a:pt x="0" y="99"/>
                </a:lnTo>
                <a:lnTo>
                  <a:pt x="0" y="108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8"/>
                </a:lnTo>
                <a:lnTo>
                  <a:pt x="185" y="86"/>
                </a:lnTo>
                <a:lnTo>
                  <a:pt x="246" y="34"/>
                </a:lnTo>
                <a:lnTo>
                  <a:pt x="269" y="79"/>
                </a:lnTo>
                <a:lnTo>
                  <a:pt x="312" y="38"/>
                </a:lnTo>
                <a:lnTo>
                  <a:pt x="333" y="73"/>
                </a:lnTo>
                <a:lnTo>
                  <a:pt x="335" y="68"/>
                </a:lnTo>
                <a:lnTo>
                  <a:pt x="344" y="55"/>
                </a:lnTo>
                <a:lnTo>
                  <a:pt x="356" y="40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5051520" y="6469200"/>
            <a:ext cx="614160" cy="4428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2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0" y="109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9"/>
                </a:lnTo>
                <a:lnTo>
                  <a:pt x="185" y="86"/>
                </a:lnTo>
                <a:lnTo>
                  <a:pt x="246" y="34"/>
                </a:lnTo>
                <a:lnTo>
                  <a:pt x="269" y="80"/>
                </a:lnTo>
                <a:lnTo>
                  <a:pt x="312" y="39"/>
                </a:lnTo>
                <a:lnTo>
                  <a:pt x="332" y="73"/>
                </a:lnTo>
                <a:lnTo>
                  <a:pt x="335" y="68"/>
                </a:lnTo>
                <a:lnTo>
                  <a:pt x="344" y="56"/>
                </a:lnTo>
                <a:lnTo>
                  <a:pt x="356" y="41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8"/>
          <p:cNvSpPr/>
          <p:nvPr/>
        </p:nvSpPr>
        <p:spPr>
          <a:xfrm>
            <a:off x="4767120" y="652608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2" y="0"/>
                </a:moveTo>
                <a:lnTo>
                  <a:pt x="32" y="1"/>
                </a:lnTo>
                <a:lnTo>
                  <a:pt x="17" y="6"/>
                </a:lnTo>
                <a:lnTo>
                  <a:pt x="6" y="13"/>
                </a:lnTo>
                <a:lnTo>
                  <a:pt x="0" y="23"/>
                </a:lnTo>
                <a:lnTo>
                  <a:pt x="3" y="34"/>
                </a:lnTo>
                <a:lnTo>
                  <a:pt x="14" y="41"/>
                </a:lnTo>
                <a:lnTo>
                  <a:pt x="29" y="46"/>
                </a:lnTo>
                <a:lnTo>
                  <a:pt x="49" y="49"/>
                </a:lnTo>
                <a:lnTo>
                  <a:pt x="72" y="47"/>
                </a:lnTo>
                <a:lnTo>
                  <a:pt x="89" y="42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"/>
          <p:cNvSpPr/>
          <p:nvPr/>
        </p:nvSpPr>
        <p:spPr>
          <a:xfrm>
            <a:off x="2286000" y="6477120"/>
            <a:ext cx="412920" cy="47520"/>
          </a:xfrm>
          <a:custGeom>
            <a:avLst/>
            <a:gdLst/>
            <a:ahLst/>
            <a:rect l="l" t="t" r="r" b="b"/>
            <a:pathLst>
              <a:path w="260" h="121">
                <a:moveTo>
                  <a:pt x="260" y="121"/>
                </a:moveTo>
                <a:lnTo>
                  <a:pt x="40" y="0"/>
                </a:lnTo>
                <a:lnTo>
                  <a:pt x="0" y="82"/>
                </a:lnTo>
                <a:lnTo>
                  <a:pt x="26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0"/>
          <p:cNvSpPr/>
          <p:nvPr/>
        </p:nvSpPr>
        <p:spPr>
          <a:xfrm>
            <a:off x="2362320" y="6553080"/>
            <a:ext cx="123840" cy="36720"/>
          </a:xfrm>
          <a:custGeom>
            <a:avLst/>
            <a:gdLst/>
            <a:ahLst/>
            <a:rect l="l" t="t" r="r" b="b"/>
            <a:pathLst>
              <a:path w="78" h="95">
                <a:moveTo>
                  <a:pt x="73" y="95"/>
                </a:moveTo>
                <a:lnTo>
                  <a:pt x="0" y="0"/>
                </a:lnTo>
                <a:lnTo>
                  <a:pt x="78" y="2"/>
                </a:lnTo>
                <a:lnTo>
                  <a:pt x="73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"/>
          <p:cNvSpPr/>
          <p:nvPr/>
        </p:nvSpPr>
        <p:spPr>
          <a:xfrm>
            <a:off x="1706400" y="6375240"/>
            <a:ext cx="490680" cy="25560"/>
          </a:xfrm>
          <a:custGeom>
            <a:avLst/>
            <a:gdLst/>
            <a:ahLst/>
            <a:rect l="l" t="t" r="r" b="b"/>
            <a:pathLst>
              <a:path w="309" h="64">
                <a:moveTo>
                  <a:pt x="309" y="0"/>
                </a:moveTo>
                <a:lnTo>
                  <a:pt x="0" y="24"/>
                </a:lnTo>
                <a:lnTo>
                  <a:pt x="52" y="64"/>
                </a:lnTo>
                <a:lnTo>
                  <a:pt x="3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>
            <a:off x="289548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1217880" y="1157400"/>
            <a:ext cx="236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作品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"/>
          <p:cNvSpPr/>
          <p:nvPr/>
        </p:nvSpPr>
        <p:spPr>
          <a:xfrm>
            <a:off x="954000" y="85680"/>
            <a:ext cx="66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457200" y="0"/>
            <a:ext cx="457200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基本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风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雅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颂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表现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赋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692360" y="1628640"/>
            <a:ext cx="691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指十五国风，是各地的民间歌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分大雅、小雅，大部分是贵族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宗庙祭祀用的乐歌及史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铺陈其事而直言之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以彼物比此物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先言他物以引起所咏之词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53964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61128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风景4"/>
          <p:cNvPicPr/>
          <p:nvPr/>
        </p:nvPicPr>
        <p:blipFill>
          <a:blip r:embed="rId1"/>
          <a:stretch/>
        </p:blipFill>
        <p:spPr>
          <a:xfrm>
            <a:off x="7093080" y="2421000"/>
            <a:ext cx="2050920" cy="39322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1728720" cy="28796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关睢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627280" y="692280"/>
            <a:ext cx="530244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关关睢鸠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求之不得，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4067280" y="26028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427640" y="26028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7"/>
          <p:cNvGrpSpPr/>
          <p:nvPr/>
        </p:nvGrpSpPr>
        <p:grpSpPr>
          <a:xfrm>
            <a:off x="5724360" y="1052640"/>
            <a:ext cx="974520" cy="459720"/>
            <a:chOff x="5724360" y="1052640"/>
            <a:chExt cx="974520" cy="459720"/>
          </a:xfrm>
        </p:grpSpPr>
        <p:sp>
          <p:nvSpPr>
            <p:cNvPr id="530" name="Text Box 8"/>
            <p:cNvSpPr/>
            <p:nvPr/>
          </p:nvSpPr>
          <p:spPr>
            <a:xfrm>
              <a:off x="5724360" y="105264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h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9"/>
            <p:cNvGrpSpPr/>
            <p:nvPr/>
          </p:nvGrpSpPr>
          <p:grpSpPr>
            <a:xfrm>
              <a:off x="6078600" y="1132920"/>
              <a:ext cx="176760" cy="97920"/>
              <a:chOff x="6078600" y="1132920"/>
              <a:chExt cx="176760" cy="97920"/>
            </a:xfrm>
          </p:grpSpPr>
          <p:sp>
            <p:nvSpPr>
              <p:cNvPr id="532" name="Line 10"/>
              <p:cNvSpPr/>
              <p:nvPr/>
            </p:nvSpPr>
            <p:spPr>
              <a:xfrm>
                <a:off x="6078600" y="1132920"/>
                <a:ext cx="8820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1"/>
              <p:cNvSpPr/>
              <p:nvPr/>
            </p:nvSpPr>
            <p:spPr>
              <a:xfrm flipH="1">
                <a:off x="6166800" y="1132920"/>
                <a:ext cx="8856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Text Box 12"/>
          <p:cNvSpPr/>
          <p:nvPr/>
        </p:nvSpPr>
        <p:spPr>
          <a:xfrm>
            <a:off x="6443640" y="1052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3780000" y="162864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x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4716360" y="227664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wù 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5580000" y="458136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s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5724360" y="5157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7"/>
          <p:cNvGrpSpPr/>
          <p:nvPr/>
        </p:nvGrpSpPr>
        <p:grpSpPr>
          <a:xfrm>
            <a:off x="2916360" y="1052640"/>
            <a:ext cx="974160" cy="459720"/>
            <a:chOff x="2916360" y="1052640"/>
            <a:chExt cx="974160" cy="459720"/>
          </a:xfrm>
        </p:grpSpPr>
        <p:sp>
          <p:nvSpPr>
            <p:cNvPr id="540" name="Text Box 18"/>
            <p:cNvSpPr/>
            <p:nvPr/>
          </p:nvSpPr>
          <p:spPr>
            <a:xfrm>
              <a:off x="2916360" y="105264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y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Group 19"/>
            <p:cNvGrpSpPr/>
            <p:nvPr/>
          </p:nvGrpSpPr>
          <p:grpSpPr>
            <a:xfrm>
              <a:off x="3270240" y="1132560"/>
              <a:ext cx="176760" cy="97560"/>
              <a:chOff x="3270240" y="1132560"/>
              <a:chExt cx="176760" cy="97560"/>
            </a:xfrm>
          </p:grpSpPr>
          <p:sp>
            <p:nvSpPr>
              <p:cNvPr id="542" name="Line 20"/>
              <p:cNvSpPr/>
              <p:nvPr/>
            </p:nvSpPr>
            <p:spPr>
              <a:xfrm>
                <a:off x="327024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1"/>
              <p:cNvSpPr/>
              <p:nvPr/>
            </p:nvSpPr>
            <p:spPr>
              <a:xfrm flipH="1">
                <a:off x="335844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22"/>
          <p:cNvGrpSpPr/>
          <p:nvPr/>
        </p:nvGrpSpPr>
        <p:grpSpPr>
          <a:xfrm>
            <a:off x="3492360" y="1052640"/>
            <a:ext cx="973080" cy="459720"/>
            <a:chOff x="3492360" y="1052640"/>
            <a:chExt cx="973080" cy="459720"/>
          </a:xfrm>
        </p:grpSpPr>
        <p:sp>
          <p:nvSpPr>
            <p:cNvPr id="545" name="Text Box 23"/>
            <p:cNvSpPr/>
            <p:nvPr/>
          </p:nvSpPr>
          <p:spPr>
            <a:xfrm>
              <a:off x="3492360" y="10526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ti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24"/>
            <p:cNvGrpSpPr/>
            <p:nvPr/>
          </p:nvGrpSpPr>
          <p:grpSpPr>
            <a:xfrm>
              <a:off x="3845880" y="1132560"/>
              <a:ext cx="176760" cy="97560"/>
              <a:chOff x="3845880" y="1132560"/>
              <a:chExt cx="176760" cy="97560"/>
            </a:xfrm>
          </p:grpSpPr>
          <p:sp>
            <p:nvSpPr>
              <p:cNvPr id="547" name="Line 25"/>
              <p:cNvSpPr/>
              <p:nvPr/>
            </p:nvSpPr>
            <p:spPr>
              <a:xfrm>
                <a:off x="384588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26"/>
              <p:cNvSpPr/>
              <p:nvPr/>
            </p:nvSpPr>
            <p:spPr>
              <a:xfrm flipH="1">
                <a:off x="393408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 Box 27"/>
          <p:cNvSpPr/>
          <p:nvPr/>
        </p:nvSpPr>
        <p:spPr>
          <a:xfrm>
            <a:off x="179280" y="189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读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179280" y="0"/>
            <a:ext cx="4953240" cy="68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突破字词难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注意下列句中不同颜色的词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好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寤寐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寤寐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琴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钟鼓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905120" y="1484280"/>
            <a:ext cx="72388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黄河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现指一般的河流，词义扩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配偶（与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逑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字面完全不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寻求择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时时刻刻都在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想（今指衣服或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弹琴鼓瑟，亲爱（名词作动词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敲钟击鼓，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快乐（使动用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1258920" y="155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关关睢鸠，在河之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君子好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16000" y="25639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关关”和鸣的雎鸠啊，双双栖息在水中的沙洲；美丽娴静的好姑娘啊，正是君子仰慕的佳偶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1332000" y="35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流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寤寐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1042920" y="48340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一的水荇菜啊，她在左右地寻找你；美丽娴静的好姑娘啊，我在日夜地追寻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971640" y="112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求之不得，寤寐思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悠哉悠哉，辗转反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900000" y="2241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日夜追寻而不得啊，让我思念而不竭；思念你啊思念你，翻来覆去睡不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042920" y="28526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琴瑟友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900000" y="3787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采摘你；美丽娴静的好姑娘啊，我要用悠悠琴瑟声来亲近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042920" y="4581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钟鼓乐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826920" y="5697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拔取你；美丽娴静的好姑娘啊，我要用欢快的钟鼓声快乐你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0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971640" y="1413000"/>
            <a:ext cx="55436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一节：用雎鸠鸟的叫声起兴写一个男子对心目中姑娘的向往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二节：用采摘荇菜起兴写对心中女子日日夜夜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三节：直接抒写男子对心中爱慕的姑娘追求不到的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四节：用采摘荇菜起兴，表达男子要用琴瑟亲近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五节：用采摘荇菜起兴，表达男子要用钟鼓取悦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19808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各节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风景4"/>
          <p:cNvPicPr/>
          <p:nvPr/>
        </p:nvPicPr>
        <p:blipFill>
          <a:blip r:embed="rId6"/>
          <a:stretch/>
        </p:blipFill>
        <p:spPr>
          <a:xfrm>
            <a:off x="826920" y="5734080"/>
            <a:ext cx="6409080" cy="112392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9"/>
          <p:cNvSpPr/>
          <p:nvPr/>
        </p:nvSpPr>
        <p:spPr>
          <a:xfrm>
            <a:off x="6588000" y="1341360"/>
            <a:ext cx="1727280" cy="863640"/>
          </a:xfrm>
          <a:prstGeom prst="wedgeRoundRectCallout">
            <a:avLst>
              <a:gd name="adj1" fmla="val -112685"/>
              <a:gd name="adj2" fmla="val 1378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河边邂逅一见倾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0"/>
          <p:cNvSpPr/>
          <p:nvPr/>
        </p:nvSpPr>
        <p:spPr>
          <a:xfrm>
            <a:off x="6659640" y="2349360"/>
            <a:ext cx="1584360" cy="865440"/>
          </a:xfrm>
          <a:prstGeom prst="wedgeRoundRectCallout">
            <a:avLst>
              <a:gd name="adj1" fmla="val -115027"/>
              <a:gd name="adj2" fmla="val 21925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朝思暮想辗转难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6588000" y="4149720"/>
            <a:ext cx="1584360" cy="863640"/>
          </a:xfrm>
          <a:prstGeom prst="wedgeRoundRectCallout">
            <a:avLst>
              <a:gd name="adj1" fmla="val -111222"/>
              <a:gd name="adj2" fmla="val 477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琴瑟钟鼓表达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WordArt 3"/>
          <p:cNvSpPr txBox="1"/>
          <p:nvPr/>
        </p:nvSpPr>
        <p:spPr>
          <a:xfrm>
            <a:off x="1143000" y="22860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900000" y="2205000"/>
            <a:ext cx="22860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3" name="WordArt 5"/>
          <p:cNvSpPr txBox="1"/>
          <p:nvPr/>
        </p:nvSpPr>
        <p:spPr>
          <a:xfrm>
            <a:off x="3132000" y="5084640"/>
            <a:ext cx="228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4" name="WordArt 6"/>
          <p:cNvSpPr txBox="1"/>
          <p:nvPr/>
        </p:nvSpPr>
        <p:spPr>
          <a:xfrm>
            <a:off x="5219640" y="2205000"/>
            <a:ext cx="23623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欢聚和成亲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600200" y="3886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1905120" y="3886200"/>
            <a:ext cx="121896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AutoShape 9"/>
          <p:cNvCxnSpPr/>
          <p:nvPr/>
        </p:nvCxnSpPr>
        <p:spPr>
          <a:xfrm>
            <a:off x="1905120" y="3886200"/>
            <a:ext cx="1219680" cy="1296000"/>
          </a:xfrm>
          <a:prstGeom prst="straightConnector1">
            <a:avLst/>
          </a:prstGeom>
          <a:ln w="0">
            <a:noFill/>
          </a:ln>
        </p:spPr>
      </p:cxnSp>
      <p:sp>
        <p:nvSpPr>
          <p:cNvPr id="578" name="Line 10"/>
          <p:cNvSpPr/>
          <p:nvPr/>
        </p:nvSpPr>
        <p:spPr>
          <a:xfrm flipH="1">
            <a:off x="2971440" y="533412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"/>
          <p:cNvSpPr/>
          <p:nvPr/>
        </p:nvSpPr>
        <p:spPr>
          <a:xfrm flipH="1">
            <a:off x="5334120" y="3352680"/>
            <a:ext cx="17524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2"/>
          <p:cNvSpPr/>
          <p:nvPr/>
        </p:nvSpPr>
        <p:spPr>
          <a:xfrm flipV="1">
            <a:off x="5148360" y="3123720"/>
            <a:ext cx="1328760" cy="1817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1619280" y="335772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14"/>
          <p:cNvSpPr txBox="1"/>
          <p:nvPr/>
        </p:nvSpPr>
        <p:spPr>
          <a:xfrm>
            <a:off x="2627280" y="400536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受挫</a:t>
            </a:r>
            <a:endParaRPr b="1" lang="en-US" sz="2800" spc="1" strike="noStrike">
              <a:ln w="936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83" name="WordArt 15"/>
          <p:cNvSpPr txBox="1"/>
          <p:nvPr/>
        </p:nvSpPr>
        <p:spPr>
          <a:xfrm>
            <a:off x="6012000" y="4149720"/>
            <a:ext cx="934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1:16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6:23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