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chimes.wav" ContentType="audio/x-wav"/>
  <Override PartName="/ppt/media/image16.jpeg" ContentType="image/jpeg"/>
  <Override PartName="/ppt/media/image9.png" ContentType="image/png"/>
  <Override PartName="/ppt/media/camera.wav" ContentType="audio/x-wav"/>
  <Override PartName="/ppt/media/image17.gif" ContentType="image/gif"/>
  <Override PartName="/ppt/media/image15.jpeg" ContentType="image/jpeg"/>
  <Override PartName="/ppt/media/image14.png" ContentType="image/png"/>
  <Override PartName="/ppt/media/image13.png" ContentType="image/png"/>
  <Override PartName="/ppt/media/image12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000000"/>
                </a:solidFill>
                <a:uFillTx/>
                <a:latin typeface="楷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A056-1EF9-40A1-9584-D8979348EA45}" type="slidenum">
              <a:rPr b="0" lang="zh-CN" sz="1200" spc="-1" strike="noStrike" u="sng">
                <a:solidFill>
                  <a:srgbClr val="000000"/>
                </a:solidFill>
                <a:uFillTx/>
                <a:latin typeface="楷体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264E-5613-49D7-B2FC-35B6734A86CE}" type="slidenum">
              <a:rPr b="0" lang="zh-CN" sz="1200" spc="-1" strike="noStrike" u="sng">
                <a:solidFill>
                  <a:srgbClr val="000000"/>
                </a:solidFill>
                <a:uFillTx/>
                <a:latin typeface="楷体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E3D7-5FB1-4DF4-88C5-E1E300E8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F278-278A-4451-819B-ECEB5C66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60C6-EBDB-4442-BCEC-831B29F3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8FD3-C5D5-4813-876B-4FD91895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CFA-6C92-407C-A93D-B3F0238E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6B57-3AE5-4C93-8A43-48C02643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D5B-9A27-4426-8326-0B3959C1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E611-30C3-4240-910A-D6A799CE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F12-5D93-4A4B-B95A-A70DFA4E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C53-6249-4586-B58A-06E328F3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49DC-F818-4DF1-A5A8-DE391BBA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26C-F6C9-41E6-AC81-FBB72491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4D71-D999-4315-B432-7C8E8AC0DB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题板2"/>
          <p:cNvPicPr/>
          <p:nvPr/>
        </p:nvPicPr>
        <p:blipFill>
          <a:blip r:embed="rId2"/>
          <a:stretch/>
        </p:blipFill>
        <p:spPr>
          <a:xfrm>
            <a:off x="900000" y="1773360"/>
            <a:ext cx="7309080" cy="2720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547640" y="2462040"/>
            <a:ext cx="590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华文彩云"/>
                <a:ea typeface="华文彩云"/>
              </a:rPr>
              <a:t> </a:t>
            </a:r>
            <a:r>
              <a:rPr b="1" lang="en-US" sz="7200" spc="-1" strike="noStrike">
                <a:solidFill>
                  <a:srgbClr val="ff3300"/>
                </a:solidFill>
                <a:latin typeface="华文彩云"/>
                <a:ea typeface="华文彩云"/>
              </a:rPr>
              <a:t>25</a:t>
            </a:r>
            <a:r>
              <a:rPr b="1" lang="en-US" sz="6600" spc="-1" strike="noStrike">
                <a:solidFill>
                  <a:srgbClr val="ff3300"/>
                </a:solidFill>
                <a:latin typeface="华文彩云"/>
                <a:ea typeface="华文彩云"/>
              </a:rPr>
              <a:t>  </a:t>
            </a:r>
            <a:r>
              <a:rPr b="1" lang="zh-CN" sz="7200" spc="-1" strike="noStrike">
                <a:solidFill>
                  <a:srgbClr val="ff3300"/>
                </a:solidFill>
                <a:latin typeface="华文彩云"/>
                <a:ea typeface="华文彩云"/>
              </a:rPr>
              <a:t>国王的信</a:t>
            </a:r>
            <a:endParaRPr b="0" lang="en-US" sz="72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547640" y="11253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湖南教育出版社小学语文三年级上册</a:t>
            </a:r>
            <a:endParaRPr b="0" lang="en-US" sz="28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pic>
        <p:nvPicPr>
          <p:cNvPr id="52" name="Picture 6" descr="太阳2"/>
          <p:cNvPicPr/>
          <p:nvPr/>
        </p:nvPicPr>
        <p:blipFill>
          <a:blip r:embed="rId3"/>
          <a:stretch/>
        </p:blipFill>
        <p:spPr>
          <a:xfrm>
            <a:off x="0" y="0"/>
            <a:ext cx="1981080" cy="192708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8"/>
          <p:cNvSpPr/>
          <p:nvPr/>
        </p:nvSpPr>
        <p:spPr>
          <a:xfrm>
            <a:off x="8459640" y="5516640"/>
            <a:ext cx="289080" cy="2887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54" name="矩形 9"/>
          <p:cNvSpPr/>
          <p:nvPr/>
        </p:nvSpPr>
        <p:spPr>
          <a:xfrm>
            <a:off x="1753920" y="55818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pan副本"/>
          <p:cNvPicPr/>
          <p:nvPr/>
        </p:nvPicPr>
        <p:blipFill>
          <a:blip r:embed="rId1"/>
          <a:stretch/>
        </p:blipFill>
        <p:spPr>
          <a:xfrm>
            <a:off x="0" y="3505320"/>
            <a:ext cx="2198520" cy="3352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ao副本"/>
          <p:cNvPicPr/>
          <p:nvPr/>
        </p:nvPicPr>
        <p:blipFill>
          <a:blip r:embed="rId2"/>
          <a:stretch/>
        </p:blipFill>
        <p:spPr>
          <a:xfrm>
            <a:off x="7201080" y="2286000"/>
            <a:ext cx="1942920" cy="4572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1432080" y="914400"/>
            <a:ext cx="131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133720" y="0"/>
            <a:ext cx="5333760" cy="31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你向我讨一只红眼睛的绿色兔子，怎么可以那样威吓我呢？”</a:t>
            </a:r>
            <a:endParaRPr b="0" lang="en-US" sz="27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Arial"/>
                <a:ea typeface="宋体"/>
              </a:rPr>
              <a:t>      “</a:t>
            </a:r>
            <a:r>
              <a:rPr b="1" lang="zh-CN" sz="2700" spc="-1" strike="noStrike">
                <a:solidFill>
                  <a:srgbClr val="0000ff"/>
                </a:solidFill>
                <a:latin typeface="Arial"/>
                <a:ea typeface="宋体"/>
              </a:rPr>
              <a:t>啊，我可没有威吓你呀，我是说：请送给我一只红眼睛的绿色兔子，要不然其他颜色的兔子也可以。”</a:t>
            </a:r>
            <a:endParaRPr b="0" lang="en-US" sz="27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       “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啊，原来是这样？可惜我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endParaRPr b="0" lang="en-US" sz="27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700" spc="-1" strike="noStrike">
                <a:solidFill>
                  <a:srgbClr val="0000ff"/>
                </a:solidFill>
                <a:latin typeface="Arial"/>
                <a:ea typeface="宋体"/>
              </a:rPr>
              <a:t>我也想知道你回信的意思呢，你说你没有这样的兔子，要是有的话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  <a:ea typeface="宋体"/>
              </a:rPr>
              <a:t>…… ”</a:t>
            </a:r>
            <a:endParaRPr b="0" lang="en-US" sz="27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宋体"/>
              </a:rPr>
              <a:t>    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咦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我的回答不是和你的请求一样明白吗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我的意思是说：我没有这样的兔子，要是有的话我一定奉送。”</a:t>
            </a:r>
            <a:endParaRPr b="0" lang="en-US" sz="27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2700" spc="-1" strike="noStrike">
                <a:solidFill>
                  <a:srgbClr val="0000ff"/>
                </a:solidFill>
                <a:latin typeface="Arial"/>
                <a:ea typeface="宋体"/>
              </a:rPr>
              <a:t>啊！”    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</a:rPr>
              <a:t>“啊！”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2133720" y="1600200"/>
            <a:ext cx="5333760" cy="36576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如果我们平心静气，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把这两封信仔细看清楚，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弄清别人的意思，那可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以避免多少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痛苦和灾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难呀！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</p:spTree>
  </p:cSld>
  <p:transition>
    <p:blinds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6913552_115424696159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826920" y="1125360"/>
            <a:ext cx="612144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</a:rPr>
              <a:t>亲爱的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</a:rPr>
              <a:t>＿＿国王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</a:rPr>
              <a:t>：</a:t>
            </a:r>
            <a:endParaRPr b="0" lang="en-US" sz="44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</a:rPr>
              <a:t>我想对你说：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</a:rPr>
              <a:t>＿＿＿＿＿＿＿＿＿＿＿＿＿＿＿。</a:t>
            </a:r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</a:rPr>
              <a:t>＿＿＿</a:t>
            </a:r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</a:rPr>
              <a:t>2012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</a:rPr>
              <a:t>年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</a:rPr>
              <a:t>＿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</a:rPr>
              <a:t>＿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</a:rPr>
              <a:t>日</a:t>
            </a:r>
            <a:endParaRPr b="0" lang="en-US" sz="44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10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F54F-27B9-4420-85A7-D31AD35AE8E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8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听读要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5640" y="2997360"/>
            <a:ext cx="619272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边听边看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请在书上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﹏﹏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画出信的内容，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——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画出国王的反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0">
            <a:hlinkClick r:id="" action="ppaction://hlinkshowjump?jump=nextslide"/>
          </p:cNvPr>
          <p:cNvSpPr/>
          <p:nvPr/>
        </p:nvSpPr>
        <p:spPr>
          <a:xfrm>
            <a:off x="6948360" y="5950080"/>
            <a:ext cx="648000" cy="503280"/>
          </a:xfrm>
          <a:custGeom>
            <a:avLst/>
            <a:gdLst>
              <a:gd name="textAreaLeft" fmla="*/ 32400 w 648000"/>
              <a:gd name="textAreaRight" fmla="*/ 615600 w 648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07" h="21600">
                <a:moveTo>
                  <a:pt x="6897" y="3794"/>
                </a:moveTo>
                <a:lnTo>
                  <a:pt x="20910" y="10800"/>
                </a:lnTo>
                <a:lnTo>
                  <a:pt x="689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59" name="AutoShape 29"/>
          <p:cNvSpPr/>
          <p:nvPr/>
        </p:nvSpPr>
        <p:spPr>
          <a:xfrm>
            <a:off x="752472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卡通~17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1042920" y="907920"/>
            <a:ext cx="27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亲爱的国王：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请送给我一只红眼睛的绿色兔子，要不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pic>
        <p:nvPicPr>
          <p:cNvPr id="62" name="Picture 4" descr="卡通~17"/>
          <p:cNvPicPr/>
          <p:nvPr/>
        </p:nvPicPr>
        <p:blipFill>
          <a:blip r:embed="rId2"/>
          <a:stretch/>
        </p:blipFill>
        <p:spPr>
          <a:xfrm>
            <a:off x="4500720" y="0"/>
            <a:ext cx="4140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508720" y="981000"/>
            <a:ext cx="244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"/>
              </a:rPr>
              <a:t>亲爱的国王：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楷体"/>
              </a:rPr>
              <a:t>我没有这样的兔子，要是有的话</a:t>
            </a:r>
            <a:r>
              <a:rPr b="1" lang="en-US" sz="3200" spc="-1" strike="noStrike">
                <a:solidFill>
                  <a:srgbClr val="3333ff"/>
                </a:solidFill>
                <a:latin typeface="楷体"/>
              </a:rPr>
              <a:t>……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an副本"/>
          <p:cNvPicPr/>
          <p:nvPr/>
        </p:nvPicPr>
        <p:blipFill>
          <a:blip r:embed="rId1"/>
          <a:stretch/>
        </p:blipFill>
        <p:spPr>
          <a:xfrm>
            <a:off x="684360" y="3068640"/>
            <a:ext cx="2350800" cy="35053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3"/>
          <p:cNvSpPr/>
          <p:nvPr/>
        </p:nvSpPr>
        <p:spPr>
          <a:xfrm>
            <a:off x="2843280" y="692280"/>
            <a:ext cx="5473800" cy="43923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419640" y="1413000"/>
            <a:ext cx="449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</a:rPr>
              <a:t>别念了！”胖国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</a:rPr>
              <a:t>猛地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</a:rPr>
              <a:t>从睡椅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</a:rPr>
              <a:t>跳下来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</a:rPr>
              <a:t>说，“要不然，要不然怎样？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</a:rPr>
              <a:t>真不讲理！” </a:t>
            </a:r>
            <a:endParaRPr b="0" lang="en-US" sz="36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67" name="文本框 1"/>
          <p:cNvSpPr/>
          <p:nvPr/>
        </p:nvSpPr>
        <p:spPr>
          <a:xfrm>
            <a:off x="514440" y="2350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http://www.eeppt.com</a:t>
            </a:r>
            <a:endParaRPr b="0" lang="en-US" sz="24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</p:spTree>
  </p:cSld>
  <p:transition>
    <p:blinds dir="horz"/>
    <p:sndAc>
      <p:stSnd>
        <p:snd r:embed="rId2" name="camera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gao副本"/>
          <p:cNvPicPr/>
          <p:nvPr/>
        </p:nvPicPr>
        <p:blipFill>
          <a:blip r:embed="rId1"/>
          <a:stretch/>
        </p:blipFill>
        <p:spPr>
          <a:xfrm>
            <a:off x="5562720" y="1828800"/>
            <a:ext cx="312408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3"/>
          <p:cNvSpPr/>
          <p:nvPr/>
        </p:nvSpPr>
        <p:spPr>
          <a:xfrm>
            <a:off x="324000" y="476280"/>
            <a:ext cx="5790960" cy="3505320"/>
          </a:xfrm>
          <a:prstGeom prst="flowChartTermina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84280" y="99072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高个子国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桌子，说：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要是有的话，也不送给你，是吧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太瞧不起人了！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</a:rPr>
              <a:t>”</a:t>
            </a:r>
            <a:endParaRPr b="0" lang="en-US" sz="36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</p:spTree>
  </p:cSld>
  <p:transition>
    <p:blinds dir="horz"/>
    <p:sndAc>
      <p:stSnd>
        <p:snd r:embed="rId2" name="camera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46465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0" y="4876920"/>
            <a:ext cx="9144000" cy="1752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0" y="48909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个国王越想越生气，于是彼此调集全国的军队，打起仗来。结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尸横遍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血流成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老百姓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饱经患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痛苦不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兵士也厌倦战争了。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4676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1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324000" y="2564640"/>
            <a:ext cx="845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lang="en-US" sz="30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641520" y="134136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双方相持多年，谁都不能取胜，只好停战议和。两个国王见面后，都要求对方把信解释明白。</a:t>
            </a:r>
            <a:endParaRPr b="0" lang="en-US" sz="48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图片2"/>
          <p:cNvPicPr/>
          <p:nvPr/>
        </p:nvPicPr>
        <p:blipFill>
          <a:blip r:embed="rId1"/>
          <a:stretch/>
        </p:blipFill>
        <p:spPr>
          <a:xfrm>
            <a:off x="0" y="-1179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611280" y="3860640"/>
            <a:ext cx="1904760" cy="2438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6372360" y="3213000"/>
            <a:ext cx="1666800" cy="332424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5"/>
          <p:cNvSpPr/>
          <p:nvPr/>
        </p:nvSpPr>
        <p:spPr>
          <a:xfrm>
            <a:off x="1752480" y="1752480"/>
            <a:ext cx="3581640" cy="21337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685800" y="1066680"/>
            <a:ext cx="3886200" cy="2438640"/>
          </a:xfrm>
          <a:prstGeom prst="cloudCallout">
            <a:avLst>
              <a:gd name="adj1" fmla="val -16300"/>
              <a:gd name="adj2" fmla="val 7070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向我讨一只红眼睛的绿色兔子，怎么可以那样威吓我呢？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5029200" y="0"/>
            <a:ext cx="3809880" cy="2819520"/>
          </a:xfrm>
          <a:prstGeom prst="wedgeRectCallout">
            <a:avLst>
              <a:gd name="adj1" fmla="val 7874"/>
              <a:gd name="adj2" fmla="val 6931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5715000" y="0"/>
            <a:ext cx="2438280" cy="3048120"/>
          </a:xfrm>
          <a:prstGeom prst="wedgeRectCallout">
            <a:avLst>
              <a:gd name="adj1" fmla="val -1365"/>
              <a:gd name="adj2" fmla="val 618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86" name="AutoShape 9"/>
          <p:cNvSpPr/>
          <p:nvPr/>
        </p:nvSpPr>
        <p:spPr>
          <a:xfrm>
            <a:off x="5410080" y="0"/>
            <a:ext cx="3733920" cy="2819520"/>
          </a:xfrm>
          <a:prstGeom prst="wedgeRectCallout">
            <a:avLst>
              <a:gd name="adj1" fmla="val -4634"/>
              <a:gd name="adj2" fmla="val 69254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啊？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”</a:t>
            </a:r>
            <a:endParaRPr b="0" lang="en-US" sz="24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可没威吓你呀，我是说：请送给我一只红眼睛的绿色兔子，要不然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其他颜色的兔子也可以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”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1332000" y="333360"/>
            <a:ext cx="4876560" cy="2209680"/>
          </a:xfrm>
          <a:prstGeom prst="cloudCallout">
            <a:avLst>
              <a:gd name="adj1" fmla="val -32810"/>
              <a:gd name="adj2" fmla="val 11393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啊，原来是这样？可惜我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······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88" name="AutoShape 11"/>
          <p:cNvSpPr/>
          <p:nvPr/>
        </p:nvSpPr>
        <p:spPr>
          <a:xfrm>
            <a:off x="4788000" y="0"/>
            <a:ext cx="4114800" cy="3657600"/>
          </a:xfrm>
          <a:prstGeom prst="wedgeRoundRectCallout">
            <a:avLst>
              <a:gd name="adj1" fmla="val -5287"/>
              <a:gd name="adj2" fmla="val 59287"/>
              <a:gd name="adj3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我也想知道一下你回信的意思呢，”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你说你没有这样的兔子，要是有的话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······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89" name="AutoShape 12"/>
          <p:cNvSpPr/>
          <p:nvPr/>
        </p:nvSpPr>
        <p:spPr>
          <a:xfrm>
            <a:off x="1042920" y="0"/>
            <a:ext cx="6553440" cy="2924280"/>
          </a:xfrm>
          <a:prstGeom prst="cloudCallout">
            <a:avLst>
              <a:gd name="adj1" fmla="val -32777"/>
              <a:gd name="adj2" fmla="val 9348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咦，我的回答不是和你的请求一样明白吗？我的意思是说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我没有这样的兔子，要是有的话，我一定奉送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</p:spTree>
  </p:cSld>
  <p:transition>
    <p:blinds dir="horz"/>
    <p:sndAc>
      <p:stSnd>
        <p:snd r:embed="rId4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432080" y="914400"/>
            <a:ext cx="131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835280" y="981000"/>
            <a:ext cx="5333760" cy="36576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如果我们平心静气，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把这两封信仔细看清楚，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弄清别人的意思，那可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以避免多少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痛苦和灾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难呀！</a:t>
            </a:r>
            <a:endParaRPr b="0" lang="en-US" sz="3200" spc="-1" strike="noStrike" u="sng">
              <a:solidFill>
                <a:srgbClr val="000000"/>
              </a:solidFill>
              <a:uFillTx/>
              <a:latin typeface="楷体"/>
            </a:endParaRPr>
          </a:p>
        </p:txBody>
      </p:sp>
      <p:pic>
        <p:nvPicPr>
          <p:cNvPr id="92" name="Picture 7" descr="pan副本"/>
          <p:cNvPicPr/>
          <p:nvPr/>
        </p:nvPicPr>
        <p:blipFill>
          <a:blip r:embed="rId1"/>
          <a:stretch/>
        </p:blipFill>
        <p:spPr>
          <a:xfrm>
            <a:off x="324000" y="2852640"/>
            <a:ext cx="2198520" cy="335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gao副本"/>
          <p:cNvPicPr/>
          <p:nvPr/>
        </p:nvPicPr>
        <p:blipFill>
          <a:blip r:embed="rId2"/>
          <a:stretch/>
        </p:blipFill>
        <p:spPr>
          <a:xfrm>
            <a:off x="7201080" y="2286000"/>
            <a:ext cx="1942920" cy="4572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0:50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1:47Z</dcterms:modified>
  <cp:revision>6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