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3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4.jpeg" ContentType="image/jpeg"/>
  <Override PartName="/ppt/media/image16.wmf" ContentType="image/x-wmf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4AC4-ABCB-425B-ADD3-BB556D7BCF66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B130-490A-4950-8745-E0AEF63D72D7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5965-B9F8-4C4E-9B61-58EE5E32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C654-8A19-41E1-BD8A-486A85A6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22D4-17A8-4EE3-96BB-9E11855E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18B1-7C42-42F7-95BD-CD4C7A6E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70B9-749D-4DEF-B638-63EAD30D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0E87-CF99-4142-A550-771EFDE5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C088-9F0F-4AF4-9C2E-7A5E5313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150E-3D6B-4511-B403-909A5412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ADCD-B4C9-445B-8568-C6F24DF9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A980-B40C-468C-91CC-8F03EBDB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D141-F57F-4FDE-A8FE-B0B9BEAA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E19E-74C3-45CE-B36E-BE777F38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89B4-7DEF-4E4D-950B-8A18417B9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baike.baidu.com/view/246993.htm" TargetMode="External"/><Relationship Id="rId3" Type="http://schemas.openxmlformats.org/officeDocument/2006/relationships/hyperlink" Target="http://baike.baidu.com/view/492406.htm" TargetMode="External"/><Relationship Id="rId4" Type="http://schemas.openxmlformats.org/officeDocument/2006/relationships/hyperlink" Target="http://baike.baidu.com/view/22520.htm" TargetMode="External"/><Relationship Id="rId5" Type="http://schemas.openxmlformats.org/officeDocument/2006/relationships/hyperlink" Target="http://baike.baidu.com/view/245378.htm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143000" y="156672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飞的孩子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359000" y="4648320"/>
            <a:ext cx="6426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1219320" y="2336760"/>
            <a:ext cx="79246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怒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中国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西南地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大河之一，又称潞江，上游藏语叫“那曲河”，发源于青藏高原的唐古拉山南麓的吉热拍格。它深入青藏高原内部，由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怒江第一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西北向东南斜贯西藏东部的平浅谷地，入云南省折向南流，经怒江傈僳族自治州、保山市和德宏傣族景颇族自治州，流入缅甸后改称萨尔温江，最后注入印度洋的安达曼海。从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河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至入海口全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4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里，中国部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里，云南段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里；总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流域面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.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平方公里，中国部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.7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平方公里；径流总量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立方米，省内流域面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3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平方公里，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云南省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7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0"/>
          <p:cNvSpPr txBox="1"/>
          <p:nvPr/>
        </p:nvSpPr>
        <p:spPr>
          <a:xfrm rot="5400000">
            <a:off x="-288720" y="2574720"/>
            <a:ext cx="210204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怒江简介</a:t>
            </a:r>
            <a:endParaRPr b="1" lang="en-US" sz="2000" spc="-1" strike="noStrike">
              <a:ln w="0">
                <a:noFill/>
              </a:ln>
              <a:solidFill>
                <a:srgbClr val="ff00ff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9"/>
          <p:cNvSpPr/>
          <p:nvPr/>
        </p:nvSpPr>
        <p:spPr>
          <a:xfrm>
            <a:off x="3200400" y="34671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3"/>
          <p:cNvSpPr/>
          <p:nvPr/>
        </p:nvSpPr>
        <p:spPr>
          <a:xfrm>
            <a:off x="685800" y="1523880"/>
            <a:ext cx="7696080" cy="3886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0" y="1523880"/>
            <a:ext cx="8534520" cy="4496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8"/>
          <p:cNvSpPr/>
          <p:nvPr/>
        </p:nvSpPr>
        <p:spPr>
          <a:xfrm>
            <a:off x="0" y="1752480"/>
            <a:ext cx="84582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读通读顺课文，完成下列学习任务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仿宋_GB2312"/>
                <a:ea typeface="仿宋_GB2312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、用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仿宋_GB2312"/>
              </a:rPr>
              <a:t>“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仿宋_GB2312"/>
              </a:rPr>
              <a:t>—”</a:t>
            </a:r>
            <a:r>
              <a:rPr b="1" lang="zh-CN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标注生字新词，遇到不认识的字查字典；反复拼读生字新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、借助工具书理解下列词语的意思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名不虚传   横冲直撞    时隐时现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千真万确  粗犷  发怵   倏地  高旷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、标好自然段，理清文章条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4"/>
          <p:cNvGrpSpPr/>
          <p:nvPr/>
        </p:nvGrpSpPr>
        <p:grpSpPr>
          <a:xfrm>
            <a:off x="0" y="0"/>
            <a:ext cx="4572000" cy="1371600"/>
            <a:chOff x="0" y="0"/>
            <a:chExt cx="4572000" cy="1371600"/>
          </a:xfrm>
        </p:grpSpPr>
        <p:sp>
          <p:nvSpPr>
            <p:cNvPr id="78" name="AutoShape 10"/>
            <p:cNvSpPr/>
            <p:nvPr/>
          </p:nvSpPr>
          <p:spPr>
            <a:xfrm>
              <a:off x="0" y="0"/>
              <a:ext cx="4114800" cy="1371600"/>
            </a:xfrm>
            <a:prstGeom prst="cloudCallout">
              <a:avLst>
                <a:gd name="adj1" fmla="val 103935"/>
                <a:gd name="adj2" fmla="val 6921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1"/>
            <p:cNvSpPr/>
            <p:nvPr/>
          </p:nvSpPr>
          <p:spPr>
            <a:xfrm>
              <a:off x="685800" y="304920"/>
              <a:ext cx="3886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Arial"/>
                </a:rPr>
                <a:t>初读课文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8" descr="5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图片1"/>
          <p:cNvPicPr/>
          <p:nvPr/>
        </p:nvPicPr>
        <p:blipFill>
          <a:blip r:embed="rId2"/>
          <a:stretch/>
        </p:blipFill>
        <p:spPr>
          <a:xfrm>
            <a:off x="0" y="0"/>
            <a:ext cx="4311720" cy="1316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685800" y="1371600"/>
            <a:ext cx="91440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狭 窄        峡 谷       颠 倒       坐 稳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惊 讶       粗 犷       揪 着       笑 嘻 嘻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倏 地       发 怵       高 旷       两 幢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143000" y="19810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zh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ǎ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895480" y="1905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xi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876920" y="1828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di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ā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848720" y="1752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ě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1295280" y="3657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y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3200400" y="3581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gu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ǎ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4952880" y="35812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ji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ū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7924680" y="35053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ī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609480" y="53341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sh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ū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3276720" y="54100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ch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5334120" y="5334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kuà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7467480" y="54100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zhuà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5" descr="39"/>
          <p:cNvPicPr/>
          <p:nvPr/>
        </p:nvPicPr>
        <p:blipFill>
          <a:blip r:embed="rId1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0" y="1295280"/>
            <a:ext cx="9448920" cy="51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不虚传    怒气冲冲   奔涌   险峻   晃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横冲直撞    风吼雷鸣   咆哮   蓬勃   溅起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隐时现    从天而降   弩弓   嬉闹   悬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千真万确    惊涛滚滚   火塘   鼓动    颤抖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飘飘悠悠   风声飕飕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溜索   纤细   忽略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零零星星   临江而筑    喧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竹篾笆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76320" y="-160200"/>
            <a:ext cx="3124080" cy="1447560"/>
            <a:chOff x="76320" y="-160200"/>
            <a:chExt cx="3124080" cy="1447560"/>
          </a:xfrm>
        </p:grpSpPr>
        <p:sp>
          <p:nvSpPr>
            <p:cNvPr id="98" name="AutoShape 9"/>
            <p:cNvSpPr/>
            <p:nvPr/>
          </p:nvSpPr>
          <p:spPr>
            <a:xfrm>
              <a:off x="76320" y="-160200"/>
              <a:ext cx="3124080" cy="1447560"/>
            </a:xfrm>
            <a:prstGeom prst="horizontalScroll">
              <a:avLst>
                <a:gd name="adj" fmla="val 12500"/>
              </a:avLst>
            </a:prstGeom>
            <a:solidFill>
              <a:srgbClr val="e4f7a7"/>
            </a:solidFill>
            <a:ln w="936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0"/>
            <p:cNvSpPr/>
            <p:nvPr/>
          </p:nvSpPr>
          <p:spPr>
            <a:xfrm>
              <a:off x="685800" y="601560"/>
              <a:ext cx="2286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WordArt 13"/>
            <p:cNvSpPr txBox="1"/>
            <p:nvPr/>
          </p:nvSpPr>
          <p:spPr>
            <a:xfrm>
              <a:off x="685800" y="220680"/>
              <a:ext cx="18288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hevron">
                <a:avLst>
                  <a:gd name="adj" fmla="val 25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ff0000">
                      <a:alpha val="99000"/>
                    </a:srgbClr>
                  </a:solidFill>
                  <a:latin typeface="宋体"/>
                </a:rPr>
                <a:t>认读词语</a:t>
              </a:r>
              <a:endParaRPr b="1" lang="en-US" sz="20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0000">
                    <a:alpha val="99000"/>
                  </a:srgbClr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8" descr="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0" y="32767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名不虚传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图片5"/>
          <p:cNvPicPr/>
          <p:nvPr/>
        </p:nvPicPr>
        <p:blipFill>
          <a:blip r:embed="rId2"/>
          <a:stretch/>
        </p:blipFill>
        <p:spPr>
          <a:xfrm>
            <a:off x="0" y="0"/>
            <a:ext cx="2971800" cy="2120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3048120" y="5335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59000" y="4114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横冲直撞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59000" y="4800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时隐时现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62960" y="56386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千真万确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2869200" y="990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粗犷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2792880" y="304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发怵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4621680" y="2438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高旷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506880" y="2438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倏地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267080" y="152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恐惧，害怕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4114800" y="9144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粗豪，豪放。文中形容江面宽阔，险峻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5486400" y="2514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高而开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1981080" y="3352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所传的名声与实际相符，不是空有虚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1371600" y="2514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突然，忽然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2057400" y="41911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乱冲乱闯，蛮横无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1981080" y="4876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有时隐没，有时出现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2057400" y="57150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形容情况非常确实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3" descr="51"/>
          <p:cNvPicPr/>
          <p:nvPr/>
        </p:nvPicPr>
        <p:blipFill>
          <a:blip r:embed="rId1"/>
          <a:stretch/>
        </p:blipFill>
        <p:spPr>
          <a:xfrm>
            <a:off x="0" y="0"/>
            <a:ext cx="9372600" cy="7315200"/>
          </a:xfrm>
          <a:prstGeom prst="rect">
            <a:avLst/>
          </a:prstGeom>
          <a:ln w="9360">
            <a:solidFill>
              <a:srgbClr val="000000">
                <a:alpha val="94000"/>
              </a:srgbClr>
            </a:solidFill>
            <a:miter/>
          </a:ln>
        </p:spPr>
      </p:pic>
      <p:grpSp>
        <p:nvGrpSpPr>
          <p:cNvPr id="121" name="Group 14"/>
          <p:cNvGrpSpPr/>
          <p:nvPr/>
        </p:nvGrpSpPr>
        <p:grpSpPr>
          <a:xfrm>
            <a:off x="304920" y="0"/>
            <a:ext cx="838080" cy="3276720"/>
            <a:chOff x="304920" y="0"/>
            <a:chExt cx="838080" cy="3276720"/>
          </a:xfrm>
        </p:grpSpPr>
        <p:sp>
          <p:nvSpPr>
            <p:cNvPr id="122" name="AutoShape 5"/>
            <p:cNvSpPr/>
            <p:nvPr/>
          </p:nvSpPr>
          <p:spPr>
            <a:xfrm>
              <a:off x="304920" y="0"/>
              <a:ext cx="838080" cy="3276720"/>
            </a:xfrm>
            <a:prstGeom prst="wedgeEllipseCallout">
              <a:avLst>
                <a:gd name="adj1" fmla="val 160796"/>
                <a:gd name="adj2" fmla="val 21027"/>
              </a:avLst>
            </a:prstGeom>
            <a:solidFill>
              <a:srgbClr val="99ff3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6"/>
            <p:cNvSpPr/>
            <p:nvPr/>
          </p:nvSpPr>
          <p:spPr>
            <a:xfrm>
              <a:off x="308880" y="457200"/>
              <a:ext cx="78984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990000"/>
                  </a:solidFill>
                  <a:latin typeface="Arial"/>
                  <a:ea typeface="仿宋_GB2312"/>
                </a:rPr>
                <a:t>近义词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AutoShape 7"/>
          <p:cNvSpPr/>
          <p:nvPr/>
        </p:nvSpPr>
        <p:spPr>
          <a:xfrm>
            <a:off x="2209680" y="228600"/>
            <a:ext cx="6477120" cy="259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2362320" y="380880"/>
            <a:ext cx="655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惊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惊奇                   粗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粗野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恐惧                高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旷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不虚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副其实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怒气冲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怒火冲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609480" y="3962520"/>
            <a:ext cx="533412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5"/>
          <p:cNvGrpSpPr/>
          <p:nvPr/>
        </p:nvGrpSpPr>
        <p:grpSpPr>
          <a:xfrm>
            <a:off x="7391520" y="3048120"/>
            <a:ext cx="838080" cy="2590560"/>
            <a:chOff x="7391520" y="3048120"/>
            <a:chExt cx="838080" cy="2590560"/>
          </a:xfrm>
        </p:grpSpPr>
        <p:sp>
          <p:nvSpPr>
            <p:cNvPr id="128" name="AutoShape 10"/>
            <p:cNvSpPr/>
            <p:nvPr/>
          </p:nvSpPr>
          <p:spPr>
            <a:xfrm>
              <a:off x="7391520" y="3048120"/>
              <a:ext cx="838080" cy="2590560"/>
            </a:xfrm>
            <a:prstGeom prst="wedgeEllipseCallout">
              <a:avLst>
                <a:gd name="adj1" fmla="val -207384"/>
                <a:gd name="adj2" fmla="val 34680"/>
              </a:avLst>
            </a:prstGeom>
            <a:solidFill>
              <a:srgbClr val="99ff33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1"/>
            <p:cNvSpPr/>
            <p:nvPr/>
          </p:nvSpPr>
          <p:spPr>
            <a:xfrm>
              <a:off x="7471440" y="3352680"/>
              <a:ext cx="66780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Arial"/>
                </a:rPr>
                <a:t>反义词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 Box 12"/>
          <p:cNvSpPr/>
          <p:nvPr/>
        </p:nvSpPr>
        <p:spPr>
          <a:xfrm>
            <a:off x="609480" y="4419720"/>
            <a:ext cx="4800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狭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宽阔   纤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粗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爽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拘束   高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低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1" descr="94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WordArt 5"/>
          <p:cNvSpPr txBox="1"/>
          <p:nvPr/>
        </p:nvSpPr>
        <p:spPr>
          <a:xfrm>
            <a:off x="304920" y="0"/>
            <a:ext cx="1371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多音字</a:t>
            </a:r>
            <a:endParaRPr b="1" lang="en-US" sz="2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0" y="29718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343400" y="50292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-228600" y="495288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纤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572000" y="29718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457200" y="2438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ī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380880" y="3505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ì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5181480" y="2514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h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5105520" y="3429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h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533520" y="4572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qià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304920" y="54100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xi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4876920" y="4572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gà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4952880" y="541008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g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1447920" y="25909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钉子 螺丝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1295280" y="35812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钉钉子 钉扣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6172200" y="2438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刹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5943600" y="33526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一刹那 刹那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1676520" y="45720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拉纤 纤夫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1447920" y="55627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纤细 纤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5791320" y="4648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干劲  树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5867280" y="54864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干净   干爽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2"/>
          <p:cNvSpPr/>
          <p:nvPr/>
        </p:nvSpPr>
        <p:spPr>
          <a:xfrm>
            <a:off x="2362320" y="91440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4"/>
          <p:cNvSpPr/>
          <p:nvPr/>
        </p:nvSpPr>
        <p:spPr>
          <a:xfrm>
            <a:off x="3048120" y="3808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xì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3124080" y="14479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jì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6"/>
          <p:cNvSpPr/>
          <p:nvPr/>
        </p:nvSpPr>
        <p:spPr>
          <a:xfrm>
            <a:off x="388620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关系  联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7"/>
          <p:cNvSpPr/>
          <p:nvPr/>
        </p:nvSpPr>
        <p:spPr>
          <a:xfrm>
            <a:off x="3809880" y="137160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系鞋带 系红领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7" descr="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159" name="Oval 9"/>
          <p:cNvSpPr/>
          <p:nvPr/>
        </p:nvSpPr>
        <p:spPr>
          <a:xfrm>
            <a:off x="380880" y="304920"/>
            <a:ext cx="3810240" cy="1676160"/>
          </a:xfrm>
          <a:prstGeom prst="ellipse">
            <a:avLst/>
          </a:prstGeom>
          <a:solidFill>
            <a:srgbClr val="bbdee3"/>
          </a:solidFill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图片8"/>
          <p:cNvPicPr/>
          <p:nvPr/>
        </p:nvPicPr>
        <p:blipFill>
          <a:blip r:embed="rId2"/>
          <a:stretch/>
        </p:blipFill>
        <p:spPr>
          <a:xfrm>
            <a:off x="5715000" y="304920"/>
            <a:ext cx="3048120" cy="17143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533520" y="2133720"/>
            <a:ext cx="7924680" cy="2305440"/>
          </a:xfrm>
          <a:prstGeom prst="rect">
            <a:avLst/>
          </a:prstGeom>
          <a:solidFill>
            <a:srgbClr val="a3e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一段（第</a:t>
            </a:r>
            <a:r>
              <a:rPr b="1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自然段）：初见怒江，感受其奔腾的气势与惊险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二段（第</a:t>
            </a:r>
            <a:r>
              <a:rPr b="1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6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自然段）：写阿江热情带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”一同“飞”过江面，去看他的学校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三段（第</a:t>
            </a:r>
            <a:r>
              <a:rPr b="1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自然段）：看到怒族孩子在江上无惧无畏地飞来飞去，我祝福他们有美好的未来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609480" y="4572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二读课文，理清文章条理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u=2580628032,4014736751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1295280" y="685800"/>
            <a:ext cx="6172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066680" y="990720"/>
            <a:ext cx="426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WordArt 7"/>
          <p:cNvSpPr txBox="1"/>
          <p:nvPr/>
        </p:nvSpPr>
        <p:spPr>
          <a:xfrm>
            <a:off x="3048120" y="685800"/>
            <a:ext cx="4190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19080">
                  <a:solidFill>
                    <a:srgbClr val="ff0066"/>
                  </a:solidFill>
                  <a:round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家都来说一说</a:t>
            </a:r>
            <a:endParaRPr b="1" lang="en-US" sz="2000" spc="1" strike="noStrike">
              <a:ln w="19080">
                <a:solidFill>
                  <a:srgbClr val="ff0066"/>
                </a:solidFill>
                <a:round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52280" y="28954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阿江是一个怎样的小孩？请以我认为阿江是一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————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小孩为句式说话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9" descr="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6"/>
          <p:cNvSpPr/>
          <p:nvPr/>
        </p:nvSpPr>
        <p:spPr>
          <a:xfrm>
            <a:off x="457200" y="1828800"/>
            <a:ext cx="8305920" cy="411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图片1"/>
          <p:cNvPicPr/>
          <p:nvPr/>
        </p:nvPicPr>
        <p:blipFill>
          <a:blip r:embed="rId2"/>
          <a:stretch/>
        </p:blipFill>
        <p:spPr>
          <a:xfrm>
            <a:off x="0" y="304920"/>
            <a:ext cx="2173320" cy="17524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533520" y="1828800"/>
            <a:ext cx="83818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大声朗读课文</a:t>
            </a:r>
            <a:r>
              <a:rPr b="1" lang="en-US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自然段，思考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找出这一段的中心句，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出。课文是如何具体描写的？用波浪线标出有关句子来，并反复读一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找出写怒江环境险峻的句子，仔细品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题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飞的孩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作者为什么花大量的篇幅来描写怒江的险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1"/>
          <p:cNvSpPr/>
          <p:nvPr/>
        </p:nvSpPr>
        <p:spPr>
          <a:xfrm>
            <a:off x="5334120" y="609480"/>
            <a:ext cx="2895480" cy="2133720"/>
          </a:xfrm>
          <a:prstGeom prst="wedgeRoundRectCallout">
            <a:avLst>
              <a:gd name="adj1" fmla="val -106416"/>
              <a:gd name="adj2" fmla="val 5617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715000" y="6858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滚石、溜索、会飞的孩子，让我见识了大峡谷的惊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u=4271998015,1080403732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5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3"/>
          <p:cNvSpPr/>
          <p:nvPr/>
        </p:nvSpPr>
        <p:spPr>
          <a:xfrm>
            <a:off x="1143000" y="4267080"/>
            <a:ext cx="7620120" cy="2362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685800" y="1066680"/>
            <a:ext cx="7391520" cy="2057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457200" y="3429000"/>
            <a:ext cx="25146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155" y="19300"/>
                </a:moveTo>
                <a:lnTo>
                  <a:pt x="22255" y="3600"/>
                </a:lnTo>
              </a:path>
              <a:path w="21600" h="21600">
                <a:moveTo>
                  <a:pt x="22255" y="0"/>
                </a:moveTo>
                <a:lnTo>
                  <a:pt x="22255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838080" y="1066680"/>
            <a:ext cx="67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     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仿宋_GB2312"/>
              </a:rPr>
              <a:t>我刚站住脚，就听一阵</a:t>
            </a:r>
            <a:r>
              <a:rPr b="1" lang="zh-CN" sz="3200" spc="-1" strike="noStrike" u="sng">
                <a:solidFill>
                  <a:srgbClr val="6600cc"/>
                </a:solidFill>
                <a:uFillTx/>
                <a:latin typeface="Arial"/>
                <a:ea typeface="仿宋_GB2312"/>
              </a:rPr>
              <a:t>稀里哗啦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仿宋_GB2312"/>
              </a:rPr>
              <a:t>的滚动声，无数石块</a:t>
            </a:r>
            <a:r>
              <a:rPr b="1" lang="zh-CN" sz="3200" spc="-1" strike="noStrike" u="sng">
                <a:solidFill>
                  <a:srgbClr val="6600cc"/>
                </a:solidFill>
                <a:uFillTx/>
                <a:latin typeface="Arial"/>
                <a:ea typeface="仿宋_GB2312"/>
              </a:rPr>
              <a:t>从天而降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仿宋_GB2312"/>
              </a:rPr>
              <a:t>，几乎</a:t>
            </a:r>
            <a:r>
              <a:rPr b="1" lang="zh-CN" sz="3200" spc="-1" strike="noStrike" u="sng">
                <a:solidFill>
                  <a:srgbClr val="6600cc"/>
                </a:solidFill>
                <a:uFillTx/>
                <a:latin typeface="Arial"/>
                <a:ea typeface="仿宋_GB2312"/>
              </a:rPr>
              <a:t>贴着我的鼻尖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仿宋_GB2312"/>
              </a:rPr>
              <a:t>飞落大江，溅起大片大片的浪花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6172200" y="0"/>
            <a:ext cx="2057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800" y="30825"/>
                </a:moveTo>
                <a:lnTo>
                  <a:pt x="-800" y="4050"/>
                </a:lnTo>
              </a:path>
              <a:path w="21600" h="21600">
                <a:moveTo>
                  <a:pt x="-800" y="0"/>
                </a:moveTo>
                <a:lnTo>
                  <a:pt x="-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6400800" y="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滚  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1371600" y="4343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 u="sng">
                <a:solidFill>
                  <a:srgbClr val="ff00ff"/>
                </a:solidFill>
                <a:uFillTx/>
                <a:latin typeface="Arial"/>
                <a:ea typeface="楷体_GB2312"/>
              </a:rPr>
              <a:t>只见他张开双臂，像鸟儿扑扇翅膀一样向我飞来。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眨眼工夫，他就飞过了惊涛滚滚的江面，飘然落地，站在我面前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685800" y="34290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会飞的孩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676520" y="571500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    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用比喻的手法表现了怒族孩子的勇敢、过溜技术熟练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95480" y="2590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这样的描写给人身临其境的感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3"/>
          <p:cNvSpPr/>
          <p:nvPr/>
        </p:nvSpPr>
        <p:spPr>
          <a:xfrm>
            <a:off x="380880" y="1905120"/>
            <a:ext cx="6934320" cy="3581280"/>
          </a:xfrm>
          <a:prstGeom prst="roundRect">
            <a:avLst>
              <a:gd name="adj" fmla="val 16667"/>
            </a:avLst>
          </a:prstGeom>
          <a:solidFill>
            <a:srgbClr val="bab3eb"/>
          </a:solidFill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6172200" y="380880"/>
            <a:ext cx="18288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500" y="4050"/>
                </a:moveTo>
                <a:lnTo>
                  <a:pt x="29588" y="4050"/>
                </a:lnTo>
                <a:lnTo>
                  <a:pt x="29588" y="25875"/>
                </a:lnTo>
                <a:lnTo>
                  <a:pt x="5325" y="47813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6172200" y="3808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溜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80880" y="228600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那宽阔粗犷的江面上悬着一座“桥”，那是一根钢丝溜索，纤细得很容易被忽略。他在腰间系了一道绳搭在溜索上，整个人悬空，难怪我感觉他是“飞”过来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"/>
          <p:cNvSpPr/>
          <p:nvPr/>
        </p:nvSpPr>
        <p:spPr>
          <a:xfrm>
            <a:off x="1523880" y="0"/>
            <a:ext cx="731520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1371600" y="0"/>
            <a:ext cx="746748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37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7"/>
          <p:cNvSpPr/>
          <p:nvPr/>
        </p:nvSpPr>
        <p:spPr>
          <a:xfrm>
            <a:off x="0" y="1066680"/>
            <a:ext cx="1295280" cy="38862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3886200"/>
              <a:gd name="textAreaBottom" fmla="*/ 388656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295280" y="2286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怒江的怒果然名不虚传，只见那江水像是受不了两岸危崖的夹击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怒气冲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从上游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奔涌而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在狭窄险峻的河道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横冲直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激起的狂涛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风吼雷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震得山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轰轰作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1295280" y="2666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条同样狭窄险峻的公路与咆哮的江流平行，通往峡谷深处。公路上满是大大小小的石头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汽车如同在跳摇滚，颠得人无法坐稳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85560" y="1447920"/>
            <a:ext cx="729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环境的险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1"/>
          <p:cNvSpPr/>
          <p:nvPr/>
        </p:nvSpPr>
        <p:spPr>
          <a:xfrm>
            <a:off x="685800" y="0"/>
            <a:ext cx="1219320" cy="609480"/>
          </a:xfrm>
          <a:custGeom>
            <a:avLst/>
            <a:gdLst>
              <a:gd name="textAreaLeft" fmla="*/ 502200 w 1219320"/>
              <a:gd name="textAreaRight" fmla="*/ 717120 w 12193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2"/>
          <p:cNvSpPr/>
          <p:nvPr/>
        </p:nvSpPr>
        <p:spPr>
          <a:xfrm>
            <a:off x="838080" y="2438280"/>
            <a:ext cx="914400" cy="990720"/>
          </a:xfrm>
          <a:custGeom>
            <a:avLst/>
            <a:gdLst>
              <a:gd name="textAreaLeft" fmla="*/ 376560 w 914400"/>
              <a:gd name="textAreaRight" fmla="*/ 537840 w 914400"/>
              <a:gd name="textAreaTop" fmla="*/ 408240 h 990720"/>
              <a:gd name="textAreaBottom" fmla="*/ 5824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762120" y="4800600"/>
            <a:ext cx="510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课题是“会飞的孩子”，作者花大量的篇幅来描写怒江的险，这样更能体现</a:t>
            </a:r>
            <a:r>
              <a:rPr b="1" i="1" lang="zh-CN" sz="2800" spc="-1" strike="noStrike">
                <a:solidFill>
                  <a:srgbClr val="cc0000"/>
                </a:solidFill>
                <a:latin typeface="Arial"/>
              </a:rPr>
              <a:t>怒族孩子的勇敢、乐观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838080" y="21337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黑体"/>
              </a:rPr>
              <a:t>（用拟人、比喻、夸张的手法突出怒江的奔腾气势。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2354760" y="41148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写路险突出怒江的险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9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8"/>
          <p:cNvSpPr/>
          <p:nvPr/>
        </p:nvSpPr>
        <p:spPr>
          <a:xfrm>
            <a:off x="380880" y="1219320"/>
            <a:ext cx="807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85800" y="30492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学习第</a:t>
            </a:r>
            <a:r>
              <a:rPr b="1" lang="en-US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9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～</a:t>
            </a:r>
            <a:r>
              <a:rPr b="1" lang="en-US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16</a:t>
            </a:r>
            <a:r>
              <a:rPr b="1" lang="zh-CN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自然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838080" y="1447920"/>
            <a:ext cx="8001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由朗读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～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自然段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思考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孩子邀请作者过江去看看他们的学校时，作者的心情如何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作者飞在半空中后感觉发生了什么变化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6" descr="5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7"/>
          <p:cNvSpPr/>
          <p:nvPr/>
        </p:nvSpPr>
        <p:spPr>
          <a:xfrm>
            <a:off x="3276720" y="4267080"/>
            <a:ext cx="5562360" cy="1905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685800" y="1295280"/>
            <a:ext cx="4800600" cy="2133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685800" y="1371600"/>
            <a:ext cx="480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看着那晃荡的溜索，我心里直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  <a:ea typeface="楷体_GB2312"/>
              </a:rPr>
              <a:t>发怵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，实在没胆量将自己拴挂到那根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  <a:ea typeface="楷体_GB2312"/>
              </a:rPr>
              <a:t>孤悬颤抖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的细索上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276720" y="441972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  <a:ea typeface="楷体_GB2312"/>
              </a:rPr>
              <a:t>飘飘悠悠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就落了地，我真不敢相信自己竟是从那根细细的溜索上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  <a:ea typeface="楷体_GB2312"/>
              </a:rPr>
              <a:t>“飞”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过来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5715000" y="228600"/>
            <a:ext cx="3733920" cy="1981080"/>
          </a:xfrm>
          <a:prstGeom prst="cloudCallout">
            <a:avLst>
              <a:gd name="adj1" fmla="val -61013"/>
              <a:gd name="adj2" fmla="val 63462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 rot="21053400">
            <a:off x="5943600" y="68544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极度 恐惧、害怕 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1"/>
          <p:cNvSpPr/>
          <p:nvPr/>
        </p:nvSpPr>
        <p:spPr>
          <a:xfrm>
            <a:off x="-304920" y="3809880"/>
            <a:ext cx="3200400" cy="1752840"/>
          </a:xfrm>
          <a:prstGeom prst="cloudCallout">
            <a:avLst>
              <a:gd name="adj1" fmla="val 60365"/>
              <a:gd name="adj2" fmla="val 5543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228600" y="38862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飞行的快乐及战胜了恐惧的惊喜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3" descr="图片2"/>
          <p:cNvPicPr/>
          <p:nvPr/>
        </p:nvPicPr>
        <p:blipFill>
          <a:blip r:embed="rId2"/>
          <a:stretch/>
        </p:blipFill>
        <p:spPr>
          <a:xfrm>
            <a:off x="-152280" y="0"/>
            <a:ext cx="1295280" cy="2133720"/>
          </a:xfrm>
          <a:prstGeom prst="rect">
            <a:avLst/>
          </a:prstGeom>
          <a:ln w="0">
            <a:noFill/>
          </a:ln>
        </p:spPr>
      </p:pic>
      <p:sp>
        <p:nvSpPr>
          <p:cNvPr id="216" name="WordArt 15"/>
          <p:cNvSpPr txBox="1"/>
          <p:nvPr/>
        </p:nvSpPr>
        <p:spPr>
          <a:xfrm>
            <a:off x="1219320" y="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体会心情</a:t>
            </a:r>
            <a:endParaRPr b="1" lang="en-US" sz="2000" spc="1" strike="noStrike">
              <a:ln w="1260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2" descr="36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609480" y="838080"/>
            <a:ext cx="7239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457200" y="0"/>
            <a:ext cx="8001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366"/>
                </a:solidFill>
                <a:latin typeface="Arial"/>
              </a:rPr>
              <a:t>齐读课文</a:t>
            </a: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17</a:t>
            </a:r>
            <a:r>
              <a:rPr b="1" i="1" lang="zh-CN" sz="3600" spc="-1" strike="noStrike">
                <a:solidFill>
                  <a:srgbClr val="003366"/>
                </a:solidFill>
                <a:latin typeface="Arial"/>
              </a:rPr>
              <a:t>～</a:t>
            </a: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19</a:t>
            </a:r>
            <a:r>
              <a:rPr b="1" i="1" lang="zh-CN" sz="3600" spc="-1" strike="noStrike">
                <a:solidFill>
                  <a:srgbClr val="003366"/>
                </a:solidFill>
                <a:latin typeface="Arial"/>
              </a:rPr>
              <a:t>自然段，讨论交流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建在危崖上的学校好不好？他们为什么鼓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看他们的学校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380880" y="38098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飞的孩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得更高更高，更远更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思一样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380880" y="1981080"/>
            <a:ext cx="8229600" cy="1600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380880" y="20574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黑体"/>
              </a:rPr>
              <a:t>阿江他们再三邀请我去看他们的学校，是因为他们热爱自己的学校，爱学习，也喜欢在空中飞行的快乐，希望我能与他们一起分享快乐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990720" y="4800600"/>
            <a:ext cx="693396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14400" y="5105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黑体"/>
              </a:rPr>
              <a:t>前一个是指借溜索悬空渡江，后一个是指怒族孩子理想的腾飞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6" descr="u=2580628032,4014736751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17"/>
          <p:cNvGrpSpPr/>
          <p:nvPr/>
        </p:nvGrpSpPr>
        <p:grpSpPr>
          <a:xfrm>
            <a:off x="0" y="228600"/>
            <a:ext cx="2286000" cy="2590920"/>
            <a:chOff x="0" y="228600"/>
            <a:chExt cx="2286000" cy="2590920"/>
          </a:xfrm>
        </p:grpSpPr>
        <p:sp>
          <p:nvSpPr>
            <p:cNvPr id="227" name="AutoShape 5"/>
            <p:cNvSpPr/>
            <p:nvPr/>
          </p:nvSpPr>
          <p:spPr>
            <a:xfrm>
              <a:off x="0" y="228600"/>
              <a:ext cx="2286000" cy="259092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6"/>
            <p:cNvSpPr/>
            <p:nvPr/>
          </p:nvSpPr>
          <p:spPr>
            <a:xfrm>
              <a:off x="685800" y="380880"/>
              <a:ext cx="48888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7"/>
            <p:cNvSpPr/>
            <p:nvPr/>
          </p:nvSpPr>
          <p:spPr>
            <a:xfrm>
              <a:off x="353160" y="380880"/>
              <a:ext cx="139932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8000"/>
                  </a:solidFill>
                  <a:latin typeface="Arial"/>
                </a:rPr>
                <a:t>品读感悟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12"/>
          <p:cNvSpPr/>
          <p:nvPr/>
        </p:nvSpPr>
        <p:spPr>
          <a:xfrm>
            <a:off x="2819520" y="21337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2803680" y="1368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3108240" y="15969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2286000" y="1600200"/>
            <a:ext cx="6095880" cy="1810440"/>
          </a:xfrm>
          <a:prstGeom prst="rect">
            <a:avLst/>
          </a:prstGeom>
          <a:noFill/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课文通过“我”在怒江边认识了一个会飞的孩子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阿江，以及阿江和他的同学在艰苦的条件下学习，表现出怒族孩子坚强的意志，表达了“我”对怒族孩子的美好祝愿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"/>
          <p:cNvSpPr/>
          <p:nvPr/>
        </p:nvSpPr>
        <p:spPr>
          <a:xfrm>
            <a:off x="2286000" y="971640"/>
            <a:ext cx="70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9" descr="u=2580628032,4014736751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图片5"/>
          <p:cNvPicPr/>
          <p:nvPr/>
        </p:nvPicPr>
        <p:blipFill>
          <a:blip r:embed="rId2"/>
          <a:stretch/>
        </p:blipFill>
        <p:spPr>
          <a:xfrm>
            <a:off x="0" y="0"/>
            <a:ext cx="3276720" cy="12193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37" name="Text Box 6"/>
          <p:cNvSpPr/>
          <p:nvPr/>
        </p:nvSpPr>
        <p:spPr>
          <a:xfrm>
            <a:off x="609480" y="1371600"/>
            <a:ext cx="85345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讨论：阿江这群怒族孩子的童年生活幸福吗？为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课外阅读，了解有关少数民族孩子独特的生活经历，感受作者对孩子们深沉的爱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685800" y="251460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楷体_GB2312"/>
              </a:rPr>
              <a:t>老师有几句话要送给你们：这群怒族孩子、你们都是幸福的。老师希望同学们也和怒族孩子一样，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rial"/>
                <a:ea typeface="楷体_GB2312"/>
              </a:rPr>
              <a:t>无论在怎样的环境中都要勇敢、快乐、充满希望地去生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15B8-6665-422F-8C37-B627A10657D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u=3482857295,3052225787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u=4147143675,200624169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u=3888394999,1681611904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u=3384274344,1622673369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u=2685216574,3182492125&amp;fm=15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u=286512127,3591514775&amp;fm=15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0" y="0"/>
            <a:ext cx="91440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3366"/>
                </a:solidFill>
                <a:latin typeface="MT Extra"/>
                <a:ea typeface="MT Extra"/>
              </a:rPr>
              <a:t>同学们，刚才你们看到的就是怒江。你可以用哪些词语来形容它呢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仿宋_GB2312"/>
              </a:rPr>
              <a:t>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惊涛滚滚、横冲直撞、惊涛骇浪、雄浑之美、波澜壮阔、汹涌澎湃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…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0" y="30481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  <a:ea typeface="仿宋_GB2312"/>
              </a:rPr>
              <a:t> 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仿宋_GB2312"/>
              </a:rPr>
              <a:t>是啊，怒江两岸，危岩耸立，怒江激流正如它的名字一样，像一条发怒的野兽向前奔流，令人胆战心惊。如果要你从怒江上飞过去你敢吗？可是，有一群孩子每天都要从波涛汹涌的怒江上飞过来飞过去。让我们一起去拜访拜访他们吧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05:00:1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0:09Z</dcterms:modified>
  <cp:revision>6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