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8.jpeg" ContentType="image/jpeg"/>
  <Override PartName="/ppt/media/whoosh.wav" ContentType="audio/x-wav"/>
  <Override PartName="/ppt/media/image7.png" ContentType="image/png"/>
  <Override PartName="/ppt/media/explode.wav" ContentType="audio/x-wav"/>
  <Override PartName="/ppt/media/image6.png" ContentType="image/png"/>
  <Override PartName="/ppt/media/W1.WAV" ContentType="audio/x-wav"/>
  <Override PartName="/ppt/media/image5.jpeg" ContentType="image/jpeg"/>
  <Override PartName="/ppt/media/image18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image1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0112-FC4B-44DC-A070-3BAE44BD97D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3C9-2BA6-482C-AA64-DA274CFCE7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08F-9CF9-4F34-9E5C-476D88F8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203-7D01-46BD-86DD-E750D489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DF08-9BF7-4B94-A232-04B4510D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C7D-14D9-4B10-B6A3-CAEE5C95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D39-5ACF-4370-A8CA-9B7FBA86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970-8337-4B73-BCB7-E55CAF58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D4E-3518-4D07-A850-B723F09C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9AA-BBC2-405F-8F50-25EBA5E1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D9E-43AC-422C-8DF7-E14DA88F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956-1BE3-4014-A392-34A9BA5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16A-B937-43B7-B5EA-9BF89386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1A2-F212-45F6-BE7A-BF45E900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3969-0CD0-40FD-85A5-72FF1CEF7F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1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whoosh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mage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447920" y="1539720"/>
            <a:ext cx="594360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黑体"/>
              </a:rPr>
              <a:t>狐假虎威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矩形 4" descr=""/>
          <p:cNvPicPr/>
          <p:nvPr/>
        </p:nvPicPr>
        <p:blipFill>
          <a:blip r:embed="rId4"/>
          <a:stretch/>
        </p:blipFill>
        <p:spPr>
          <a:xfrm>
            <a:off x="1779480" y="60958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狐狸2"/>
          <p:cNvPicPr/>
          <p:nvPr/>
        </p:nvPicPr>
        <p:blipFill>
          <a:blip r:embed="rId1"/>
          <a:stretch/>
        </p:blipFill>
        <p:spPr>
          <a:xfrm>
            <a:off x="762120" y="611280"/>
            <a:ext cx="1952640" cy="1876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819520" y="1752480"/>
            <a:ext cx="47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怎么样？你看，各种野兽都怕我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90720" y="196524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百兽是因为怕狐狸而逃走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pic_27067202"/>
          <p:cNvPicPr/>
          <p:nvPr/>
        </p:nvPicPr>
        <p:blipFill>
          <a:blip r:embed="rId1"/>
          <a:stretch/>
        </p:blipFill>
        <p:spPr>
          <a:xfrm>
            <a:off x="1600200" y="762120"/>
            <a:ext cx="1676520" cy="812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676520" y="3610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百兽不怕狐狸而是怕狐狸后面的老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2438280" y="383868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1371600" y="5486400"/>
            <a:ext cx="7010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457200" y="54860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狐狸是借着老虎的威风把百兽吓跑的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_imgload (8)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寓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3520" y="2437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仿宋"/>
              </a:rPr>
              <a:t>借别人的势力欺压别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diamond.gif (4987 字节)"/>
          <p:cNvPicPr/>
          <p:nvPr/>
        </p:nvPicPr>
        <p:blipFill>
          <a:blip r:embed="rId2"/>
          <a:stretch/>
        </p:blipFill>
        <p:spPr>
          <a:xfrm>
            <a:off x="838080" y="609480"/>
            <a:ext cx="685800" cy="4572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990720" y="-2351160"/>
            <a:ext cx="6800760" cy="10998360"/>
            <a:chOff x="990720" y="-2351160"/>
            <a:chExt cx="6800760" cy="10998360"/>
          </a:xfrm>
        </p:grpSpPr>
        <p:sp>
          <p:nvSpPr>
            <p:cNvPr id="94" name="AutoShape 5"/>
            <p:cNvSpPr/>
            <p:nvPr/>
          </p:nvSpPr>
          <p:spPr>
            <a:xfrm>
              <a:off x="990720" y="-2351160"/>
              <a:ext cx="6800760" cy="109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6"/>
            <p:cNvSpPr/>
            <p:nvPr/>
          </p:nvSpPr>
          <p:spPr>
            <a:xfrm>
              <a:off x="990720" y="846000"/>
              <a:ext cx="6800760" cy="4604040"/>
            </a:xfrm>
            <a:prstGeom prst="irregularSeal1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ff"/>
                  </a:solidFill>
                  <a:latin typeface="华文行楷"/>
                  <a:ea typeface="华文行楷"/>
                </a:rPr>
                <a:t>续写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狐狸与老虎以后会发生一些什么事呢？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7"/>
          <p:cNvSpPr/>
          <p:nvPr/>
        </p:nvSpPr>
        <p:spPr>
          <a:xfrm>
            <a:off x="1835280" y="549360"/>
            <a:ext cx="42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  <a:ea typeface="新宋体"/>
              </a:rPr>
              <a:t>思维拓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1523880" y="5450040"/>
            <a:ext cx="66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0061205_aa8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3"/>
          <p:cNvSpPr txBox="1"/>
          <p:nvPr/>
        </p:nvSpPr>
        <p:spPr>
          <a:xfrm>
            <a:off x="1600200" y="2362320"/>
            <a:ext cx="3733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谢谢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E821-77D6-47BD-95DE-96067758D0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_imgload (1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33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3124080"/>
            <a:ext cx="6477120" cy="29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老虎    狐狸     跟着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害怕    百兽     违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</a:rPr>
              <a:t>纷纷         得意洋洋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ucai270168"/>
          <p:cNvPicPr/>
          <p:nvPr/>
        </p:nvPicPr>
        <p:blipFill>
          <a:blip r:embed="rId1"/>
          <a:stretch/>
        </p:blipFill>
        <p:spPr>
          <a:xfrm>
            <a:off x="609480" y="1623960"/>
            <a:ext cx="1447920" cy="1424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2819520"/>
            <a:ext cx="8458200" cy="17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《狐假虎威》这课写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借（               ）的威风，吓跑了（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2133720" y="1447920"/>
            <a:ext cx="4647960" cy="838080"/>
          </a:xfrm>
          <a:prstGeom prst="cloudCallout">
            <a:avLst>
              <a:gd name="adj1" fmla="val -52833"/>
              <a:gd name="adj2" fmla="val 6325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考     考    你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2" name="W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sucai270168"/>
          <p:cNvPicPr/>
          <p:nvPr/>
        </p:nvPicPr>
        <p:blipFill>
          <a:blip r:embed="rId1"/>
          <a:stretch/>
        </p:blipFill>
        <p:spPr>
          <a:xfrm>
            <a:off x="609480" y="1623960"/>
            <a:ext cx="1447920" cy="1424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6019920" y="6172200"/>
            <a:ext cx="327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28600" y="2819520"/>
            <a:ext cx="845820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狐假虎威》这课写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借                  的威风，吓跑了（百兽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虎"/>
          <p:cNvPicPr/>
          <p:nvPr/>
        </p:nvPicPr>
        <p:blipFill>
          <a:blip r:embed="rId2"/>
          <a:stretch/>
        </p:blipFill>
        <p:spPr>
          <a:xfrm>
            <a:off x="1981080" y="3352680"/>
            <a:ext cx="10890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狐2"/>
          <p:cNvPicPr/>
          <p:nvPr/>
        </p:nvPicPr>
        <p:blipFill>
          <a:blip r:embed="rId3"/>
          <a:stretch/>
        </p:blipFill>
        <p:spPr>
          <a:xfrm>
            <a:off x="6248520" y="2085840"/>
            <a:ext cx="1676160" cy="15717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2133720" y="1447920"/>
            <a:ext cx="4647960" cy="838080"/>
          </a:xfrm>
          <a:prstGeom prst="cloudCallout">
            <a:avLst>
              <a:gd name="adj1" fmla="val -52833"/>
              <a:gd name="adj2" fmla="val 63259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考     考    你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_imgload (35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62120" y="114300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狐狸为什么借老虎的威风，它又是怎样借老虎威风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找出相关的语句，并用“（    ）”把它括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_imgload (7)"/>
          <p:cNvPicPr/>
          <p:nvPr/>
        </p:nvPicPr>
        <p:blipFill>
          <a:blip r:embed="rId1"/>
          <a:stretch/>
        </p:blipFill>
        <p:spPr>
          <a:xfrm>
            <a:off x="-69840" y="-69840"/>
            <a:ext cx="9201240" cy="68389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838080" y="762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狐狸2"/>
          <p:cNvPicPr/>
          <p:nvPr/>
        </p:nvPicPr>
        <p:blipFill>
          <a:blip r:embed="rId2"/>
          <a:stretch/>
        </p:blipFill>
        <p:spPr>
          <a:xfrm>
            <a:off x="304920" y="182880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982880" y="2209680"/>
            <a:ext cx="68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我是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老天爷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派来做百兽之王的，你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如果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吃了我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就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违抗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老天爷的命令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一定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隶书"/>
              </a:rPr>
              <a:t>会受到惩罚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447920" y="457200"/>
            <a:ext cx="4267080" cy="137160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谁来读一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_imgload (13)"/>
          <p:cNvPicPr/>
          <p:nvPr/>
        </p:nvPicPr>
        <p:blipFill>
          <a:blip r:embed="rId1"/>
          <a:stretch/>
        </p:blipFill>
        <p:spPr>
          <a:xfrm>
            <a:off x="0" y="76320"/>
            <a:ext cx="9067680" cy="678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狐狸2"/>
          <p:cNvPicPr/>
          <p:nvPr/>
        </p:nvPicPr>
        <p:blipFill>
          <a:blip r:embed="rId2"/>
          <a:stretch/>
        </p:blipFill>
        <p:spPr>
          <a:xfrm>
            <a:off x="838080" y="380880"/>
            <a:ext cx="1570320" cy="1571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1371600" y="11430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如果你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不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相信我的话，你就跟我到山林里走一趟。你可以看到，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各种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野兽见了我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都会</a:t>
            </a: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害怕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age00000"/>
          <p:cNvPicPr/>
          <p:nvPr/>
        </p:nvPicPr>
        <p:blipFill>
          <a:blip r:embed="rId1"/>
          <a:stretch/>
        </p:blipFill>
        <p:spPr>
          <a:xfrm>
            <a:off x="0" y="-13824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1160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林中的动物看见狐狸老虎过来它们又是怎么做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狐假虎威1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84120" y="2135160"/>
            <a:ext cx="5257800" cy="426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9" name="Text Box 4"/>
          <p:cNvSpPr/>
          <p:nvPr/>
        </p:nvSpPr>
        <p:spPr>
          <a:xfrm>
            <a:off x="5715000" y="274320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山林里的野兽见了，都纷纷逃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9T13:43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32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