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CHIMES.WAV" ContentType="audio/x-wav"/>
  <Override PartName="/ppt/media/image15.jpeg" ContentType="image/jpe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%E4%B9%8C%E9%B8%A6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E264-FCD0-4941-9E0A-C79670D33A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指导朗读第二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996B-8D68-407F-800B-35FDF059EB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304-0591-48F6-B1CF-ECF1D501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05D-6E8A-40D1-A43C-5321786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D13-9955-4501-8324-881E0453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EB6-944E-4A9F-98EC-B794A27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138-690E-4795-8130-9F2A210A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CC4F-2D9E-4528-949B-03DFBADC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99D-823B-4B3C-AF3B-32A65EB0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CAC4-50F1-4E3A-B05F-42AE8AE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96B-C1B4-461D-82EB-06DF1AC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7CE-DA3C-495E-8042-3701240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D47-3BCC-4744-8F94-308EB81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572-6C0D-40F4-9434-3D885E0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F05-DA15-42F1-90CF-73882A2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6F75-B4CB-4FDC-ABFD-098554D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C229-0088-49C9-83B5-C973403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1D16-7820-4E08-92BD-7FD52377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231-1134-401B-92AB-553BA543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38C-F93A-43C0-9086-E4FA645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315-EAE8-4B65-B9E8-C833DC8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941-4A73-4855-8C7F-9E97BE8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975-88F8-4B54-8403-8D34E2D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9D9-FF99-4703-9A07-76E5540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F89-10B1-4A2C-A19C-56EBFE4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4AD-29FC-4177-9F2F-F6DDDC34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F64A-702F-421D-93EE-C0A19CE01B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87E-7220-4069-87C9-3301B6EC1B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&#20044;&#40486;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8&#23567;&#40560;&#23398;&#39134;&#26391;&#35835;.sw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矩形 3" descr=""/>
          <p:cNvPicPr/>
          <p:nvPr/>
        </p:nvPicPr>
        <p:blipFill>
          <a:blip r:embed="rId2"/>
          <a:stretch/>
        </p:blipFill>
        <p:spPr>
          <a:xfrm>
            <a:off x="3071880" y="6093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219640" y="1251000"/>
            <a:ext cx="367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珠一转，对乌鸦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！您好吗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没有回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狐狸与乌鸦"/>
          <p:cNvPicPr/>
          <p:nvPr/>
        </p:nvPicPr>
        <p:blipFill>
          <a:blip r:embed="rId1"/>
          <a:stretch/>
        </p:blipFill>
        <p:spPr>
          <a:xfrm>
            <a:off x="-152280" y="936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食物"/>
          <p:cNvPicPr/>
          <p:nvPr/>
        </p:nvPicPr>
        <p:blipFill>
          <a:blip r:embed="rId2"/>
          <a:stretch/>
        </p:blipFill>
        <p:spPr>
          <a:xfrm>
            <a:off x="2362320" y="10666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56748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140600" y="3406680"/>
            <a:ext cx="1752480" cy="93240"/>
            <a:chOff x="7140600" y="3406680"/>
            <a:chExt cx="1752480" cy="93240"/>
          </a:xfrm>
        </p:grpSpPr>
        <p:sp>
          <p:nvSpPr>
            <p:cNvPr id="156" name="Freeform 8"/>
            <p:cNvSpPr/>
            <p:nvPr/>
          </p:nvSpPr>
          <p:spPr>
            <a:xfrm>
              <a:off x="7140600" y="342540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8016840" y="340668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5292720" y="4199040"/>
            <a:ext cx="1752480" cy="93240"/>
            <a:chOff x="5292720" y="4199040"/>
            <a:chExt cx="1752480" cy="93240"/>
          </a:xfrm>
        </p:grpSpPr>
        <p:sp>
          <p:nvSpPr>
            <p:cNvPr id="159" name="Freeform 11"/>
            <p:cNvSpPr/>
            <p:nvPr/>
          </p:nvSpPr>
          <p:spPr>
            <a:xfrm>
              <a:off x="5292720" y="421776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6168960" y="41990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7237440" y="4219560"/>
            <a:ext cx="1295280" cy="72720"/>
            <a:chOff x="7237440" y="4219560"/>
            <a:chExt cx="1295280" cy="72720"/>
          </a:xfrm>
        </p:grpSpPr>
        <p:sp>
          <p:nvSpPr>
            <p:cNvPr id="162" name="Freeform 14"/>
            <p:cNvSpPr/>
            <p:nvPr/>
          </p:nvSpPr>
          <p:spPr>
            <a:xfrm>
              <a:off x="7237440" y="4234320"/>
              <a:ext cx="647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7885080" y="4219560"/>
              <a:ext cx="647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5219640" y="4870440"/>
            <a:ext cx="1368000" cy="70920"/>
            <a:chOff x="5219640" y="4870440"/>
            <a:chExt cx="1368000" cy="70920"/>
          </a:xfrm>
        </p:grpSpPr>
        <p:sp>
          <p:nvSpPr>
            <p:cNvPr id="165" name="Freeform 17"/>
            <p:cNvSpPr/>
            <p:nvPr/>
          </p:nvSpPr>
          <p:spPr>
            <a:xfrm>
              <a:off x="5219640" y="4884840"/>
              <a:ext cx="684000" cy="56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5903640" y="4870440"/>
              <a:ext cx="684000" cy="56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19"/>
          <p:cNvSpPr/>
          <p:nvPr/>
        </p:nvSpPr>
        <p:spPr>
          <a:xfrm>
            <a:off x="7236000" y="486900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5364000" y="5661000"/>
            <a:ext cx="2737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484240" y="198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一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7787880" y="3468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2700360" y="1592280"/>
            <a:ext cx="5975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确的句子后面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珠一转，对乌鸦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好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）狐狸称乌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明狐狸很有礼貌。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）狐狸这样做，是为了骗取乌鸦嘴里的肉。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796000" y="45655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419720" y="620640"/>
            <a:ext cx="472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陪着笑脸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的孩子好吗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看了狐狸一眼，还是没有回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食物"/>
          <p:cNvPicPr/>
          <p:nvPr/>
        </p:nvPicPr>
        <p:blipFill>
          <a:blip r:embed="rId1"/>
          <a:stretch/>
        </p:blipFill>
        <p:spPr>
          <a:xfrm>
            <a:off x="1905120" y="8380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狐狸与乌鸦"/>
          <p:cNvPicPr/>
          <p:nvPr/>
        </p:nvPicPr>
        <p:blipFill>
          <a:blip r:embed="rId2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食物"/>
          <p:cNvPicPr/>
          <p:nvPr/>
        </p:nvPicPr>
        <p:blipFill>
          <a:blip r:embed="rId3"/>
          <a:stretch/>
        </p:blipFill>
        <p:spPr>
          <a:xfrm>
            <a:off x="2514600" y="114300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79" name="Line 6"/>
          <p:cNvSpPr/>
          <p:nvPr/>
        </p:nvSpPr>
        <p:spPr>
          <a:xfrm>
            <a:off x="6732720" y="3573360"/>
            <a:ext cx="2016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4643280" y="4365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6372360" y="2060640"/>
            <a:ext cx="2520000" cy="93240"/>
            <a:chOff x="6372360" y="2060640"/>
            <a:chExt cx="2520000" cy="93240"/>
          </a:xfrm>
        </p:grpSpPr>
        <p:sp>
          <p:nvSpPr>
            <p:cNvPr id="182" name="Freeform 10"/>
            <p:cNvSpPr/>
            <p:nvPr/>
          </p:nvSpPr>
          <p:spPr>
            <a:xfrm>
              <a:off x="6372360" y="2079360"/>
              <a:ext cx="1260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"/>
            <p:cNvSpPr/>
            <p:nvPr/>
          </p:nvSpPr>
          <p:spPr>
            <a:xfrm>
              <a:off x="7632360" y="2060640"/>
              <a:ext cx="1260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4788000" y="2781360"/>
            <a:ext cx="2016000" cy="93240"/>
            <a:chOff x="4788000" y="2781360"/>
            <a:chExt cx="2016000" cy="93240"/>
          </a:xfrm>
        </p:grpSpPr>
        <p:sp>
          <p:nvSpPr>
            <p:cNvPr id="185" name="Freeform 13"/>
            <p:cNvSpPr/>
            <p:nvPr/>
          </p:nvSpPr>
          <p:spPr>
            <a:xfrm>
              <a:off x="4788000" y="280008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5796000" y="278136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8"/>
          <p:cNvSpPr/>
          <p:nvPr/>
        </p:nvSpPr>
        <p:spPr>
          <a:xfrm>
            <a:off x="6406920" y="2075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9"/>
          <p:cNvGrpSpPr/>
          <p:nvPr/>
        </p:nvGrpSpPr>
        <p:grpSpPr>
          <a:xfrm>
            <a:off x="6732720" y="2759040"/>
            <a:ext cx="2016000" cy="93240"/>
            <a:chOff x="6732720" y="2759040"/>
            <a:chExt cx="2016000" cy="93240"/>
          </a:xfrm>
        </p:grpSpPr>
        <p:sp>
          <p:nvSpPr>
            <p:cNvPr id="189" name="Freeform 20"/>
            <p:cNvSpPr/>
            <p:nvPr/>
          </p:nvSpPr>
          <p:spPr>
            <a:xfrm>
              <a:off x="6732720" y="277776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7740720" y="275904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4500720" y="3500280"/>
            <a:ext cx="1511280" cy="72720"/>
            <a:chOff x="4500720" y="3500280"/>
            <a:chExt cx="1511280" cy="72720"/>
          </a:xfrm>
        </p:grpSpPr>
        <p:sp>
          <p:nvSpPr>
            <p:cNvPr id="192" name="Freeform 23"/>
            <p:cNvSpPr/>
            <p:nvPr/>
          </p:nvSpPr>
          <p:spPr>
            <a:xfrm>
              <a:off x="4500720" y="3515040"/>
              <a:ext cx="755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5256360" y="3500280"/>
              <a:ext cx="755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25"/>
          <p:cNvSpPr/>
          <p:nvPr/>
        </p:nvSpPr>
        <p:spPr>
          <a:xfrm>
            <a:off x="4643280" y="5084640"/>
            <a:ext cx="3241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495680" y="8222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又摇摇尾巴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的羽毛真漂亮，麻雀比起您来，可就差多了。您的嗓子真好，谁都爱听您唱歌，您就唱几句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狐狸与乌鸦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食物"/>
          <p:cNvPicPr/>
          <p:nvPr/>
        </p:nvPicPr>
        <p:blipFill>
          <a:blip r:embed="rId2"/>
          <a:stretch/>
        </p:blipFill>
        <p:spPr>
          <a:xfrm>
            <a:off x="2514600" y="114300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5021280" y="3870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4716360" y="2060640"/>
            <a:ext cx="3958560" cy="144000"/>
            <a:chOff x="4716360" y="2060640"/>
            <a:chExt cx="3958560" cy="144000"/>
          </a:xfrm>
        </p:grpSpPr>
        <p:sp>
          <p:nvSpPr>
            <p:cNvPr id="200" name="Freeform 7"/>
            <p:cNvSpPr/>
            <p:nvPr/>
          </p:nvSpPr>
          <p:spPr>
            <a:xfrm>
              <a:off x="4716360" y="2089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6695640" y="2060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4716360" y="3284640"/>
            <a:ext cx="3958560" cy="144000"/>
            <a:chOff x="4716360" y="3284640"/>
            <a:chExt cx="3958560" cy="144000"/>
          </a:xfrm>
        </p:grpSpPr>
        <p:sp>
          <p:nvSpPr>
            <p:cNvPr id="203" name="Freeform 10"/>
            <p:cNvSpPr/>
            <p:nvPr/>
          </p:nvSpPr>
          <p:spPr>
            <a:xfrm>
              <a:off x="4716360" y="3313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6695640" y="3284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4716360" y="2637000"/>
            <a:ext cx="3958560" cy="144000"/>
            <a:chOff x="4716360" y="2637000"/>
            <a:chExt cx="3958560" cy="144000"/>
          </a:xfrm>
        </p:grpSpPr>
        <p:sp>
          <p:nvSpPr>
            <p:cNvPr id="206" name="Freeform 13"/>
            <p:cNvSpPr/>
            <p:nvPr/>
          </p:nvSpPr>
          <p:spPr>
            <a:xfrm>
              <a:off x="4716360" y="266616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>
              <a:off x="6695640" y="26370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4643280" y="3933720"/>
            <a:ext cx="3958560" cy="144000"/>
            <a:chOff x="4643280" y="3933720"/>
            <a:chExt cx="3958560" cy="144000"/>
          </a:xfrm>
        </p:grpSpPr>
        <p:sp>
          <p:nvSpPr>
            <p:cNvPr id="209" name="Freeform 16"/>
            <p:cNvSpPr/>
            <p:nvPr/>
          </p:nvSpPr>
          <p:spPr>
            <a:xfrm>
              <a:off x="4643280" y="396288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6622560" y="393372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859280" y="4508640"/>
            <a:ext cx="3958560" cy="144000"/>
            <a:chOff x="4859280" y="4508640"/>
            <a:chExt cx="3958560" cy="144000"/>
          </a:xfrm>
        </p:grpSpPr>
        <p:sp>
          <p:nvSpPr>
            <p:cNvPr id="212" name="Freeform 19"/>
            <p:cNvSpPr/>
            <p:nvPr/>
          </p:nvSpPr>
          <p:spPr>
            <a:xfrm>
              <a:off x="4859280" y="4537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6838560" y="4508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4643280" y="5084640"/>
            <a:ext cx="3958560" cy="144000"/>
            <a:chOff x="4643280" y="5084640"/>
            <a:chExt cx="3958560" cy="144000"/>
          </a:xfrm>
        </p:grpSpPr>
        <p:sp>
          <p:nvSpPr>
            <p:cNvPr id="215" name="Freeform 22"/>
            <p:cNvSpPr/>
            <p:nvPr/>
          </p:nvSpPr>
          <p:spPr>
            <a:xfrm>
              <a:off x="4643280" y="5113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6622560" y="5084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4714920" y="5661000"/>
            <a:ext cx="2880720" cy="72720"/>
            <a:chOff x="4714920" y="5661000"/>
            <a:chExt cx="2880720" cy="72720"/>
          </a:xfrm>
        </p:grpSpPr>
        <p:sp>
          <p:nvSpPr>
            <p:cNvPr id="218" name="Freeform 25"/>
            <p:cNvSpPr/>
            <p:nvPr/>
          </p:nvSpPr>
          <p:spPr>
            <a:xfrm>
              <a:off x="4714920" y="5675760"/>
              <a:ext cx="144036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6155280" y="5661000"/>
              <a:ext cx="144036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27"/>
          <p:cNvSpPr/>
          <p:nvPr/>
        </p:nvSpPr>
        <p:spPr>
          <a:xfrm>
            <a:off x="765432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35160" y="3875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561276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7654320" y="2655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460476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6143040" y="4470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8159040" y="449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165680" y="4818240"/>
            <a:ext cx="313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乌鸦和麻雀相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谁的羽毛漂亮？</a:t>
            </a: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XC4F8023"/>
          <p:cNvPicPr/>
          <p:nvPr/>
        </p:nvPicPr>
        <p:blipFill>
          <a:blip r:embed="rId1"/>
          <a:stretch/>
        </p:blipFill>
        <p:spPr>
          <a:xfrm>
            <a:off x="611280" y="620640"/>
            <a:ext cx="4032000" cy="388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XC4F8005"/>
          <p:cNvPicPr/>
          <p:nvPr/>
        </p:nvPicPr>
        <p:blipFill>
          <a:blip r:embed="rId2"/>
          <a:stretch/>
        </p:blipFill>
        <p:spPr>
          <a:xfrm>
            <a:off x="4859280" y="256536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4932360" y="76500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乌鸦的叫声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听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 flipH="1">
            <a:off x="4284000" y="1515960"/>
            <a:ext cx="4554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听了狐狸的话，非常得意，就唱了起来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刚一开口，肉就掉了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食物"/>
          <p:cNvPicPr/>
          <p:nvPr/>
        </p:nvPicPr>
        <p:blipFill>
          <a:blip r:embed="rId2"/>
          <a:stretch/>
        </p:blipFill>
        <p:spPr>
          <a:xfrm>
            <a:off x="2438280" y="114300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Line 5"/>
          <p:cNvSpPr/>
          <p:nvPr/>
        </p:nvSpPr>
        <p:spPr>
          <a:xfrm>
            <a:off x="5580000" y="234936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4500720" y="2997360"/>
            <a:ext cx="39193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4572000" y="3573360"/>
            <a:ext cx="3816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500720" y="4149720"/>
            <a:ext cx="3958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4572000" y="4869000"/>
            <a:ext cx="3743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207120" y="23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非常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很高兴"/>
          <p:cNvPicPr/>
          <p:nvPr/>
        </p:nvPicPr>
        <p:blipFill>
          <a:blip r:embed="rId1"/>
          <a:stretch/>
        </p:blipFill>
        <p:spPr>
          <a:xfrm>
            <a:off x="108000" y="42840"/>
            <a:ext cx="8964720" cy="6813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590920" y="55008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5003640" y="1052640"/>
            <a:ext cx="1371600" cy="1066680"/>
            <a:chOff x="5003640" y="1052640"/>
            <a:chExt cx="1371600" cy="1066680"/>
          </a:xfrm>
        </p:grpSpPr>
        <p:sp>
          <p:nvSpPr>
            <p:cNvPr id="243" name="AutoShape 5"/>
            <p:cNvSpPr/>
            <p:nvPr/>
          </p:nvSpPr>
          <p:spPr>
            <a:xfrm>
              <a:off x="5003640" y="1052640"/>
              <a:ext cx="1371600" cy="1066680"/>
            </a:xfrm>
            <a:prstGeom prst="wedgeEllipseCallout">
              <a:avLst>
                <a:gd name="adj1" fmla="val -74305"/>
                <a:gd name="adj2" fmla="val 6264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ject 6" descr=""/>
            <p:cNvPicPr/>
            <p:nvPr/>
          </p:nvPicPr>
          <p:blipFill>
            <a:blip r:embed="rId2"/>
            <a:stretch/>
          </p:blipFill>
          <p:spPr>
            <a:xfrm>
              <a:off x="5232240" y="1204920"/>
              <a:ext cx="1066680" cy="74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 Box 7"/>
          <p:cNvSpPr/>
          <p:nvPr/>
        </p:nvSpPr>
        <p:spPr>
          <a:xfrm>
            <a:off x="5376960" y="333360"/>
            <a:ext cx="37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乌鸦没有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211640" y="371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乌鸦看了狐狸一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还是没有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700360" y="535932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非常得意，就唱了起来</a:t>
            </a:r>
            <a:r>
              <a:rPr b="1" lang="en-US" sz="4000" spc="-1" strike="noStrike">
                <a:solidFill>
                  <a:srgbClr val="9900ff"/>
                </a:solidFill>
                <a:latin typeface="宋体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700360" y="535320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非常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4%B9%8C%E9%B8%A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68360" y="1413000"/>
            <a:ext cx="8077320" cy="1108440"/>
            <a:chOff x="468360" y="1413000"/>
            <a:chExt cx="8077320" cy="1108440"/>
          </a:xfrm>
        </p:grpSpPr>
        <p:sp>
          <p:nvSpPr>
            <p:cNvPr id="250" name="Text Box 3"/>
            <p:cNvSpPr/>
            <p:nvPr/>
          </p:nvSpPr>
          <p:spPr>
            <a:xfrm>
              <a:off x="468360" y="2036880"/>
              <a:ext cx="36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好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4"/>
            <p:cNvSpPr/>
            <p:nvPr/>
          </p:nvSpPr>
          <p:spPr>
            <a:xfrm>
              <a:off x="5192640" y="1413000"/>
              <a:ext cx="335304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没有回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"/>
          <p:cNvGrpSpPr/>
          <p:nvPr/>
        </p:nvGrpSpPr>
        <p:grpSpPr>
          <a:xfrm>
            <a:off x="514440" y="1052640"/>
            <a:ext cx="7010280" cy="840240"/>
            <a:chOff x="514440" y="1052640"/>
            <a:chExt cx="7010280" cy="840240"/>
          </a:xfrm>
        </p:grpSpPr>
        <p:sp>
          <p:nvSpPr>
            <p:cNvPr id="253" name="Text Box 6"/>
            <p:cNvSpPr/>
            <p:nvPr/>
          </p:nvSpPr>
          <p:spPr>
            <a:xfrm>
              <a:off x="514440" y="1128600"/>
              <a:ext cx="320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狐狸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5467320" y="1052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57200" y="2943360"/>
            <a:ext cx="8229600" cy="564480"/>
            <a:chOff x="457200" y="2943360"/>
            <a:chExt cx="8229600" cy="564480"/>
          </a:xfrm>
        </p:grpSpPr>
        <p:sp>
          <p:nvSpPr>
            <p:cNvPr id="256" name="Text Box 9"/>
            <p:cNvSpPr/>
            <p:nvPr/>
          </p:nvSpPr>
          <p:spPr>
            <a:xfrm>
              <a:off x="457200" y="2987280"/>
              <a:ext cx="43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的孩子好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5181480" y="294336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看了狐狸一眼，还是没有回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68360" y="4268880"/>
            <a:ext cx="8227440" cy="549000"/>
            <a:chOff x="468360" y="4268880"/>
            <a:chExt cx="8227440" cy="549000"/>
          </a:xfrm>
        </p:grpSpPr>
        <p:sp>
          <p:nvSpPr>
            <p:cNvPr id="259" name="Text Box 12"/>
            <p:cNvSpPr/>
            <p:nvPr/>
          </p:nvSpPr>
          <p:spPr>
            <a:xfrm>
              <a:off x="468360" y="4297320"/>
              <a:ext cx="418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的羽毛真漂亮，麻雀比起您来，可就差多了。您的嗓子真好，谁都爱听您唱歌。您唱几句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5190840" y="426888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听了狐狸的话，非常得意，就唱了起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755640" y="17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珠一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55640" y="26226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着笑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755640" y="39178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摇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1835280" y="1773360"/>
            <a:ext cx="55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鸦的肉被骗走了，她会怎么想，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叼起肉跑走后他又会怎么想，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这只乌鸦还会上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"/>
          <p:cNvSpPr/>
          <p:nvPr/>
        </p:nvSpPr>
        <p:spPr>
          <a:xfrm>
            <a:off x="1692360" y="59086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755640" y="2349360"/>
            <a:ext cx="79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爱听好话，容易上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95280" y="3762360"/>
            <a:ext cx="84978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闪光的东西并都是金子，动听的语言并不都是好话。</a:t>
            </a:r>
            <a:r>
              <a:rPr b="1" lang="zh-CN" sz="5400" spc="-1" strike="noStrike">
                <a:solidFill>
                  <a:srgbClr val="0000cc"/>
                </a:solidFill>
                <a:latin typeface="华文楷体"/>
                <a:ea typeface="华文楷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                       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——</a:t>
            </a: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24000" y="949320"/>
            <a:ext cx="82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了课文你明白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85840" y="1844640"/>
            <a:ext cx="8286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边看课文，一边听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2"/>
              </a:rPr>
              <a:t>朗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57120" y="2637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大声读课文几遍，长句子或难读的句子多读几遍，做到不错读，不漏读，不重读，不打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57120" y="46702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课文标上自然小节，说说每一节写了什么？再说说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0920" y="10717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971640" y="1413000"/>
            <a:ext cx="8172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根据课文内容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狸对乌鸦说了（     ）次话。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的只有一个，就是（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乌鸦喜欢（               ）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了狐狸的当，嘴里的肉掉下来被（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07672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364000" y="2421000"/>
            <a:ext cx="29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骗取乌鸦嘴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859280" y="29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奉承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892160" y="39178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叼走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187280" y="29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57120" y="1741320"/>
            <a:ext cx="82868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：一棵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：叼起  叼着 叼走 叼香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：皮肉  牛肉  猪肉  肉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：珠子  眼珠  真珠  珠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：转动  转化  转身  回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357120" y="1741320"/>
            <a:ext cx="82868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：赔本  赔还  赔礼  赔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脸：脸皮  脸面  要脸  笑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：麻雀  麻布  麻木  麻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：差别  相差  差远  差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：刚才  刚好  刚正  刚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/>
          <p:cNvSpPr/>
          <p:nvPr/>
        </p:nvSpPr>
        <p:spPr>
          <a:xfrm>
            <a:off x="160200" y="1557360"/>
            <a:ext cx="883944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乌鸦和狐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续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乌鸦怀着十分沉重的心情向她的女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叙述着当年它被老狐狸骗去一片肉的经过，要小乌鸦永远记住这件事。小乌鸦听了连连点头，心里暗暗地想：妈妈可真傻，老狐狸耍了这么一点点伎俩就上当受骗，我才不回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是无巧不成书。一天，小乌鸦衔着一片肉，得意洋洋地站在树枝上。这时老狐狸 的儿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正好路过树下。它抬头一看，只见小乌鸦口中衔着一片肉，馋得口水都快流出来了，心想：我何不用当年爸爸骗老乌鸦的一套办法来骗小乌鸦呢？于是，它又耍起当年老狐狸骗老乌鸦的那一套，可是，小乌鸦连理也不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57120" y="91440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外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544680" y="907920"/>
            <a:ext cx="18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外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55640" y="160164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想：看来用爸爸当年那一套，对付小乌鸦是不行了，得另想办法。只见它眼珠一转，便破口大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，你们是世界上最坏的东西，谁碰到你们谁就倒霉，谁听到你们的叫声谁就遭殃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一听，勃然大怒，开口还击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知道就在这一刹那，小乌鸦嘴里的肉掉了下来。小狐狸叼起那块肉，得意洋洋地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呀小乌鸦，当年你的妈妈经不起夸，今天你为什么经不起骂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9518-DDB8-4546-B6C5-702AE550C3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95280" y="588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2843280" y="44280"/>
            <a:ext cx="3024000" cy="760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214200" y="1557360"/>
            <a:ext cx="86407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  树林  树枝  嘴里  叼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馋得直流口水  眼珠子一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  赔着笑脸  回答  麻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羽毛  漂亮 差多了  摇摇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得意  刚一开口  叼起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溜烟跑掉了   乌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7858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4624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9626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000840" y="314640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62480" y="3144960"/>
          <a:ext cx="1752480" cy="149832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47720" y="321624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矩形 12"/>
          <p:cNvSpPr/>
          <p:nvPr/>
        </p:nvSpPr>
        <p:spPr>
          <a:xfrm>
            <a:off x="1000080" y="1428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891240" y="1430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6370920" y="14288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6391440" y="3075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3899160" y="3073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"/>
          <p:cNvSpPr/>
          <p:nvPr/>
        </p:nvSpPr>
        <p:spPr>
          <a:xfrm>
            <a:off x="1176480" y="31449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00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矩形 21"/>
          <p:cNvSpPr/>
          <p:nvPr/>
        </p:nvSpPr>
        <p:spPr>
          <a:xfrm>
            <a:off x="50004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2891160" y="4859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86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矩形 26"/>
          <p:cNvSpPr/>
          <p:nvPr/>
        </p:nvSpPr>
        <p:spPr>
          <a:xfrm>
            <a:off x="500076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072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26"/>
          <p:cNvSpPr/>
          <p:nvPr/>
        </p:nvSpPr>
        <p:spPr>
          <a:xfrm>
            <a:off x="728676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57120" y="82404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5"/>
          <p:cNvSpPr/>
          <p:nvPr/>
        </p:nvSpPr>
        <p:spPr>
          <a:xfrm>
            <a:off x="3613320" y="321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86421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"/>
          <p:cNvGrpSpPr/>
          <p:nvPr/>
        </p:nvGrpSpPr>
        <p:grpSpPr>
          <a:xfrm>
            <a:off x="1042920" y="996840"/>
            <a:ext cx="7772400" cy="3821400"/>
            <a:chOff x="1042920" y="996840"/>
            <a:chExt cx="7772400" cy="3821400"/>
          </a:xfrm>
        </p:grpSpPr>
        <p:sp>
          <p:nvSpPr>
            <p:cNvPr id="133" name="Text Box 4"/>
            <p:cNvSpPr/>
            <p:nvPr/>
          </p:nvSpPr>
          <p:spPr>
            <a:xfrm>
              <a:off x="5965920" y="996840"/>
              <a:ext cx="222264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狐狸，也叫“草狐”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赤狐”、“红狐”，属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乳动物。尖尖的嘴巴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细长的身体，三角形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耳朵，细软、稠密而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松的毛，又大又长的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1042920" y="4194000"/>
              <a:ext cx="77724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巴，有点像狼，但比狼小。一年四季它吃的食物，绝大多数是为害农田的害鼠（田鼠、黄鼠、仓鼠）、野兔、小鸟和昆虫等，对农业生产有保护作用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BB07-L"/>
          <p:cNvPicPr/>
          <p:nvPr/>
        </p:nvPicPr>
        <p:blipFill>
          <a:blip r:embed="rId2"/>
          <a:stretch/>
        </p:blipFill>
        <p:spPr>
          <a:xfrm>
            <a:off x="647640" y="98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XC4F8005"/>
          <p:cNvPicPr/>
          <p:nvPr/>
        </p:nvPicPr>
        <p:blipFill>
          <a:blip r:embed="rId1"/>
          <a:stretch/>
        </p:blipFill>
        <p:spPr>
          <a:xfrm>
            <a:off x="1042920" y="603360"/>
            <a:ext cx="5764320" cy="3112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50920" y="3716280"/>
            <a:ext cx="86979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乌鸦，在我国分布甚广，北自东北，南到广东，西抵甘肃，东至台湾，都有乌鸦居留。它的全身羽毛鸟黑，在强光照射下，头、颈和身体下面的羽毛出蓝紫色光辉，它的嘴和脚都是黑色。乌鸦的叫声粗厉而单调，不好听，全身乌黑难看，惹人厌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09480" y="2000160"/>
            <a:ext cx="8153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一读：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狐狸看见乌鸦嘴里的肉，他会怎么想？乌鸦听了狐狸的话是怎么想的，怎么做的？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一划：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浪线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出狐狸说的话， 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线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出乌鸦表现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议一议：狐狸怎样行骗及乌鸦的表现。（表情、动作、语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125000" y="1071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学习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狐狸与乌鸦"/>
          <p:cNvPicPr/>
          <p:nvPr/>
        </p:nvPicPr>
        <p:blipFill>
          <a:blip r:embed="rId1"/>
          <a:stretch/>
        </p:blipFill>
        <p:spPr>
          <a:xfrm>
            <a:off x="-7632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3635280" y="132228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在树林里找吃的。他来到一棵大树下，看见乌鸦正站在树枝上，嘴里叼着一片肉。狐狸馋得直流口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食物"/>
          <p:cNvPicPr/>
          <p:nvPr/>
        </p:nvPicPr>
        <p:blipFill>
          <a:blip r:embed="rId2"/>
          <a:stretch/>
        </p:blipFill>
        <p:spPr>
          <a:xfrm>
            <a:off x="2454120" y="990720"/>
            <a:ext cx="66996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594840" y="498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直流口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42Z</dcterms:modified>
  <cp:revision>1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