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851B9-B732-43CC-BA50-FD8DE95E368E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5.xml"/><Relationship Id="rId24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74A81-F1E5-4A1E-BB92-3AA3B0F73ACC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7D9DC-247E-41B1-8B2A-4713589681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CCC9E-3EAC-4E59-8243-9034D0D59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3EA51-FBDF-40C9-ABC6-74C3292AC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60D8-8D04-4F66-AF03-350E87D8C6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6A3E4-59FF-49B8-9362-0E304CE93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721E-144C-4CBA-A404-DE936525A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0295B-A447-4B2B-9B90-79F91BE0E5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7E99A-9CE8-42B8-8EFD-E37D266F1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DC31D-9AAD-4EAA-A3BC-1FF1C3628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624D7-8056-421B-B3A9-67E58B274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D492C-D171-4AC7-AE4F-1943110FB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9AEFA-519E-4248-B201-BD7E3B526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5077F-1164-4970-BD73-75EF8CBA018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7"/>
          <p:cNvSpPr/>
          <p:nvPr/>
        </p:nvSpPr>
        <p:spPr>
          <a:xfrm>
            <a:off x="755640" y="1400040"/>
            <a:ext cx="46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湘教版小学语文第二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2340000" y="2637000"/>
            <a:ext cx="4105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Arial"/>
              </a:rPr>
              <a:t>和 平 鸽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3"/>
          <p:cNvSpPr/>
          <p:nvPr/>
        </p:nvSpPr>
        <p:spPr>
          <a:xfrm>
            <a:off x="1982520" y="551664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00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"/>
          <p:cNvSpPr/>
          <p:nvPr/>
        </p:nvSpPr>
        <p:spPr>
          <a:xfrm>
            <a:off x="2484360" y="2349360"/>
            <a:ext cx="3382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15"/>
          <p:cNvSpPr/>
          <p:nvPr/>
        </p:nvSpPr>
        <p:spPr>
          <a:xfrm>
            <a:off x="1476360" y="1341360"/>
            <a:ext cx="251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想一想，填一填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21"/>
          <p:cNvSpPr/>
          <p:nvPr/>
        </p:nvSpPr>
        <p:spPr>
          <a:xfrm>
            <a:off x="1908000" y="2349360"/>
            <a:ext cx="604872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黑体"/>
              </a:rPr>
              <a:t>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毕加索一边安慰伤心的老人，一边挥笔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画了一只鸽子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一边                        ，一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ine 22"/>
          <p:cNvSpPr/>
          <p:nvPr/>
        </p:nvSpPr>
        <p:spPr>
          <a:xfrm>
            <a:off x="2556000" y="3860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Line 23"/>
          <p:cNvSpPr/>
          <p:nvPr/>
        </p:nvSpPr>
        <p:spPr>
          <a:xfrm>
            <a:off x="4356000" y="3860640"/>
            <a:ext cx="180036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Line 24"/>
          <p:cNvSpPr/>
          <p:nvPr/>
        </p:nvSpPr>
        <p:spPr>
          <a:xfrm>
            <a:off x="2050920" y="443700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25"/>
          <p:cNvSpPr/>
          <p:nvPr/>
        </p:nvSpPr>
        <p:spPr>
          <a:xfrm>
            <a:off x="4500720" y="4149720"/>
            <a:ext cx="28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42920" y="620280"/>
            <a:ext cx="43927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全文主旨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这篇课文讲述了鸽子成了和平的象征，表达了作者的美好愿望：热爱和平，努力维护世界和平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-900000" y="1267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作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826560" y="2492280"/>
            <a:ext cx="51231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朋友，回家后，可不要忘了，把这个故事讲给爸爸、妈妈、爷爷、奶奶听哦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WordArt 4"/>
          <p:cNvSpPr txBox="1"/>
          <p:nvPr/>
        </p:nvSpPr>
        <p:spPr>
          <a:xfrm>
            <a:off x="2340000" y="2276640"/>
            <a:ext cx="3960720" cy="27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b2b2b2"/>
                  </a:solidFill>
                  <a:round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宋体"/>
              </a:rPr>
              <a:t>谢谢指导</a:t>
            </a:r>
            <a:endParaRPr b="1" lang="en-US" sz="1800" spc="1" strike="noStrike">
              <a:ln w="12600">
                <a:solidFill>
                  <a:srgbClr val="b2b2b2"/>
                </a:solidFill>
                <a:round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CFCCB-E07D-4C0B-8EE8-3317CBAB20EE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学习目标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600200"/>
            <a:ext cx="5770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学习本课生字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理解课文内容，知道鸽子象征和平的原因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激发热爱和平、维护和平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2556000" y="2642040"/>
            <a:ext cx="4033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Arial"/>
                <a:ea typeface="黑体"/>
              </a:rPr>
              <a:t>鸽子就是鸽子嘛，为什么叫它和平鸽呢？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文本框 1"/>
          <p:cNvSpPr/>
          <p:nvPr/>
        </p:nvSpPr>
        <p:spPr>
          <a:xfrm>
            <a:off x="1363680" y="5332320"/>
            <a:ext cx="608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8"/>
          <p:cNvSpPr/>
          <p:nvPr/>
        </p:nvSpPr>
        <p:spPr>
          <a:xfrm>
            <a:off x="1547640" y="2637000"/>
            <a:ext cx="6050160" cy="414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占      哭     孙    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活     刀      边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1979640" y="2492280"/>
            <a:ext cx="93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12"/>
          <p:cNvSpPr/>
          <p:nvPr/>
        </p:nvSpPr>
        <p:spPr>
          <a:xfrm>
            <a:off x="1476360" y="1989000"/>
            <a:ext cx="14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hà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3"/>
          <p:cNvSpPr/>
          <p:nvPr/>
        </p:nvSpPr>
        <p:spPr>
          <a:xfrm>
            <a:off x="3059280" y="198900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K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4"/>
          <p:cNvSpPr/>
          <p:nvPr/>
        </p:nvSpPr>
        <p:spPr>
          <a:xfrm>
            <a:off x="4211640" y="191628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ū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5"/>
          <p:cNvSpPr/>
          <p:nvPr/>
        </p:nvSpPr>
        <p:spPr>
          <a:xfrm>
            <a:off x="5580000" y="1989000"/>
            <a:ext cx="144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sǐ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6"/>
          <p:cNvSpPr/>
          <p:nvPr/>
        </p:nvSpPr>
        <p:spPr>
          <a:xfrm>
            <a:off x="1476360" y="400536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hu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7"/>
          <p:cNvSpPr/>
          <p:nvPr/>
        </p:nvSpPr>
        <p:spPr>
          <a:xfrm>
            <a:off x="2771640" y="4005360"/>
            <a:ext cx="15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dā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8"/>
          <p:cNvSpPr/>
          <p:nvPr/>
        </p:nvSpPr>
        <p:spPr>
          <a:xfrm>
            <a:off x="4048200" y="54450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9"/>
          <p:cNvSpPr/>
          <p:nvPr/>
        </p:nvSpPr>
        <p:spPr>
          <a:xfrm>
            <a:off x="4140360" y="4005360"/>
            <a:ext cx="143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黑体"/>
              </a:rPr>
              <a:t>biā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21"/>
          <p:cNvSpPr/>
          <p:nvPr/>
        </p:nvSpPr>
        <p:spPr>
          <a:xfrm>
            <a:off x="3117960" y="907920"/>
            <a:ext cx="237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会写的生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8"/>
          <p:cNvSpPr/>
          <p:nvPr/>
        </p:nvSpPr>
        <p:spPr>
          <a:xfrm>
            <a:off x="1619280" y="1916280"/>
            <a:ext cx="57261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攻占  哭诉  孙子   打死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悲痛  安慰  伤心   一边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和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9"/>
          <p:cNvSpPr/>
          <p:nvPr/>
        </p:nvSpPr>
        <p:spPr>
          <a:xfrm>
            <a:off x="1619280" y="981000"/>
            <a:ext cx="2232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Arial"/>
                <a:ea typeface="黑体"/>
                <a:hlinkClick r:id="rId1" action="ppaction://hlinksldjump"/>
              </a:rPr>
              <a:t>词语大盘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6" descr=""/>
          <p:cNvPicPr/>
          <p:nvPr/>
        </p:nvPicPr>
        <p:blipFill>
          <a:blip r:embed="rId1"/>
          <a:stretch/>
        </p:blipFill>
        <p:spPr>
          <a:xfrm>
            <a:off x="5038560" y="3699000"/>
            <a:ext cx="3565800" cy="27432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5" descr=""/>
          <p:cNvPicPr/>
          <p:nvPr/>
        </p:nvPicPr>
        <p:blipFill>
          <a:blip r:embed="rId2"/>
          <a:stretch/>
        </p:blipFill>
        <p:spPr>
          <a:xfrm>
            <a:off x="4600440" y="836640"/>
            <a:ext cx="4543560" cy="28098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4" descr=""/>
          <p:cNvPicPr/>
          <p:nvPr/>
        </p:nvPicPr>
        <p:blipFill>
          <a:blip r:embed="rId3"/>
          <a:stretch/>
        </p:blipFill>
        <p:spPr>
          <a:xfrm>
            <a:off x="135000" y="1208160"/>
            <a:ext cx="4118040" cy="5245200"/>
          </a:xfrm>
          <a:prstGeom prst="rect">
            <a:avLst/>
          </a:prstGeom>
          <a:ln w="0">
            <a:noFill/>
          </a:ln>
        </p:spPr>
      </p:pic>
      <p:sp>
        <p:nvSpPr>
          <p:cNvPr id="71" name="WordArt 7"/>
          <p:cNvSpPr txBox="1"/>
          <p:nvPr/>
        </p:nvSpPr>
        <p:spPr>
          <a:xfrm>
            <a:off x="3638520" y="260280"/>
            <a:ext cx="1866960" cy="457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3333cc"/>
                  </a:solidFill>
                  <a:round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宋体"/>
              </a:rPr>
              <a:t>课文欣赏</a:t>
            </a:r>
            <a:endParaRPr b="1" lang="en-US" sz="1800" spc="1" strike="noStrike">
              <a:ln w="12600">
                <a:solidFill>
                  <a:srgbClr val="3333cc"/>
                </a:solidFill>
                <a:round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84360" y="981000"/>
            <a:ext cx="5897520" cy="46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-147636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思考问题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5338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忧虑”是什么意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邻居米什老伯捧着一只死鸽子闯了进了，哭诉了哪些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米什老伯向毕加索哭诉了一件什么事？他请求毕加索干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-181080" y="1557000"/>
            <a:ext cx="6500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思考下列问题：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68000" y="2708280"/>
            <a:ext cx="5554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毕加索听来米什老人的哭诉后，他的心情怎样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他是怎么做的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安慰”是什么意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0T16:11:33Z</dcterms:created>
  <dc:creator>第一PPT模板网-WWW.1PPT.COM</dc:creator>
  <dc:description>第一PPT模板网-WWW.1PPT.COM</dc:description>
  <cp:keywords>第一PPT模板网-WWW.1PPT.COM</cp:keywords>
  <dc:language>en-US</dc:language>
  <cp:lastModifiedBy>xinxing</cp:lastModifiedBy>
  <dcterms:modified xsi:type="dcterms:W3CDTF">2017-04-16T23:38:17Z</dcterms:modified>
  <cp:revision>17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</Properties>
</file>