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6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projctor.wav" ContentType="audio/x-wav"/>
  <Override PartName="/ppt/media/image18.png" ContentType="image/png"/>
  <Override PartName="/ppt/media/image15.jpeg" ContentType="image/jpeg"/>
  <Override PartName="/ppt/media/type.wav" ContentType="audio/x-wav"/>
  <Override PartName="/ppt/media/explode.wav" ContentType="audio/x-wav"/>
  <Override PartName="/ppt/media/image12.jpeg" ContentType="image/jpeg"/>
  <Override PartName="/ppt/media/camera.wav" ContentType="audio/x-wav"/>
  <Override PartName="/ppt/media/image14.jpeg" ContentType="image/jpeg"/>
  <Override PartName="/ppt/media/image13.jpeg" ContentType="image/jpeg"/>
  <Override PartName="/ppt/media/image11.jpeg" ContentType="image/jpeg"/>
  <Override PartName="/ppt/media/image10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CA2-3AB2-4BA7-8C44-E1BDD86CB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39F-6757-48AB-8F7C-E41A76C9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438-5156-410F-BBA4-6A85E3C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CBF-F267-4066-8CC9-C2EF182C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D68-2AAE-4CCB-AB5E-5A638C67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315-E6C9-4D13-8942-76347CE2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B37-4274-4A0A-8429-47FBFED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575-4284-49CD-8DA0-61FF030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97E-396B-4D5A-AAEA-5660DB81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5CB-1A1D-4C7A-B067-7CF43201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A69-8560-4212-89A9-C0CBF9E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C72-A2B3-4BCD-961B-05F8E96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B94-31E9-43D6-81CD-B70CDC4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3D6-CAE2-4F93-9CAB-2151A7B5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AC4-8A4A-400A-A0FC-F74DCCFB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>
            <a:hlinkClick r:id="rId2" action="ppaction://hlinksldjump"/>
          </p:cNvPr>
          <p:cNvSpPr/>
          <p:nvPr/>
        </p:nvSpPr>
        <p:spPr>
          <a:xfrm>
            <a:off x="5353200" y="26676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>
            <a:hlinkClick r:id="" action="ppaction://hlinkshowjump?jump=nextslide"/>
            <a:hlinkClick r:id="rId3"/>
          </p:cNvPr>
          <p:cNvSpPr/>
          <p:nvPr/>
        </p:nvSpPr>
        <p:spPr>
          <a:xfrm>
            <a:off x="304920" y="30492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>
            <a:hlinkClick r:id="rId4" action="ppaction://hlinksldjump"/>
          </p:cNvPr>
          <p:cNvSpPr/>
          <p:nvPr/>
        </p:nvSpPr>
        <p:spPr>
          <a:xfrm>
            <a:off x="304920" y="426708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>
            <a:hlinkClick r:id="rId5" action="ppaction://hlinksldjump"/>
          </p:cNvPr>
          <p:cNvSpPr/>
          <p:nvPr/>
        </p:nvSpPr>
        <p:spPr>
          <a:xfrm>
            <a:off x="5334120" y="4305240"/>
            <a:ext cx="350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184572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9215"/>
                </a:srgbClr>
              </a:gs>
              <a:gs pos="100000">
                <a:srgbClr val="cc66ff">
                  <a:alpha val="73333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9810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仙桃石  石盘   巨石  山峰                        胳膊   风景区   脖子  每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都峰   著名  奇形怪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987640" y="765000"/>
            <a:ext cx="50292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cccc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中宋"/>
              </a:rPr>
              <a:t>你们认识这些词语吗？</a:t>
            </a:r>
            <a:endParaRPr b="1" lang="en-US" sz="2400" spc="1" strike="noStrike">
              <a:ln w="12600">
                <a:solidFill>
                  <a:srgbClr val="33cccc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11" name="Picture 5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295280" y="914400"/>
            <a:ext cx="7543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  其  仙  盘  峰          当  著  形  状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  巨  胳  膊  脖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048120" y="457200"/>
            <a:ext cx="46479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cccc"/>
                  </a:solidFill>
                  <a:round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我会认</a:t>
            </a:r>
            <a:endParaRPr b="0" lang="en-US" sz="2400" spc="1" strike="noStrike">
              <a:ln w="12600">
                <a:solidFill>
                  <a:srgbClr val="33cccc"/>
                </a:solidFill>
                <a:round/>
              </a:ln>
              <a:solidFill>
                <a:srgbClr val="ff99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6" name="Picture 5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1523880" y="5638680"/>
            <a:ext cx="1981440" cy="533520"/>
          </a:xfrm>
          <a:custGeom>
            <a:avLst/>
            <a:gdLst>
              <a:gd name="textAreaLeft" fmla="*/ 34560 w 1981440"/>
              <a:gd name="textAreaRight" fmla="*/ 1946880 w 1981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81" h="21600">
                <a:moveTo>
                  <a:pt x="0" y="0"/>
                </a:moveTo>
                <a:lnTo>
                  <a:pt x="80181" y="0"/>
                </a:lnTo>
                <a:lnTo>
                  <a:pt x="80181" y="21600"/>
                </a:lnTo>
                <a:lnTo>
                  <a:pt x="0" y="21600"/>
                </a:lnTo>
                <a:close/>
              </a:path>
              <a:path fill="lightenLess" w="80181" h="21600">
                <a:moveTo>
                  <a:pt x="0" y="0"/>
                </a:moveTo>
                <a:lnTo>
                  <a:pt x="80181" y="0"/>
                </a:lnTo>
                <a:lnTo>
                  <a:pt x="78781" y="1400"/>
                </a:lnTo>
                <a:lnTo>
                  <a:pt x="1400" y="1400"/>
                </a:lnTo>
                <a:close/>
              </a:path>
              <a:path fill="darken" w="80181" h="21600">
                <a:moveTo>
                  <a:pt x="80181" y="0"/>
                </a:moveTo>
                <a:lnTo>
                  <a:pt x="80181" y="21600"/>
                </a:lnTo>
                <a:lnTo>
                  <a:pt x="78781" y="20200"/>
                </a:lnTo>
                <a:lnTo>
                  <a:pt x="78781" y="1400"/>
                </a:lnTo>
                <a:close/>
              </a:path>
              <a:path fill="darkenLess" w="80181" h="21600">
                <a:moveTo>
                  <a:pt x="8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1" y="20200"/>
                </a:lnTo>
                <a:close/>
              </a:path>
              <a:path fill="lighten" w="8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495680" y="5638680"/>
            <a:ext cx="3733920" cy="609840"/>
          </a:xfrm>
          <a:custGeom>
            <a:avLst/>
            <a:gdLst>
              <a:gd name="textAreaLeft" fmla="*/ 39240 w 3733920"/>
              <a:gd name="textAreaRight" fmla="*/ 3694680 w 37339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32187" h="21600">
                <a:moveTo>
                  <a:pt x="0" y="0"/>
                </a:moveTo>
                <a:lnTo>
                  <a:pt x="132187" y="0"/>
                </a:lnTo>
                <a:lnTo>
                  <a:pt x="132187" y="21600"/>
                </a:lnTo>
                <a:lnTo>
                  <a:pt x="0" y="21600"/>
                </a:lnTo>
                <a:close/>
              </a:path>
              <a:path fill="lightenLess" w="132187" h="21600">
                <a:moveTo>
                  <a:pt x="0" y="0"/>
                </a:moveTo>
                <a:lnTo>
                  <a:pt x="132187" y="0"/>
                </a:lnTo>
                <a:lnTo>
                  <a:pt x="130787" y="1400"/>
                </a:lnTo>
                <a:lnTo>
                  <a:pt x="1400" y="1400"/>
                </a:lnTo>
                <a:close/>
              </a:path>
              <a:path fill="darken" w="132187" h="21600">
                <a:moveTo>
                  <a:pt x="132187" y="0"/>
                </a:moveTo>
                <a:lnTo>
                  <a:pt x="132187" y="21600"/>
                </a:lnTo>
                <a:lnTo>
                  <a:pt x="130787" y="20200"/>
                </a:lnTo>
                <a:lnTo>
                  <a:pt x="130787" y="1400"/>
                </a:lnTo>
                <a:close/>
              </a:path>
              <a:path fill="darkenLess" w="132187" h="21600">
                <a:moveTo>
                  <a:pt x="132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787" y="20200"/>
                </a:lnTo>
                <a:close/>
              </a:path>
              <a:path fill="lighten" w="132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492360" y="1844640"/>
            <a:ext cx="2233800" cy="2233440"/>
            <a:chOff x="3492360" y="1844640"/>
            <a:chExt cx="2233800" cy="2233440"/>
          </a:xfrm>
        </p:grpSpPr>
        <p:sp>
          <p:nvSpPr>
            <p:cNvPr id="121" name="Rectangle 3"/>
            <p:cNvSpPr/>
            <p:nvPr/>
          </p:nvSpPr>
          <p:spPr>
            <a:xfrm>
              <a:off x="3492360" y="1844640"/>
              <a:ext cx="223380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492360" y="299700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4572000" y="1844640"/>
              <a:ext cx="144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684360" y="1844640"/>
            <a:ext cx="2233440" cy="2233440"/>
            <a:chOff x="684360" y="1844640"/>
            <a:chExt cx="2233440" cy="2233440"/>
          </a:xfrm>
        </p:grpSpPr>
        <p:sp>
          <p:nvSpPr>
            <p:cNvPr id="125" name="Rectangle 7"/>
            <p:cNvSpPr/>
            <p:nvPr/>
          </p:nvSpPr>
          <p:spPr>
            <a:xfrm>
              <a:off x="684360" y="184464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684360" y="299700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1763280" y="184464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WordArt 10"/>
          <p:cNvSpPr txBox="1"/>
          <p:nvPr/>
        </p:nvSpPr>
        <p:spPr>
          <a:xfrm>
            <a:off x="762120" y="304920"/>
            <a:ext cx="265752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我会写</a:t>
            </a:r>
            <a:endParaRPr b="1" lang="en-US" sz="2400" spc="1" strike="noStrike">
              <a:ln w="12600">
                <a:solidFill>
                  <a:srgbClr val="0033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1042920" y="2205000"/>
            <a:ext cx="151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站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3995640" y="2273400"/>
            <a:ext cx="144000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块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6226200" y="1844640"/>
            <a:ext cx="2233440" cy="2233440"/>
            <a:chOff x="6226200" y="1844640"/>
            <a:chExt cx="2233440" cy="2233440"/>
          </a:xfrm>
        </p:grpSpPr>
        <p:sp>
          <p:nvSpPr>
            <p:cNvPr id="132" name="Rectangle 14"/>
            <p:cNvSpPr/>
            <p:nvPr/>
          </p:nvSpPr>
          <p:spPr>
            <a:xfrm>
              <a:off x="6226200" y="184464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6226200" y="299700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H="1">
              <a:off x="7305120" y="184464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2195640" y="4365720"/>
            <a:ext cx="2233440" cy="2233440"/>
            <a:chOff x="2195640" y="4365720"/>
            <a:chExt cx="2233440" cy="2233440"/>
          </a:xfrm>
        </p:grpSpPr>
        <p:sp>
          <p:nvSpPr>
            <p:cNvPr id="136" name="Rectangle 18"/>
            <p:cNvSpPr/>
            <p:nvPr/>
          </p:nvSpPr>
          <p:spPr>
            <a:xfrm>
              <a:off x="219564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219564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H="1">
              <a:off x="327456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WordArt 22"/>
          <p:cNvSpPr txBox="1"/>
          <p:nvPr/>
        </p:nvSpPr>
        <p:spPr>
          <a:xfrm>
            <a:off x="5292720" y="479736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区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40" name="WordArt 23"/>
          <p:cNvSpPr txBox="1"/>
          <p:nvPr/>
        </p:nvSpPr>
        <p:spPr>
          <a:xfrm>
            <a:off x="6804000" y="220500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它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41" name="Group 24"/>
          <p:cNvGrpSpPr/>
          <p:nvPr/>
        </p:nvGrpSpPr>
        <p:grpSpPr>
          <a:xfrm>
            <a:off x="4932360" y="4365720"/>
            <a:ext cx="2233440" cy="2233440"/>
            <a:chOff x="4932360" y="4365720"/>
            <a:chExt cx="2233440" cy="2233440"/>
          </a:xfrm>
        </p:grpSpPr>
        <p:sp>
          <p:nvSpPr>
            <p:cNvPr id="142" name="Rectangle 25"/>
            <p:cNvSpPr/>
            <p:nvPr/>
          </p:nvSpPr>
          <p:spPr>
            <a:xfrm>
              <a:off x="493236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>
              <a:off x="493236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601128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8"/>
          <p:cNvSpPr txBox="1"/>
          <p:nvPr/>
        </p:nvSpPr>
        <p:spPr>
          <a:xfrm>
            <a:off x="2700360" y="48690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区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46" name="WordArt 29"/>
          <p:cNvSpPr txBox="1"/>
          <p:nvPr/>
        </p:nvSpPr>
        <p:spPr>
          <a:xfrm>
            <a:off x="5435640" y="487044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巨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 spd="med"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23880" y="1981080"/>
            <a:ext cx="64008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b0a9a"/>
                </a:solidFill>
                <a:latin typeface="Times New Roman"/>
                <a:ea typeface="黑体"/>
              </a:rPr>
              <a:t>课堂小游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你能为这些奇石取一个动听的名字吗</a:t>
            </a:r>
            <a:r>
              <a:rPr b="0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6"/>
          <p:cNvSpPr/>
          <p:nvPr/>
        </p:nvSpPr>
        <p:spPr>
          <a:xfrm>
            <a:off x="609480" y="914400"/>
            <a:ext cx="807732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想像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178d2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）、在哪儿？有一只什么样的小狗，望着怎样的月亮？它可能会想些什么？这就是有趣的</a:t>
            </a:r>
            <a:r>
              <a:rPr b="1" lang="zh-CN" sz="2800" spc="-1" strike="noStrike">
                <a:solidFill>
                  <a:srgbClr val="178d2b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天狗望月</a:t>
            </a:r>
            <a:r>
              <a:rPr b="1" lang="zh-CN" sz="2800" spc="-1" strike="noStrike">
                <a:solidFill>
                  <a:srgbClr val="178d2b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178d2b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e0685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）、</a:t>
            </a:r>
            <a:r>
              <a:rPr b="1" lang="zh-CN" sz="2800" spc="-1" strike="noStrike">
                <a:solidFill>
                  <a:srgbClr val="9e0685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狮子抢球</a:t>
            </a:r>
            <a:r>
              <a:rPr b="1" lang="zh-CN" sz="2800" spc="-1" strike="noStrike">
                <a:solidFill>
                  <a:srgbClr val="9e0685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9e0685"/>
                </a:solidFill>
                <a:latin typeface="黑体"/>
                <a:ea typeface="黑体"/>
              </a:rPr>
              <a:t>就更有趣了。在哪儿？有两只或几只什么样的狮子？它们在抢什么样的球？怎样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99990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）、在哪儿？有一位什么样的仙女，怎样弹着琴？琴声怎么样？这就是有名的</a:t>
            </a:r>
            <a:r>
              <a:rPr b="1" lang="zh-CN" sz="2800" spc="-1" strike="noStrike">
                <a:solidFill>
                  <a:srgbClr val="99990b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仙女弹琴</a:t>
            </a:r>
            <a:r>
              <a:rPr b="1" lang="zh-CN" sz="2800" spc="-1" strike="noStrike">
                <a:solidFill>
                  <a:srgbClr val="99990b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99990b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new_pa2"/>
          <p:cNvPicPr/>
          <p:nvPr/>
        </p:nvPicPr>
        <p:blipFill>
          <a:blip r:embed="rId2"/>
          <a:stretch/>
        </p:blipFill>
        <p:spPr>
          <a:xfrm>
            <a:off x="8001000" y="6095880"/>
            <a:ext cx="674640" cy="37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天狗望月"/>
          <p:cNvPicPr/>
          <p:nvPr/>
        </p:nvPicPr>
        <p:blipFill>
          <a:blip r:embed="rId3"/>
          <a:stretch/>
        </p:blipFill>
        <p:spPr>
          <a:xfrm>
            <a:off x="2700360" y="3284640"/>
            <a:ext cx="4267080" cy="357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狮子抢球"/>
          <p:cNvPicPr/>
          <p:nvPr/>
        </p:nvPicPr>
        <p:blipFill>
          <a:blip r:embed="rId4"/>
          <a:stretch/>
        </p:blipFill>
        <p:spPr>
          <a:xfrm>
            <a:off x="179280" y="115920"/>
            <a:ext cx="453708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仙人漂海"/>
          <p:cNvPicPr/>
          <p:nvPr/>
        </p:nvPicPr>
        <p:blipFill>
          <a:blip r:embed="rId5"/>
          <a:stretch/>
        </p:blipFill>
        <p:spPr>
          <a:xfrm>
            <a:off x="5076720" y="304920"/>
            <a:ext cx="405612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534960" y="380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狮子抢球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973640" y="2977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女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863120" y="30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83520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335040" y="36720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狗望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12"/>
          <p:cNvSpPr txBox="1"/>
          <p:nvPr/>
        </p:nvSpPr>
        <p:spPr>
          <a:xfrm rot="5400000">
            <a:off x="-1393560" y="4358880"/>
            <a:ext cx="3809880" cy="66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66"/>
                  </a:solidFill>
                  <a:round/>
                </a:ln>
                <a:solidFill>
                  <a:srgbClr val="3366ff"/>
                </a:solidFill>
                <a:latin typeface="楷体_GB2312"/>
              </a:rPr>
              <a:t>争当“小导游”</a:t>
            </a:r>
            <a:endParaRPr b="1" lang="en-US" sz="2400" spc="1" strike="noStrike">
              <a:ln w="9360">
                <a:solidFill>
                  <a:srgbClr val="993366"/>
                </a:solidFill>
                <a:round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狮子抢球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仙人漂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天狗望月"/>
          <p:cNvPicPr/>
          <p:nvPr/>
        </p:nvPicPr>
        <p:blipFill>
          <a:blip r:embed="rId1"/>
          <a:stretch/>
        </p:blipFill>
        <p:spPr>
          <a:xfrm>
            <a:off x="539640" y="73080"/>
            <a:ext cx="7920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松鼠跳天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332000" y="1557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名中外的黄山风景区在我国安徽省南部。那里景色秀丽神奇，尤其是那些怪石，有趣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700360" y="537372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124000" y="400536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556000" y="1557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闻名中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227640" y="2997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尤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354400" y="5516640"/>
            <a:ext cx="39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闻名中外      风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区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     尤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560" y="106632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  <a:ea typeface="幼圆"/>
              </a:rPr>
              <a:t>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小朋友们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看了这么多黄山的奇石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你觉得可以用哪些带有“奇”的词语来形容刚才所看到的这些石头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神奇、奇异、奇怪、奇特、奇妙、奇形怪状、千奇百怪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……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492120" y="5850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new_pa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69360" y="6480000"/>
            <a:ext cx="674640" cy="37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752480" y="2486160"/>
            <a:ext cx="5943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找到了黄山的其他图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当导游介绍黄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给大家提供有关黄山的网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050920" y="1447920"/>
            <a:ext cx="360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宽带网 ……</a:t>
            </a:r>
            <a:endParaRPr b="1" i="1" lang="en-US" sz="4800" spc="1" strike="noStrike">
              <a:ln w="12600">
                <a:solidFill>
                  <a:srgbClr val="eaeaea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over dir="lu"/>
    <p:sndAc>
      <p:stSnd>
        <p:snd r:embed="rId5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7AD3-C7D9-4C00-90B0-B6E5CA1201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9"/>
          <p:cNvSpPr/>
          <p:nvPr/>
        </p:nvSpPr>
        <p:spPr>
          <a:xfrm>
            <a:off x="-252360" y="0"/>
            <a:ext cx="9396360" cy="6858000"/>
          </a:xfrm>
          <a:prstGeom prst="rect">
            <a:avLst/>
          </a:prstGeom>
          <a:gradFill rotWithShape="0">
            <a:gsLst>
              <a:gs pos="0">
                <a:srgbClr val="3399ff">
                  <a:alpha val="76078"/>
                </a:srgbClr>
              </a:gs>
              <a:gs pos="100000">
                <a:srgbClr val="cc66ff">
                  <a:alpha val="75294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36720" y="1413000"/>
          <a:ext cx="7128000" cy="2651040"/>
        </p:xfrm>
        <a:graphic>
          <a:graphicData uri="http://schemas.openxmlformats.org/drawingml/2006/table">
            <a:tbl>
              <a:tblPr/>
              <a:tblGrid>
                <a:gridCol w="3240000"/>
                <a:gridCol w="1008000"/>
                <a:gridCol w="288000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们班同学都很喜欢朗读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尤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</a:t>
                      </a:r>
                      <a:r>
                        <a:rPr b="1" lang="zh-CN" sz="32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朗读得最美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喜欢上课， 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8" descr="01-09-008-04"/>
          <p:cNvPicPr/>
          <p:nvPr/>
        </p:nvPicPr>
        <p:blipFill>
          <a:blip r:embed="rId1"/>
          <a:stretch/>
        </p:blipFill>
        <p:spPr>
          <a:xfrm>
            <a:off x="0" y="0"/>
            <a:ext cx="2193840" cy="21938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73"/>
          <p:cNvGrpSpPr/>
          <p:nvPr/>
        </p:nvGrpSpPr>
        <p:grpSpPr>
          <a:xfrm>
            <a:off x="1403280" y="4365720"/>
            <a:ext cx="2233800" cy="2233440"/>
            <a:chOff x="1403280" y="4365720"/>
            <a:chExt cx="2233800" cy="2233440"/>
          </a:xfrm>
        </p:grpSpPr>
        <p:sp>
          <p:nvSpPr>
            <p:cNvPr id="66" name="Rectangle 74"/>
            <p:cNvSpPr/>
            <p:nvPr/>
          </p:nvSpPr>
          <p:spPr>
            <a:xfrm>
              <a:off x="1403280" y="4365720"/>
              <a:ext cx="223380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5"/>
            <p:cNvSpPr/>
            <p:nvPr/>
          </p:nvSpPr>
          <p:spPr>
            <a:xfrm>
              <a:off x="1403280" y="5518080"/>
              <a:ext cx="2233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6"/>
            <p:cNvSpPr/>
            <p:nvPr/>
          </p:nvSpPr>
          <p:spPr>
            <a:xfrm flipH="1">
              <a:off x="2482920" y="4365720"/>
              <a:ext cx="144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WordArt 77"/>
          <p:cNvSpPr txBox="1"/>
          <p:nvPr/>
        </p:nvSpPr>
        <p:spPr>
          <a:xfrm>
            <a:off x="1762200" y="4869000"/>
            <a:ext cx="165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尤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70" name="Group 79"/>
          <p:cNvGrpSpPr/>
          <p:nvPr/>
        </p:nvGrpSpPr>
        <p:grpSpPr>
          <a:xfrm>
            <a:off x="4932360" y="4365720"/>
            <a:ext cx="2233440" cy="2233440"/>
            <a:chOff x="4932360" y="4365720"/>
            <a:chExt cx="2233440" cy="2233440"/>
          </a:xfrm>
        </p:grpSpPr>
        <p:sp>
          <p:nvSpPr>
            <p:cNvPr id="71" name="Rectangle 80"/>
            <p:cNvSpPr/>
            <p:nvPr/>
          </p:nvSpPr>
          <p:spPr>
            <a:xfrm>
              <a:off x="4932360" y="4365720"/>
              <a:ext cx="2233440" cy="22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81"/>
            <p:cNvSpPr/>
            <p:nvPr/>
          </p:nvSpPr>
          <p:spPr>
            <a:xfrm>
              <a:off x="4932360" y="5518080"/>
              <a:ext cx="22334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2"/>
            <p:cNvSpPr/>
            <p:nvPr/>
          </p:nvSpPr>
          <p:spPr>
            <a:xfrm flipH="1">
              <a:off x="6011280" y="4365720"/>
              <a:ext cx="1080" cy="223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WordArt 83"/>
          <p:cNvSpPr txBox="1"/>
          <p:nvPr/>
        </p:nvSpPr>
        <p:spPr>
          <a:xfrm>
            <a:off x="5219640" y="4869000"/>
            <a:ext cx="165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其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-360" y="1676160"/>
            <a:ext cx="9612360" cy="34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山的奇石，叫得出名字的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、（        ）、（        ）、（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（         ）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那些叫不出名字的（        ）的岩石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着我们去给它起名字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2004611223043421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1371600" y="457200"/>
            <a:ext cx="6095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读课文，我能完成下列填空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1629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桃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9480" y="23623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猴子观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0040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人指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867280" y="23623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鸡叫天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0880" y="30481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狗望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514600" y="3048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狮子抢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76920" y="2971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仙女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788000" y="364500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4876920" y="37339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形怪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3059280" y="2637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23480" cy="6843600"/>
          </a:xfrm>
          <a:prstGeom prst="rect">
            <a:avLst/>
          </a:prstGeom>
          <a:ln w="0">
            <a:noFill/>
          </a:ln>
        </p:spPr>
      </p:pic>
      <p:sp>
        <p:nvSpPr>
          <p:cNvPr id="89" name="Oval 3">
            <a:hlinkClick r:id="rId3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致爱丽丝.MP3" descr=""/>
          <p:cNvPicPr/>
          <p:nvPr/>
        </p:nvPicPr>
        <p:blipFill>
          <a:blip r:embed="rId4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24000" y="4508640"/>
            <a:ext cx="849600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它好像从天上飞下来的一个大桃子，落在山顶的石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E01981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72480" y="4653000"/>
            <a:ext cx="1841400" cy="189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404640"/>
          <a:ext cx="7772400" cy="4105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1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什么景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奇石在哪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它是什么样子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9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08"/>
          <p:cNvSpPr/>
          <p:nvPr/>
        </p:nvSpPr>
        <p:spPr>
          <a:xfrm>
            <a:off x="120636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仙桃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1"/>
          <p:cNvSpPr/>
          <p:nvPr/>
        </p:nvSpPr>
        <p:spPr>
          <a:xfrm>
            <a:off x="3641760" y="32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山顶的石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2"/>
          <p:cNvSpPr/>
          <p:nvPr/>
        </p:nvSpPr>
        <p:spPr>
          <a:xfrm>
            <a:off x="6391080" y="3213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桃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>
            <a:hlinkClick r:id="rId3"/>
          </p:cNvPr>
          <p:cNvSpPr/>
          <p:nvPr/>
        </p:nvSpPr>
        <p:spPr>
          <a:xfrm>
            <a:off x="4114800" y="5067360"/>
            <a:ext cx="2362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致爱丽丝.MP3" descr=""/>
          <p:cNvPicPr/>
          <p:nvPr/>
        </p:nvPicPr>
        <p:blipFill>
          <a:blip r:embed="rId4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0" name="Oval 6">
            <a:hlinkClick r:id="rId5" action="ppaction://hlinksldjump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50920" y="4052880"/>
            <a:ext cx="889308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座陡峭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山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有一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两只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胳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抱着腿，一动不动地蹲在山头，望着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翻滚的云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就是有趣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观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1"/>
                            </p:stCondLst>
                            <p:childTnLst>
                              <p:par>
                                <p:cTn id="12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360" y="4676760"/>
            <a:ext cx="88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人指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更有趣了！远远望去，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真像一位仙人站在高高的山峰上，伸着手臂指向前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shi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428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致爱丽丝.MP3" descr=""/>
          <p:cNvPicPr/>
          <p:nvPr/>
        </p:nvPicPr>
        <p:blipFill>
          <a:blip r:embed="rId3"/>
          <a:stretch/>
        </p:blipFill>
        <p:spPr>
          <a:xfrm>
            <a:off x="0" y="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6" name="Oval 5">
            <a:hlinkClick r:id="rId4"/>
          </p:cNvPr>
          <p:cNvSpPr/>
          <p:nvPr/>
        </p:nvSpPr>
        <p:spPr>
          <a:xfrm>
            <a:off x="8400960" y="6153120"/>
            <a:ext cx="3430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79280" y="3933720"/>
            <a:ext cx="87854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升起，有座山峰上的几块巨石，就变成了一只金光闪闪的雄鸡。它伸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对着天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dū]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不住地啼叫。不用说，这就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鸡叫天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2:57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35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