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716A-96FF-4B38-8EC0-715C14AA3EF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55EA-62BB-4EBF-98B8-D31F79217CC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2034-483A-486E-B235-5A8D0DA5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5EC8-DC6F-43A3-BF03-11F9DEE7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387E-D58A-496B-A7CE-41B7D0AFA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301F-F6CD-434F-BA44-32550DA3B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F61A-88A8-4266-9A8F-AD63682F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CB28-419D-4340-AB3D-28F85C3F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6CFA-0BE8-4B80-BB07-227AF8F1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5324-3ADC-4E01-98A9-BB925D2F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A3F6-19B7-4ADD-BB11-93FAEA01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8989-E6FC-438B-B00F-23AE4853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4EFC-A9A1-4C3A-9A88-E9A447DC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98A5-8412-4758-B5C6-3D423242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0912-7A52-406D-B3A8-E4305A17D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baike.baidu.com/view/56139.htm" TargetMode="External"/><Relationship Id="rId3" Type="http://schemas.openxmlformats.org/officeDocument/2006/relationships/hyperlink" Target="http://baike.baidu.com/view/410820.htm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>
            <a:off x="2152800" y="3470400"/>
            <a:ext cx="487656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66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7000"/>
                    </a:srgbClr>
                  </a:outerShdw>
                </a:effectLst>
                <a:latin typeface="华文中宋"/>
              </a:rPr>
              <a:t>海市蜃楼</a:t>
            </a:r>
            <a:endParaRPr b="1" lang="en-US" sz="9600" spc="1" strike="noStrike">
              <a:ln w="9360">
                <a:solidFill>
                  <a:srgbClr val="0066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7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2042640" y="5732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85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385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38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38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jbxcjl901c_2"/>
          <p:cNvPicPr/>
          <p:nvPr/>
        </p:nvPicPr>
        <p:blipFill>
          <a:blip r:embed="rId1"/>
          <a:srcRect l="0" t="0" r="0" b="-78"/>
          <a:stretch/>
        </p:blipFill>
        <p:spPr>
          <a:xfrm>
            <a:off x="0" y="0"/>
            <a:ext cx="9144000" cy="44164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304920" y="53020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在隐隐约约和不可触摸之间，远远的，你还会看到小树林。透过绿色的树林，你还可以看到黄色的房屋、整齐的建筑、错落有致的城市和波涛澎湃的水面连成一片，若隐若现，十分壮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304920" y="55918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     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仿宋_GB2312"/>
              </a:rPr>
              <a:t>刹那间，你会觉得自己像是进入了太虚幻境！如梦如幻的景物漂浮游移，让人浮想联翩，激动不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图片3"/>
          <p:cNvPicPr/>
          <p:nvPr/>
        </p:nvPicPr>
        <p:blipFill>
          <a:blip r:embed="rId1"/>
          <a:stretch/>
        </p:blipFill>
        <p:spPr>
          <a:xfrm>
            <a:off x="1440" y="0"/>
            <a:ext cx="914256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380880" y="551556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当你拿着相机追到它跟前想探个究竟，准备拍几张的时候，它却神秘地消失了！就在你迟疑的当儿，它却又奇迹般地出现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图片4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228600" y="551556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     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仿宋_GB2312"/>
              </a:rPr>
              <a:t>你走得越快，它就离你越远。当你感觉快要追上它的时候，它忽又神秘地消失了，消失得连一丝一毫的影子和痕迹都没有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a689e4efef535417acafd5c4"/>
          <p:cNvPicPr/>
          <p:nvPr/>
        </p:nvPicPr>
        <p:blipFill>
          <a:blip r:embed="rId1"/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838080" y="533412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如果你看到这神奇的海市蜃楼，你会说些什么？做些什么？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abd2bccff2673e2492457e95"/>
          <p:cNvPicPr/>
          <p:nvPr/>
        </p:nvPicPr>
        <p:blipFill>
          <a:blip r:embed="rId1"/>
          <a:srcRect l="0" t="0" r="0" b="-26"/>
          <a:stretch/>
        </p:blipFill>
        <p:spPr>
          <a:xfrm>
            <a:off x="0" y="-60480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4">
            <a:hlinkClick r:id="rId2" action="ppaction://hlinksldjump"/>
          </p:cNvPr>
          <p:cNvSpPr/>
          <p:nvPr/>
        </p:nvSpPr>
        <p:spPr>
          <a:xfrm>
            <a:off x="7696080" y="59436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7493"/>
                </a:moveTo>
                <a:lnTo>
                  <a:pt x="14498" y="7493"/>
                </a:lnTo>
                <a:lnTo>
                  <a:pt x="14498" y="12828"/>
                </a:lnTo>
                <a:cubicBezTo>
                  <a:pt x="14498" y="13751"/>
                  <a:pt x="15299" y="14482"/>
                  <a:pt x="16335" y="14482"/>
                </a:cubicBezTo>
                <a:lnTo>
                  <a:pt x="17997" y="14482"/>
                </a:lnTo>
                <a:cubicBezTo>
                  <a:pt x="19033" y="14482"/>
                  <a:pt x="19834" y="13751"/>
                  <a:pt x="19834" y="12828"/>
                </a:cubicBezTo>
                <a:lnTo>
                  <a:pt x="19834" y="7493"/>
                </a:lnTo>
                <a:lnTo>
                  <a:pt x="17997" y="7493"/>
                </a:lnTo>
                <a:lnTo>
                  <a:pt x="21505" y="3985"/>
                </a:lnTo>
                <a:lnTo>
                  <a:pt x="25178" y="7493"/>
                </a:lnTo>
                <a:lnTo>
                  <a:pt x="23341" y="7493"/>
                </a:lnTo>
                <a:lnTo>
                  <a:pt x="23341" y="12828"/>
                </a:lnTo>
                <a:cubicBezTo>
                  <a:pt x="23341" y="15596"/>
                  <a:pt x="20765" y="18155"/>
                  <a:pt x="17997" y="18155"/>
                </a:cubicBezTo>
                <a:lnTo>
                  <a:pt x="16335" y="18155"/>
                </a:lnTo>
                <a:cubicBezTo>
                  <a:pt x="13567" y="18155"/>
                  <a:pt x="10991" y="15596"/>
                  <a:pt x="1099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8630744a9758210508f7ef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1271880" y="685800"/>
            <a:ext cx="1704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Arial"/>
                <a:ea typeface="华文新魏"/>
              </a:rPr>
              <a:t>领悟写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826920" y="1413000"/>
            <a:ext cx="7479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作者是从哪几方面来介绍海市蜃楼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作者首先交代了观赏海市蜃楼的季节、地点和“神秘”的特点。之后，作者抓住“神秘”的特点具体描绘了海市蜃楼的景色。最后，课文写了海市蜃楼的“神秘”消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在以后写我们见到的有趣的景观时，就可以运用“先总写特点，再具体描绘”的写法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>
            <a:hlinkClick r:id="rId2" action="ppaction://hlinksldjump"/>
          </p:cNvPr>
          <p:cNvSpPr/>
          <p:nvPr/>
        </p:nvSpPr>
        <p:spPr>
          <a:xfrm>
            <a:off x="7696080" y="59436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7493"/>
                </a:moveTo>
                <a:lnTo>
                  <a:pt x="14498" y="7493"/>
                </a:lnTo>
                <a:lnTo>
                  <a:pt x="14498" y="12828"/>
                </a:lnTo>
                <a:cubicBezTo>
                  <a:pt x="14498" y="13751"/>
                  <a:pt x="15299" y="14482"/>
                  <a:pt x="16335" y="14482"/>
                </a:cubicBezTo>
                <a:lnTo>
                  <a:pt x="17997" y="14482"/>
                </a:lnTo>
                <a:cubicBezTo>
                  <a:pt x="19033" y="14482"/>
                  <a:pt x="19834" y="13751"/>
                  <a:pt x="19834" y="12828"/>
                </a:cubicBezTo>
                <a:lnTo>
                  <a:pt x="19834" y="7493"/>
                </a:lnTo>
                <a:lnTo>
                  <a:pt x="17997" y="7493"/>
                </a:lnTo>
                <a:lnTo>
                  <a:pt x="21505" y="3985"/>
                </a:lnTo>
                <a:lnTo>
                  <a:pt x="25178" y="7493"/>
                </a:lnTo>
                <a:lnTo>
                  <a:pt x="23341" y="7493"/>
                </a:lnTo>
                <a:lnTo>
                  <a:pt x="23341" y="12828"/>
                </a:lnTo>
                <a:cubicBezTo>
                  <a:pt x="23341" y="15596"/>
                  <a:pt x="20765" y="18155"/>
                  <a:pt x="17997" y="18155"/>
                </a:cubicBezTo>
                <a:lnTo>
                  <a:pt x="16335" y="18155"/>
                </a:lnTo>
                <a:cubicBezTo>
                  <a:pt x="13567" y="18155"/>
                  <a:pt x="10991" y="15596"/>
                  <a:pt x="1099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8630744a9758210508f7ef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海市蜃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4360" y="1773360"/>
            <a:ext cx="77752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海市蜃楼是一种因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光的折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形成的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自然现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它也简称蜃景，是地球上物体反射的光经大气折射而形成的虚像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下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左右，海口市沿海出现海市蜃楼奇观，持续一个小时左右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，广州塔又现“空中皇冠”奇景， 专家称是海市蜃楼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海市蜃楼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形成示意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abae5ed68931f5a79f05529"/>
          <p:cNvPicPr/>
          <p:nvPr/>
        </p:nvPicPr>
        <p:blipFill>
          <a:blip r:embed="rId1"/>
          <a:stretch/>
        </p:blipFill>
        <p:spPr>
          <a:xfrm>
            <a:off x="468360" y="1413000"/>
            <a:ext cx="82072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31bOOOPIC26"/>
          <p:cNvPicPr/>
          <p:nvPr/>
        </p:nvPicPr>
        <p:blipFill>
          <a:blip r:embed="rId1"/>
          <a:stretch/>
        </p:blipFill>
        <p:spPr>
          <a:xfrm>
            <a:off x="-33480" y="-22320"/>
            <a:ext cx="9177480" cy="68817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41440" y="944640"/>
            <a:ext cx="799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"/>
              </a:rPr>
              <a:t>你还知道哪些自然景观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29381f30e924b899226addbd6e061d950b7bf6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3687480" y="12175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"/>
              </a:rPr>
              <a:t>吉林雾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图片11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03087bf40ad162d97d50c19911dfa9ec8b13cdfd"/>
          <p:cNvPicPr/>
          <p:nvPr/>
        </p:nvPicPr>
        <p:blipFill>
          <a:blip r:embed="rId1"/>
          <a:stretch/>
        </p:blipFill>
        <p:spPr>
          <a:xfrm>
            <a:off x="34920" y="-2376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6933600" y="549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"/>
              </a:rPr>
              <a:t>云南石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54fbb2fb43166d22dff78811462309f79152d2b7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9818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6284520" y="9097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"/>
              </a:rPr>
              <a:t>长江三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"/>
          <p:cNvSpPr/>
          <p:nvPr/>
        </p:nvSpPr>
        <p:spPr>
          <a:xfrm>
            <a:off x="2703600" y="452520"/>
            <a:ext cx="52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32fa828ba61ea8d3fa7fea81970a304e241f58d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1777680" y="9270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"/>
              </a:rPr>
              <a:t>桂林山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20094140234351041"/>
          <p:cNvPicPr/>
          <p:nvPr/>
        </p:nvPicPr>
        <p:blipFill>
          <a:blip r:embed="rId1"/>
          <a:srcRect l="0" t="0" r="0" b="-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1068480" y="685800"/>
            <a:ext cx="1095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00"/>
                </a:solidFill>
                <a:latin typeface="Arial"/>
                <a:ea typeface="华文新魏"/>
              </a:rPr>
              <a:t>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838080" y="198108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积累本课精彩语段，摘抄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试着背一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把你从生活中发现的美丽神奇的景色用自己的语言描述出来，写在日记本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B4A9-DF44-49E9-94DC-D5B000F88A7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图片6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图片9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4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图片10"/>
          <p:cNvPicPr/>
          <p:nvPr/>
        </p:nvPicPr>
        <p:blipFill>
          <a:blip r:embed="rId1"/>
          <a:stretch/>
        </p:blipFill>
        <p:spPr>
          <a:xfrm>
            <a:off x="-30240" y="0"/>
            <a:ext cx="92124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WordArt 3"/>
          <p:cNvSpPr txBox="1"/>
          <p:nvPr/>
        </p:nvSpPr>
        <p:spPr>
          <a:xfrm>
            <a:off x="4716360" y="1917720"/>
            <a:ext cx="243864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神秘</a:t>
            </a:r>
            <a:endParaRPr b="0" lang="en-US" sz="9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85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385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38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38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20081210069897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1170000" y="68580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"/>
                <a:ea typeface="华文新魏"/>
              </a:rPr>
              <a:t>我会读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332000" y="2209680"/>
            <a:ext cx="7127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敦煌、澎湃、风尘仆仆、蒸腾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刹那、虚幻、联想、永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200841410119215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-299880" y="534600"/>
            <a:ext cx="761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读课文，了解课文主要内容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826920" y="198108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  <a:ea typeface="楷体_GB2312"/>
              </a:rPr>
              <a:t>课文主要写了什么时间、什么地点的海市蜃楼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">
            <a:hlinkClick r:id="rId2" action="ppaction://hlinksldjump"/>
          </p:cNvPr>
          <p:cNvSpPr/>
          <p:nvPr/>
        </p:nvSpPr>
        <p:spPr>
          <a:xfrm>
            <a:off x="7696080" y="59436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7493"/>
                </a:moveTo>
                <a:lnTo>
                  <a:pt x="14498" y="7493"/>
                </a:lnTo>
                <a:lnTo>
                  <a:pt x="14498" y="12828"/>
                </a:lnTo>
                <a:cubicBezTo>
                  <a:pt x="14498" y="13751"/>
                  <a:pt x="15299" y="14482"/>
                  <a:pt x="16335" y="14482"/>
                </a:cubicBezTo>
                <a:lnTo>
                  <a:pt x="17997" y="14482"/>
                </a:lnTo>
                <a:cubicBezTo>
                  <a:pt x="19033" y="14482"/>
                  <a:pt x="19834" y="13751"/>
                  <a:pt x="19834" y="12828"/>
                </a:cubicBezTo>
                <a:lnTo>
                  <a:pt x="19834" y="7493"/>
                </a:lnTo>
                <a:lnTo>
                  <a:pt x="17997" y="7493"/>
                </a:lnTo>
                <a:lnTo>
                  <a:pt x="21505" y="3985"/>
                </a:lnTo>
                <a:lnTo>
                  <a:pt x="25178" y="7493"/>
                </a:lnTo>
                <a:lnTo>
                  <a:pt x="23341" y="7493"/>
                </a:lnTo>
                <a:lnTo>
                  <a:pt x="23341" y="12828"/>
                </a:lnTo>
                <a:cubicBezTo>
                  <a:pt x="23341" y="15596"/>
                  <a:pt x="20765" y="18155"/>
                  <a:pt x="17997" y="18155"/>
                </a:cubicBezTo>
                <a:lnTo>
                  <a:pt x="16335" y="18155"/>
                </a:lnTo>
                <a:cubicBezTo>
                  <a:pt x="13567" y="18155"/>
                  <a:pt x="10991" y="15596"/>
                  <a:pt x="1099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20081210081569520"/>
          <p:cNvPicPr/>
          <p:nvPr/>
        </p:nvPicPr>
        <p:blipFill>
          <a:blip r:embed="rId1"/>
          <a:srcRect l="0" t="0" r="0" b="-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1271880" y="685800"/>
            <a:ext cx="1704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"/>
                <a:ea typeface="华文新魏"/>
              </a:rPr>
              <a:t>自读提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971640" y="1752480"/>
            <a:ext cx="72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36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1.</a:t>
            </a:r>
            <a:r>
              <a:rPr b="0" lang="zh-CN" sz="36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课文是怎样表现海市蜃楼的神秘的？你从哪些语句中感受到海市蜃楼的神秘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   </a:t>
            </a:r>
            <a:r>
              <a:rPr b="0" lang="en-US" sz="36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2.</a:t>
            </a:r>
            <a:r>
              <a:rPr b="0" lang="zh-CN" sz="36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请你用自己喜欢的方式读课文，把能够表现海市蜃楼的神秘的语句找出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   </a:t>
            </a:r>
            <a:r>
              <a:rPr b="0" lang="en-US" sz="36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3.</a:t>
            </a:r>
            <a:r>
              <a:rPr b="0" lang="zh-CN" sz="36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体会着读出自己的感受</a:t>
            </a:r>
            <a:r>
              <a:rPr b="0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304920" y="482472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就在人们心中充满梦想的时候，你经常可以看到前方不远处的沙漠里，会出现一队骆驼群，响着驼铃，载着一批风尘仆仆的旅人，向着沙漠中的绿洲和清泉走去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……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图片1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8T02:35:5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9:01Z</dcterms:modified>
  <cp:revision>1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NXTAG2">
    <vt:lpwstr>0008006a08000000000001024100</vt:lpwstr>
  </property>
  <property fmtid="{D5CDD505-2E9C-101B-9397-08002B2CF9AE}" pid="4" name="Version">
    <vt:r8>1</vt:r8>
  </property>
</Properties>
</file>