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785B-7D5A-4DC4-96BD-B38DB5E456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10A1-8790-4496-A1F6-74FFF5BC8D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51B-6EEE-4D32-98F2-EA112B74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0AE-8F5F-4B81-80AD-024DDC48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160-FA1A-4BB0-B9E4-73D986F6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D62-D319-4AEC-858E-09913FE8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0281-46CC-4D2F-B364-B75028D0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3D14-06A1-4280-BBE2-3E3C88E9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3E4C-BD41-48EC-9016-81306918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2A84-49DC-4068-ADCD-E578B280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D58D-880F-49EE-9A5B-B8491F9A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CC7C-E92D-44F9-80DD-4E6810A0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B864-ACC7-43EB-8C04-DB5ABFF4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FBB-B522-4259-8ECB-06540C4A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D029-1CFA-4EC9-85F4-59866158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BA6E-FC35-422C-BA4E-0349BFB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0EE2-7617-47F9-9BF0-75E66E6E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CF0D-3B4C-4FE7-87EE-1883E38E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534F-635A-4A06-8F05-F4FA62E1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4D7-3631-4095-A68F-DAC7E6B7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EBB-4EA2-42BB-A88C-2FBFBABF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177-0899-47CA-AE80-38E92B99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7DC-3988-406E-90A3-D2184489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EDB-60C9-45D7-AB58-79C79D9A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A19-D36C-4D2E-A91A-9ACA54AA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1D7-EE98-4571-87C8-6FC6E534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177-FBA2-43B5-B321-3794B65D35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A599-7330-40E0-B02B-C8AAC35348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edi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471840" y="3218040"/>
            <a:ext cx="462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0" y="620640"/>
            <a:ext cx="598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宋体"/>
              </a:rPr>
              <a:t>猴王出世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55640" y="24242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作者：吴承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182700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307160" y="525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900000" y="1628640"/>
            <a:ext cx="744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下面两个片段多读几遍，用自己喜欢的符号画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动作的词语，体会这样写的好处，然后写一个同学们劳动或活动的片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看他瞑目蹲身，将身一纵，径跳入泉水中。忽睁眼抬眼观看，往里边却无水无波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明明朗朗的一座铁板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过桥头，一个个强盆，夺碗，占灶，争床，搬过来，移过去；正是猴性顽劣，再无一个宁时，直搬得力倦神疲方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阅读《西游记》或《西游记》故事书，准备召开一个《西游记》故事会，看谁讲的故事最经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-252360" y="1600200"/>
            <a:ext cx="9145440" cy="319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再见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祝同学们学习愉快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!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slow"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5B55-4A5B-45E5-B1DB-1FD3CFDF8A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4a96f781hc23bb099dbfd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24000" y="1166760"/>
            <a:ext cx="3317760" cy="5248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927720" y="371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作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851280" y="83664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吴承恩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50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58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字汝忠，号射阳山人。汉族，淮安府山阳县（今江苏省淮安市楚州区）人。中国明代杰出的小说家，是四大名著之一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游记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作者。课文选自第一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570680" y="58104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《西游记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324000" y="1343160"/>
            <a:ext cx="2979720" cy="4906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564000" y="476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游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中国古典四大名著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，由吴承恩编写而成。此书描写的是孙悟空、猪八戒、沙悟净保护唐僧西天取经的传奇故事。作者通过虚幻的世界，对封建统治者的态度颇可玩味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游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中，简直找不出一个称职的皇帝；宠信妖怪的车迟国国王、要将小儿心肝当药引子的比丘国国王，则不是昏君就是暴君。玉皇大帝手下十万天兵天将，竟然抵不过孙悟空的一条金箍棒，而让真正的贤才去当不入流的马夫，其统治之黑暗不言而喻。如来佛祖所创佛教，僧人自然不能以钱财所迷，可是佛祖竟然默许手下人收取贿赂，这反映封建社会官官相护的黑暗情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大意，整体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由读课文，扫清生字障碍，把句子读通顺，读不懂的地方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石猴是从哪儿来的？又是怎样成为猴王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留在你的脑海里的是一个怎样的猴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4581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58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仙石迸裂，化出一个石猴，往水帘洞一跳，跳出一个猴王，从这里开始，一个美猴王的形象深入了人们的心理。那么，在作者吴承恩又是用怎样的语言，把一个猴子的形象深入人心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品读语言，深入感悟猴王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猴在山中，却会行走跳跃，食草木，饮涧泉，采山花，觅树果；与狼虫为伴，虎豹为群，獐鹿为友，猕猿为亲；夜宿石崖之下，朝游峰洞之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仿佛看见了猴王在干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发现这句话有什么特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0" y="4859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4325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者写了一只欢快跳跃的猴子，用的语言也非常短促、有节奏。或者说，从这样的语言，我们读到了一个活泼可爱、顽皮跳跃的猴子，这样内容与语言的高度统一，体现出了语言的魅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5280" y="1125360"/>
            <a:ext cx="82296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他瞑目蹲身，将身一纵，径跳入瀑布泉中，忽睁睛抬头观看，那里边却无水无波，明明朗朗的一架桥梁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那些猴有胆大的，都跳进去了；胆小的，一个个伸头缩颈，抓耳挠腮，大声叫喊，缠一会儿，也都进去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55640" y="4516560"/>
            <a:ext cx="793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 action="ppaction://hlinksldjump"/>
              </a:rPr>
              <a:t>从那纵身一跳中，我们能够感受到猴王的轻巧与敏捷；从哪抓耳挠腮 的动作中，我们仿佛看到了猴子的胆小与可爱。一个个活灵活现的形象，在语言的魅力下展现了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617400" y="5994360"/>
            <a:ext cx="59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6"/>
          <p:cNvSpPr/>
          <p:nvPr/>
        </p:nvSpPr>
        <p:spPr>
          <a:xfrm>
            <a:off x="2050920" y="21448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结提升，整体把握猴子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我们了解了孙悟空由石猴变成美猴王的经过，相信大家对孙悟空有了更深刻的认识。你觉得这是一只怎样的猴子？用四字词语说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课文记叙的只是孙悟空的出生，是古典小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回，那你还知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有哪些精彩的故事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018440" y="5745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后拓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34400" y="1341360"/>
            <a:ext cx="3801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悟空出世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破天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猴子跳出水帘洞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戏在后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猴子封了个弼马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知官大官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孙猴子变山神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露了尾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跟孙猴子比翻跟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差着十万八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白虎精遇上孙悟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原形毕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六耳猕猴充悟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冒牌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孙悟空到了花果山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称心如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孙猴子的脸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化无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08:47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26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