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7C49-4FAC-48DA-B551-E0512FC0EBE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3E8F-C30F-4E93-A669-B77F680BF03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FB1C-A37E-4346-A131-F8F274CC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6F2F-CAAA-4C4F-AF3E-779B84C9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1D77-438C-4832-B8FB-F034770CE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DF37-50C6-493B-B889-C40D9D868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A29F-A407-4246-8CD4-1B6C5126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FD59-20B8-4ADE-8793-8FE01DBE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4ED2-50FB-45B3-844C-36D89FC0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9822-371C-4724-A606-18457741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F045-1D3E-48BE-8820-5FA07CE2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989C-DF95-45AA-B04C-7C7E8F78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D0E6-4D26-4E10-98CD-8A6F280A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A697-CFA3-4618-B5E0-3FD045F8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9F3D-BDEC-42DE-87FB-72C46CEC0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136520" y="137952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3300"/>
                </a:solidFill>
                <a:latin typeface="微软雅黑"/>
                <a:ea typeface="微软雅黑"/>
              </a:rPr>
              <a:t>11.</a:t>
            </a:r>
            <a:r>
              <a:rPr b="1" lang="zh-CN" sz="7200" spc="-1" strike="noStrike">
                <a:solidFill>
                  <a:srgbClr val="663300"/>
                </a:solidFill>
                <a:latin typeface="微软雅黑"/>
                <a:ea typeface="微软雅黑"/>
              </a:rPr>
              <a:t>荒芜</a:t>
            </a:r>
            <a:r>
              <a:rPr b="1" lang="zh-CN" sz="6600" spc="-1" strike="noStrike">
                <a:solidFill>
                  <a:srgbClr val="008000"/>
                </a:solidFill>
                <a:latin typeface="微软雅黑"/>
                <a:ea typeface="微软雅黑"/>
              </a:rPr>
              <a:t>了的花园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1772280" y="551664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6633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6633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5"/>
          <p:cNvSpPr/>
          <p:nvPr/>
        </p:nvSpPr>
        <p:spPr>
          <a:xfrm>
            <a:off x="1042920" y="404640"/>
            <a:ext cx="734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青蛙等得不耐烦了，哭丧着脸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不高兴的，一步一步，慢腾腾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仍旧走进石罅中去。蟋蟀的希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也渐渐地破灭了，它不愿意再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他们的争斗，终于把头缩回草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中，跑到墙角下，拖长它的音调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又悲鸣起来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2438280" y="836640"/>
            <a:ext cx="4143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刚开始时小动物的满怀希望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现在呢，小动物们对人们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希望破灭了。试想它们又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对花园来客说点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162880" y="3645000"/>
            <a:ext cx="6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分角色朗读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1"/>
          <p:cNvSpPr/>
          <p:nvPr/>
        </p:nvSpPr>
        <p:spPr>
          <a:xfrm>
            <a:off x="2425680" y="5538960"/>
            <a:ext cx="51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250920" y="18900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拓展延伸：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快速阅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亡羊补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把自己感悟到的与大家交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250920" y="114444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从前有一个牧民，养了几十只羊。他白天放羊，晚上就把羊赶进木桩做的羊圈。一天早晨，这个牧民去放羊发现羊少了一只。原来羊圈破了个窟窿，夜间有狼把羊叼走了。邻居劝告他说：“赶快把羊圈修一修，堵上那个窟窿吧。”他说：“羊已经丢了，还去修羊圈干什么呢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?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结果第二天早上，他去放羊，发现又少了一只羊。原来狼又从窟窿里钻进羊圈，又叼走了一只羊。这位牧民很后悔，马上听从邻居的劝告堵上了窟窿。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4961160" y="712800"/>
            <a:ext cx="4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（出了问题以后想办法补救，可以防止继续受损失。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539640" y="76500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课下阅读一些寓言故事，并思考其中的道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试着创编一个寓言故事，与同学交流修改后，贴在“作品展示台”上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4FF4-643C-4755-A37C-7F5AED43E56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6"/>
          <p:cNvSpPr/>
          <p:nvPr/>
        </p:nvSpPr>
        <p:spPr>
          <a:xfrm>
            <a:off x="468360" y="981000"/>
            <a:ext cx="840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上节课我们一起读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荒芜了的花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篇课文，那么你能用一两句话说说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篇课文主要讲了一件怎样的事情吗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美丽的花园2"/>
          <p:cNvPicPr/>
          <p:nvPr/>
        </p:nvPicPr>
        <p:blipFill>
          <a:blip r:embed="rId1"/>
          <a:stretch/>
        </p:blipFill>
        <p:spPr>
          <a:xfrm>
            <a:off x="395280" y="189000"/>
            <a:ext cx="8209080" cy="6377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美丽的花园"/>
          <p:cNvPicPr/>
          <p:nvPr/>
        </p:nvPicPr>
        <p:blipFill>
          <a:blip r:embed="rId2"/>
          <a:stretch/>
        </p:blipFill>
        <p:spPr>
          <a:xfrm>
            <a:off x="395280" y="189000"/>
            <a:ext cx="8424720" cy="63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6"/>
          <p:cNvSpPr/>
          <p:nvPr/>
        </p:nvSpPr>
        <p:spPr>
          <a:xfrm>
            <a:off x="1187280" y="270828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荒芜的花园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荒芜的花园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6"/>
          <p:cNvSpPr/>
          <p:nvPr/>
        </p:nvSpPr>
        <p:spPr>
          <a:xfrm>
            <a:off x="755640" y="1484280"/>
            <a:ext cx="748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荆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棘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荒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芜</a:t>
            </a:r>
            <a:r>
              <a:rPr b="0" lang="zh-CN" sz="4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灌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溉</a:t>
            </a:r>
            <a:r>
              <a:rPr b="0" lang="zh-CN" sz="4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凄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追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慕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惜    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缩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回   滔滔不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528200" y="115920"/>
            <a:ext cx="154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、复习词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11280" y="3141720"/>
            <a:ext cx="82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小提示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：“灌”“荆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是左右结构，不能写成上下结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2529360" y="907920"/>
            <a:ext cx="5180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自读课文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—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段，勾画出相关句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荒芜的花园昔日如何光景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现在又究竟荒芜到了什么地步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348640" y="23508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自主学习 细读感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250920" y="260280"/>
            <a:ext cx="92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当花园的来客面对花园的凄惨景象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他们的反映是什么？勾出你认为是重点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词句，有感情的读一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24000" y="2060640"/>
            <a:ext cx="617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这几个人说了些什么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019240" y="2781360"/>
            <a:ext cx="5057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青蛙和蟋蟀看到这群来客雄心勃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想把花园建好，它们是什么表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画出来体会着读一读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1817640" y="404640"/>
            <a:ext cx="546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．那么，花园来客们接着做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24000" y="119700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就让我们走进他们的讨论，看看他们讨论的经过，从那些句子可以看出他们的决心很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324000" y="2852640"/>
            <a:ext cx="1255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．结果怎么样呢？为什么荒芜了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花园依然荒芜着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3787560" y="2421000"/>
            <a:ext cx="10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细细地讨论、、悉心的讨论、、滔滔不绝地讨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5"/>
          <p:cNvSpPr/>
          <p:nvPr/>
        </p:nvSpPr>
        <p:spPr>
          <a:xfrm>
            <a:off x="4551120" y="650880"/>
            <a:ext cx="81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你们是从哪看出来他们光说不做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042640" y="1557360"/>
            <a:ext cx="54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他们由黎明讨论到傍晚，从详细计划到入手方法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从“互相辩论”到“漫骂、扭打”时间在一分一秒地逝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他们却没有一丝一毫的行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1875600" y="2924280"/>
            <a:ext cx="56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面对这样的结局，青蛙和蟋蟀又有那些变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7T01:28:28Z</dcterms:modified>
  <cp:revision>1</cp:revision>
  <dc:subject/>
  <dc:title>幻灯片 1</dc:title>
</cp:coreProperties>
</file>