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gif" ContentType="image/gif"/>
  <Override PartName="/ppt/media/image7.png" ContentType="image/png"/>
  <Override PartName="/ppt/media/image4.png" ContentType="image/png"/>
  <Override PartName="/ppt/media/image8.jpeg" ContentType="image/jpeg"/>
  <Override PartName="/ppt/media/applause.wav" ContentType="audio/x-wav"/>
  <Override PartName="/ppt/media/image5.png" ContentType="image/png"/>
  <Override PartName="/ppt/media/image6.png" ContentType="image/png"/>
  <Override PartName="/ppt/media/cashreg.wav" ContentType="audio/x-wav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BBF-906A-4F2C-B641-D5E4C8F473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E7D-2A9D-4E4D-83D2-DB9E43CCCB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251-9F45-439A-A42C-677C7277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764-D73F-4BE4-B63C-26F15E3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FFD-3616-4D52-A3E8-BACBBC56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723-CB48-4434-A96A-D8924248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30E-7D03-48EB-9901-53111BC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184-4950-4E4C-99BD-C4B8DAB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FD0-7CD4-456C-84F9-133DC55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889-4B1B-40CD-A40F-EED377D4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51E-7F09-460D-AC80-597518DC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3FC-3AC6-49F9-85FE-94131D09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6AE-5150-49A3-B4C9-98368E5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AF2-4F0E-4CFE-9D17-1A0275C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55BF-81E2-4F53-8B63-CAFF9FE1E2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971640" y="503280"/>
            <a:ext cx="533376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回乡偶书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9600" y="2457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"/>
                <a:ea typeface="楷体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矩形 9" descr=""/>
          <p:cNvPicPr/>
          <p:nvPr/>
        </p:nvPicPr>
        <p:blipFill>
          <a:blip r:embed="rId2"/>
          <a:stretch/>
        </p:blipFill>
        <p:spPr>
          <a:xfrm>
            <a:off x="1560600" y="5948280"/>
            <a:ext cx="612288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52280" y="152280"/>
            <a:ext cx="64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</a:rPr>
              <a:t>体会诗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84360" y="1405080"/>
            <a:ext cx="79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这首诗通过写诗人回到久别家乡时，村里的孩子不认识他，把他当作远方客人的事。表达了诗人对家人</a:t>
            </a:r>
            <a:r>
              <a:rPr b="1" lang="zh-CN" sz="4800" spc="-1" strike="noStrike">
                <a:solidFill>
                  <a:srgbClr val="006699"/>
                </a:solidFill>
                <a:latin typeface="Times New Roman"/>
              </a:rPr>
              <a:t>既亲切又陌生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的感情，流露出无限的感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0" name="Picture 3" descr="图片1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4"/>
            <p:cNvSpPr/>
            <p:nvPr/>
          </p:nvSpPr>
          <p:spPr>
            <a:xfrm>
              <a:off x="611280" y="620640"/>
              <a:ext cx="81374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回乡偶书</a:t>
              </a:r>
              <a:r>
                <a:rPr b="1" lang="zh-CN" sz="3200" spc="-1" strike="noStrike">
                  <a:solidFill>
                    <a:srgbClr val="660033"/>
                  </a:solidFill>
                  <a:latin typeface="楷体_GB2312"/>
                </a:rPr>
                <a:t>（二）</a:t>
              </a:r>
              <a:r>
                <a:rPr b="0" lang="zh-CN" sz="4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 </a:t>
              </a:r>
              <a:r>
                <a:rPr b="0" lang="zh-CN" sz="4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	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2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 </a:t>
              </a: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离 别 家 乡 岁 月 多，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近 来 人 事 半 消 磨。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惟 有 门 前 镜 湖 水，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</a:rPr>
                <a:t>春 风 不 改 旧 时 波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621360"/>
            <a:ext cx="91440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咏   柳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贺知章</a:t>
            </a: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碧玉妆成一树高，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万条垂下绿丝绦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不知细叶谁裁出，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5600" spc="-1" strike="noStrike">
                <a:solidFill>
                  <a:srgbClr val="000000"/>
                </a:solidFill>
                <a:latin typeface="Times New Roman"/>
              </a:rPr>
              <a:t>二月春风似剪刀。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352440" y="6032520"/>
            <a:ext cx="69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018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946520" y="227664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楷体"/>
              </a:rPr>
              <a:t>月是故乡明，人是故乡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116080" y="386064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树高千丈，叶落归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16"/>
          <p:cNvSpPr txBox="1"/>
          <p:nvPr/>
        </p:nvSpPr>
        <p:spPr>
          <a:xfrm rot="303000">
            <a:off x="733320" y="600120"/>
            <a:ext cx="76662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 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18" name="矩形 1" descr=""/>
          <p:cNvPicPr/>
          <p:nvPr/>
        </p:nvPicPr>
        <p:blipFill>
          <a:blip r:embed="rId4"/>
          <a:stretch/>
        </p:blipFill>
        <p:spPr>
          <a:xfrm>
            <a:off x="1619280" y="1052640"/>
            <a:ext cx="59770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 rot="199200">
            <a:off x="1187280" y="148428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62000"/>
                </a:gradFill>
                <a:latin typeface="宋体"/>
              </a:rPr>
              <a:t>谢谢指导！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62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DDE4-8CB0-4DD9-AD28-B601B240C40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5076720" y="1413000"/>
            <a:ext cx="35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唐代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著名诗人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字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季真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，自号“四明狂客”。小时候就以文词知名，书法也很好，擅长草书和隶书。性情爽直，豁达而健谈。他写的诗清新通俗，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回乡偶书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咏柳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等都是脍炙人口，千古传颂的不朽名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3" descr="天使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47080" y="594360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400284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572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学习古诗四步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25720" y="4103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10080" y="3382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Times New Roman"/>
              </a:rPr>
              <a:t>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654800" y="2637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imes New Roman"/>
              </a:rPr>
              <a:t>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526440" y="1871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1449360"/>
            <a:ext cx="1839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92360" y="18900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Times New Roman"/>
              </a:rPr>
              <a:t>回乡偶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132000" y="1341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唐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0" y="213372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少小离家老大回，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乡音无改鬓毛衰。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儿童相见不相识，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笑问客从何处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必背古诗 回乡偶书.mp3" descr=""/>
          <p:cNvPicPr/>
          <p:nvPr/>
        </p:nvPicPr>
        <p:blipFill>
          <a:blip r:embed="rId1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293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 flipV="1">
            <a:off x="457200" y="-964440"/>
            <a:ext cx="145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生字学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900000" y="90792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9640" y="1557360"/>
            <a:ext cx="820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偶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然     乡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音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　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鬓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 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68360" y="4365720"/>
            <a:ext cx="838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老　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客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人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 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11280" y="62064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ǒ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924360" y="6206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y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ī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084720" y="620640"/>
            <a:ext cx="136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bì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0" y="3284640"/>
            <a:ext cx="29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shu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ā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3348000" y="328464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k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084720" y="3284640"/>
            <a:ext cx="11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  <a:ea typeface="宋体"/>
              </a:rPr>
              <a:t>hé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"/>
            <p:cNvSpPr/>
            <p:nvPr/>
          </p:nvSpPr>
          <p:spPr>
            <a:xfrm>
              <a:off x="1042920" y="1413000"/>
              <a:ext cx="727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偶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然     乡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音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鬓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5"/>
            <p:cNvSpPr/>
            <p:nvPr/>
          </p:nvSpPr>
          <p:spPr>
            <a:xfrm>
              <a:off x="971640" y="2997360"/>
              <a:ext cx="741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衰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老　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客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人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何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839880" y="101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熟读诗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843560" y="1130400"/>
            <a:ext cx="5081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回乡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偶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少小离家老大回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乡音无改鬓毛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儿童相见不相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笑问客从何处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3419280" y="2708280"/>
            <a:ext cx="215640" cy="50472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4643280" y="2781360"/>
            <a:ext cx="216000" cy="50472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H="1">
            <a:off x="3276360" y="3500280"/>
            <a:ext cx="215640" cy="50508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4500360" y="3573360"/>
            <a:ext cx="215640" cy="50508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 flipH="1">
            <a:off x="3419280" y="4221000"/>
            <a:ext cx="215640" cy="50508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4643280" y="4292640"/>
            <a:ext cx="216000" cy="50472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3492360" y="5013360"/>
            <a:ext cx="216000" cy="50472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 flipH="1">
            <a:off x="4716360" y="5084640"/>
            <a:ext cx="216000" cy="50508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4211640" y="1341360"/>
            <a:ext cx="216000" cy="50508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春江花月夜 纯音乐古筝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35172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900000" y="206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虽然我说话时家乡的口音没有改变，但是耳朵旁边的鬓发都已经白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00000" y="692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年纪轻轻就离开了家乡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  <a:ea typeface="宋体"/>
              </a:rPr>
              <a:t>，到了晚年才回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000" y="357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村里的孩子看见我都不认识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00000" y="458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都笑嘻嘻地问我：“老爷爷，您是从哪儿来的呀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24000" y="1449360"/>
            <a:ext cx="18396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92360" y="189000"/>
            <a:ext cx="583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Times New Roman"/>
              </a:rPr>
              <a:t>回乡偶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132000" y="1341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唐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贺知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213372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少小离家老大回，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乡音无改鬓毛衰。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儿童相见不相识，</a:t>
            </a:r>
            <a:br>
              <a:rPr sz="6000"/>
            </a:br>
            <a:r>
              <a:rPr b="1" lang="zh-CN" sz="6000" spc="-1" strike="noStrike">
                <a:solidFill>
                  <a:srgbClr val="0000cc"/>
                </a:solidFill>
                <a:latin typeface="楷体_GB2312"/>
              </a:rPr>
              <a:t>  笑问客从何处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儿童歌曲 - 回乡偶书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2969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12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1:00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