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6.jpeg" ContentType="image/jpeg"/>
  <Override PartName="/ppt/media/chimes.wav" ContentType="audio/x-wav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4B1B-1866-466F-B555-39C21452E0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347-6C14-4DB6-864D-770B68C66B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0F8-8B88-4711-B2AC-804D242D27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75D-4631-4CD5-8CBE-4E7D4A95F3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9A93-A718-4A63-9992-EFD6ED21A8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833-4C90-4EAD-A249-7A784A9C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595-5313-450E-8582-22106F0D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46A-8CB0-45D8-82E0-E1852396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468-BD80-4DF1-ADF8-CCCA3FE0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CF6-09CD-4637-A835-8B351BB8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4DE-9CDF-4A4C-AE0F-66B76B93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D66-14E4-48AD-9303-AAAF590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CDE-8C2E-4261-AD56-1AAFB54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018-976D-4C8B-9AFF-97DB8B35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2D0-7D4A-4D91-904F-93C2FF2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640-48A0-45E5-A600-F697487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6EF-2501-4EB9-BC31-5BC07C14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6FD-841E-4456-B987-31DDE8F39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110040" y="1733400"/>
            <a:ext cx="453528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ff0000"/>
                  </a:solidFill>
                  <a:round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红 虾</a:t>
            </a:r>
            <a:endParaRPr b="1" lang="en-US" sz="4400" spc="1" strike="noStrike">
              <a:ln w="19080">
                <a:solidFill>
                  <a:srgbClr val="ff0000"/>
                </a:solidFill>
                <a:round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11572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60360" y="907920"/>
            <a:ext cx="68407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f0"/>
                </a:solidFill>
                <a:latin typeface="Calibri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组合作学习课文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—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自然段，把最让你受感动的地方作上标记，并与同学交流自己的感受，从中品味凡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高是一个怎样的人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黑体"/>
              </a:rPr>
              <a:t>引读、品读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几乎是毫不犹豫地把自己刚刚拿到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五个法郎，全部送给这个素不相识的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楚楚可怜的小女孩。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-4181400" y="549360"/>
            <a:ext cx="175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1640" y="1413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他觉得自己所给予这个小女孩的帮助太少，太无济于事，于是便满脸惭愧逃也似的离开了小女孩，消失在凛冽的风雪之中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74637"/>
                </a:solidFill>
                <a:latin typeface="Calibri"/>
                <a:ea typeface="黑体"/>
              </a:rPr>
              <a:t>品读感悟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几乎是毫不犹豫地把自己刚刚拿到手的五个法郎，全部送给这个素不相识的、楚楚可怜的小女孩 。他觉得自己所给予这个小女孩的帮助太少，太无济于事，于是便满脸惭愧逃也似的离开了小女孩，消失在凛冽的风雪之中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5920" y="2130120"/>
            <a:ext cx="61437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5157720"/>
            <a:ext cx="8208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这幅小小的静物画上，几只红虾显得分外诱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611280" y="1052640"/>
            <a:ext cx="7921440" cy="388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4000" y="5157360"/>
            <a:ext cx="36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黑体"/>
              </a:rPr>
              <a:t>我想对您说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内容占位符 6" descr="fangzp001[1].jpg"/>
          <p:cNvPicPr/>
          <p:nvPr/>
        </p:nvPicPr>
        <p:blipFill>
          <a:blip r:embed="rId2"/>
          <a:stretch/>
        </p:blipFill>
        <p:spPr>
          <a:xfrm>
            <a:off x="2484360" y="476280"/>
            <a:ext cx="3479760" cy="4465440"/>
          </a:xfrm>
          <a:prstGeom prst="rect">
            <a:avLst/>
          </a:prstGeom>
          <a:ln w="0">
            <a:noFill/>
          </a:ln>
        </p:spPr>
      </p:pic>
      <p:pic>
        <p:nvPicPr>
          <p:cNvPr id="85" name="纯音乐 - 童年的回忆 - 钢琴演奏 水晶轻音乐.mp3" descr=""/>
          <p:cNvPicPr/>
          <p:nvPr/>
        </p:nvPicPr>
        <p:blipFill>
          <a:blip r:embed="rId3"/>
          <a:stretch/>
        </p:blipFill>
        <p:spPr>
          <a:xfrm>
            <a:off x="86439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1744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1"/>
          <p:cNvSpPr/>
          <p:nvPr/>
        </p:nvSpPr>
        <p:spPr>
          <a:xfrm>
            <a:off x="395280" y="1197000"/>
            <a:ext cx="432108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35e1b"/>
                </a:solidFill>
                <a:latin typeface="Calibri"/>
                <a:ea typeface="黑体"/>
              </a:rPr>
              <a:t>课后延伸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68360" y="2421000"/>
            <a:ext cx="84358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20fb1"/>
                </a:solidFill>
                <a:latin typeface="黑体"/>
                <a:ea typeface="黑体"/>
              </a:rPr>
              <a:t>     </a:t>
            </a:r>
            <a:r>
              <a:rPr b="0" lang="zh-CN" sz="4800" spc="-1" strike="noStrike">
                <a:solidFill>
                  <a:srgbClr val="320fb1"/>
                </a:solidFill>
                <a:latin typeface="黑体"/>
                <a:ea typeface="黑体"/>
              </a:rPr>
              <a:t>把自己的感受写成日记，并转化为自己的实际行动，去帮助那些需要帮助的人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047600" y="550224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凡高.jpg"/>
          <p:cNvPicPr/>
          <p:nvPr/>
        </p:nvPicPr>
        <p:blipFill>
          <a:blip r:embed="rId2"/>
          <a:stretch/>
        </p:blipFill>
        <p:spPr>
          <a:xfrm>
            <a:off x="4357800" y="357120"/>
            <a:ext cx="4419360" cy="5661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3786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文森特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·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凡高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incent V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荷兰人，后期印象画派代表人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主要作品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987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03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3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日，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《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向日葵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》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卖了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399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万美元；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987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1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1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日，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《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鸢尾花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》 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卖了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530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万美元；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99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05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5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日，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《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加歇医生像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》 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卖了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825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万美元。这是艺术品拍卖的最高价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998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1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月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19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日，凡高的一幅 没有胡子的自画像以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7150</a:t>
            </a:r>
            <a:r>
              <a:rPr b="0" lang="zh-CN" sz="2000" spc="-1" strike="noStrike">
                <a:solidFill>
                  <a:srgbClr val="17375e"/>
                </a:solidFill>
                <a:latin typeface="Calibri"/>
              </a:rPr>
              <a:t>万美元卖出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B58C-2C5B-42FF-BEEF-5DD1B3A070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val 4"/>
          <p:cNvSpPr/>
          <p:nvPr/>
        </p:nvSpPr>
        <p:spPr>
          <a:xfrm>
            <a:off x="1042920" y="1413000"/>
            <a:ext cx="3025800" cy="3960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竖排标题 1"/>
          <p:cNvSpPr/>
          <p:nvPr/>
        </p:nvSpPr>
        <p:spPr>
          <a:xfrm>
            <a:off x="4211640" y="260280"/>
            <a:ext cx="435924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凡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高 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文森特</a:t>
            </a:r>
            <a:r>
              <a:rPr b="0" lang="nl-NL" sz="3200" spc="-1" strike="noStrike">
                <a:solidFill>
                  <a:srgbClr val="0d0d0d"/>
                </a:solidFill>
                <a:latin typeface="Calibri"/>
                <a:ea typeface="仿宋_GB2312"/>
              </a:rPr>
              <a:t>·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凡高 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(1853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～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1890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年</a:t>
            </a:r>
            <a:r>
              <a:rPr b="0" lang="nl-NL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0d0d0d"/>
                </a:solidFill>
                <a:latin typeface="仿宋_GB2312"/>
                <a:ea typeface="仿宋_GB2312"/>
              </a:rPr>
              <a:t>出生于荷兰，十九世纪人类最杰出的艺术家之一，后期印象派的代表人物，他一生创作了将近二千幅作品，至今在世界绘画史上享有极高的声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1763640" y="26845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611280" y="549360"/>
            <a:ext cx="7848360" cy="5184720"/>
            <a:chOff x="611280" y="549360"/>
            <a:chExt cx="7848360" cy="5184720"/>
          </a:xfrm>
        </p:grpSpPr>
        <p:pic>
          <p:nvPicPr>
            <p:cNvPr id="54" name="图片 3" descr="未标题-3.jpg"/>
            <p:cNvPicPr/>
            <p:nvPr/>
          </p:nvPicPr>
          <p:blipFill>
            <a:blip r:embed="rId1"/>
            <a:stretch/>
          </p:blipFill>
          <p:spPr>
            <a:xfrm>
              <a:off x="611280" y="549360"/>
              <a:ext cx="784836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6"/>
            <p:cNvSpPr txBox="1"/>
            <p:nvPr/>
          </p:nvSpPr>
          <p:spPr>
            <a:xfrm>
              <a:off x="2843280" y="5300640"/>
              <a:ext cx="381636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0000ff"/>
                    </a:solidFill>
                    <a:round/>
                  </a:ln>
                  <a:solidFill>
                    <a:srgbClr val="ff0066"/>
                  </a:solidFill>
                  <a:latin typeface="黑体"/>
                </a:rPr>
                <a:t>凡</a:t>
              </a:r>
              <a:r>
                <a:rPr b="0" lang="en-US" sz="4400" spc="1" strike="noStrike">
                  <a:ln w="19080">
                    <a:solidFill>
                      <a:srgbClr val="0000ff"/>
                    </a:solidFill>
                    <a:round/>
                  </a:ln>
                  <a:solidFill>
                    <a:srgbClr val="ff0066"/>
                  </a:solidFill>
                  <a:latin typeface="黑体"/>
                </a:rPr>
                <a:t>·</a:t>
              </a:r>
              <a:r>
                <a:rPr b="0" lang="zh-CN" sz="4400" spc="1" strike="noStrike">
                  <a:ln w="19080">
                    <a:solidFill>
                      <a:srgbClr val="0000ff"/>
                    </a:solidFill>
                    <a:round/>
                  </a:ln>
                  <a:solidFill>
                    <a:srgbClr val="ff0066"/>
                  </a:solidFill>
                  <a:latin typeface="黑体"/>
                </a:rPr>
                <a:t>高  《红虾》</a:t>
              </a:r>
              <a:endParaRPr b="0" lang="en-US" sz="44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66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华文新魏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Calibri"/>
                <a:ea typeface="黑体"/>
              </a:rPr>
              <a:t>认读生字新词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房租  绘画  毛毯  恩宠  攥着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惭愧  凛冽  凄惨  勉强  出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6000" spc="-1" strike="noStrike">
                <a:solidFill>
                  <a:srgbClr val="ff0066"/>
                </a:solidFill>
                <a:latin typeface="Calibri"/>
                <a:ea typeface="黑体"/>
              </a:rPr>
              <a:t>词汇积累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落异乡  贫困无助    露宿街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衣衫破旧  孤苦无助    楚楚可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999720"/>
            <a:ext cx="657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黑体"/>
              </a:rPr>
              <a:t>阅读思考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2600" y="2000160"/>
            <a:ext cx="767412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从课文中找出描写凡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高生活状况的段落，边读边划出他的生活及处境的句子，想想凡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黑体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黑体"/>
              </a:rPr>
              <a:t>高当时过着怎样的生活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179280" y="69228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的，这位尚未成名的画家太贫穷了。他一个人流落在异乡，身边既无亲人也无朋友。虽然他每天都从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小时的绘画工作，但是他的画却一张也卖不出去。他因此受尽了人世间的冷遇。他在寒冷的深夜里紧紧地裹着一条旧毛毯，给远方的兄弟写信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几天我过得很不愉快。星期四我的钱已花光了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里我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杯咖啡加一点点面包为生，面包钱还是欠了人家的。今晚下肚的只是一块面包皮了</a:t>
            </a: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而创作却深深吸引着我，我像苦力一样画着我的油画</a:t>
            </a:r>
            <a:r>
              <a:rPr b="0" lang="en-US" sz="2800" spc="-1" strike="noStrike">
                <a:solidFill>
                  <a:srgbClr val="000000"/>
                </a:solidFill>
                <a:latin typeface="DFKai-SB"/>
                <a:ea typeface="黑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DFKai-SB"/>
                <a:ea typeface="黑体"/>
              </a:rPr>
              <a:t>”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生活是这样的不公，年轻的画家是如此的贫困无助！他知道，这个冬天如果再卖不出一张画，那他只有被赶出住所而露宿街头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50000">
              <a:srgbClr val="ffcccc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50920" y="692280"/>
            <a:ext cx="86421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几天我过得很不愉快。星期四我的钱已花光了，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里我靠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杯咖啡加一点点面包为生，面包钱还是欠了人家的。今晚下肚的只是一块面包皮了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‥‥‥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然而创作却深深吸引着我，我像苦力一样画着我的油画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‥‥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1557360"/>
            <a:ext cx="5904000" cy="29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他紧紧地攥着这五个法郎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赶忙离开了小画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1836720" y="2133720"/>
            <a:ext cx="2592360" cy="863640"/>
            <a:chOff x="1836720" y="2133720"/>
            <a:chExt cx="2592360" cy="863640"/>
          </a:xfrm>
        </p:grpSpPr>
        <p:sp>
          <p:nvSpPr>
            <p:cNvPr id="66" name="Oval 17"/>
            <p:cNvSpPr/>
            <p:nvPr/>
          </p:nvSpPr>
          <p:spPr>
            <a:xfrm>
              <a:off x="2268360" y="292572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2700360" y="21337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3133800" y="21337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492360" y="213372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3925800" y="213372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4357800" y="21337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8"/>
            <p:cNvSpPr/>
            <p:nvPr/>
          </p:nvSpPr>
          <p:spPr>
            <a:xfrm>
              <a:off x="1836720" y="292572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1:33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53Z</dcterms:modified>
  <cp:revision>1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