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300-67A0-4A61-9C41-F0A6C44399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0AD-9C66-4383-AA17-C21525EABC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18A-3D9A-44CA-90C5-3284F23A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EB4-4109-44E4-B9DC-33087448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1E9-4F10-4C14-B266-D25C2FDC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D69-9140-4F25-AC98-1B42A25D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2F6-AA30-4226-84EB-EFA71906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5AD-01A7-4CDD-A65D-26FD175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6B5-6473-4DCB-817F-25B32B6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EEF-C95C-461E-A0E3-B0AA421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6E6-F77A-4ED1-9A7B-02DB15AC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0D3-00BA-4899-8C66-6C775CC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CA3-B294-46ED-9B05-00BC9C63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0E9-643B-4EC6-B323-770FC2E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DDA2-4DA2-400A-B3DB-BB159D387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胡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755640" y="981000"/>
            <a:ext cx="381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胡杨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0920" y="2349360"/>
            <a:ext cx="59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711080" y="5950080"/>
            <a:ext cx="572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111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880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877080" y="11592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rId2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prstGeom prst="left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3" action="ppaction://hlinksldjump"/>
          </p:cNvPr>
          <p:cNvSpPr/>
          <p:nvPr/>
        </p:nvSpPr>
        <p:spPr>
          <a:xfrm>
            <a:off x="8459640" y="6453360"/>
            <a:ext cx="360360" cy="217440"/>
          </a:xfrm>
          <a:prstGeom prst="rightArrow">
            <a:avLst>
              <a:gd name="adj1" fmla="val 50000"/>
              <a:gd name="adj2" fmla="val 414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胡9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896000" y="47628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胡杨倒下来一千年不烂，也许与沙漠里干燥的气候有关。但是，我们不要忘记，胡杨是生长了一千年的植物，一千年是个多么结实的概念！并且，在其后的一千年里，借助大漠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炼狱般的环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蒸发掉了体内所有的水分，只留下一身筋骨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雷轰电击只会使它的筋骨更坚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可以设想，即使把它泡进水里，水也进不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写死了的胡杨千年不烂的特点，热情地赞扬胡杨树顽强的生命力和百折不挠的抗争精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哪些句子体现了胡杨树顽强的生命力和百折不挠的精神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1111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880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877080" y="11592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8028000" y="6453360"/>
            <a:ext cx="360360" cy="215640"/>
          </a:xfrm>
          <a:prstGeom prst="leftArrow">
            <a:avLst>
              <a:gd name="adj1" fmla="val 50000"/>
              <a:gd name="adj2" fmla="val 417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>
            <a:hlinkClick r:id="rId3" action="ppaction://hlinksldjump"/>
          </p:cNvPr>
          <p:cNvSpPr/>
          <p:nvPr/>
        </p:nvSpPr>
        <p:spPr>
          <a:xfrm>
            <a:off x="8459640" y="6453360"/>
            <a:ext cx="289080" cy="215640"/>
          </a:xfrm>
          <a:prstGeom prst="rightArrow">
            <a:avLst>
              <a:gd name="adj1" fmla="val 50000"/>
              <a:gd name="adj2" fmla="val 33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胡4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443640" y="126828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大生命有大活力，不以挤压同类作为自己的生存手段，它雄视的是天地，以天地之大，来确立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111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80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877080" y="11592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2" action="ppaction://hlinksldjump"/>
          </p:cNvPr>
          <p:cNvSpPr/>
          <p:nvPr/>
        </p:nvSpPr>
        <p:spPr>
          <a:xfrm>
            <a:off x="7812000" y="6524640"/>
            <a:ext cx="360360" cy="260280"/>
          </a:xfrm>
          <a:prstGeom prst="leftArrow">
            <a:avLst>
              <a:gd name="adj1" fmla="val 50000"/>
              <a:gd name="adj2" fmla="val 345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rId3" action="ppaction://hlinksldjump"/>
          </p:cNvPr>
          <p:cNvSpPr/>
          <p:nvPr/>
        </p:nvSpPr>
        <p:spPr>
          <a:xfrm>
            <a:off x="8317080" y="6524640"/>
            <a:ext cx="358560" cy="216000"/>
          </a:xfrm>
          <a:prstGeom prst="rightArrow">
            <a:avLst>
              <a:gd name="adj1" fmla="val 50000"/>
              <a:gd name="adj2" fmla="val 414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胡1"/>
          <p:cNvPicPr/>
          <p:nvPr/>
        </p:nvPicPr>
        <p:blipFill>
          <a:blip r:embed="rId1"/>
          <a:stretch/>
        </p:blipFill>
        <p:spPr>
          <a:xfrm>
            <a:off x="0" y="0"/>
            <a:ext cx="4572000" cy="4292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716360" y="260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有些大胡杨的叶子落尽了，也许它死于一千年之前，但还大小枝干俱存，依然是一个雄视的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胡杨7"/>
          <p:cNvPicPr/>
          <p:nvPr/>
        </p:nvPicPr>
        <p:blipFill>
          <a:blip r:embed="rId2"/>
          <a:stretch/>
        </p:blipFill>
        <p:spPr>
          <a:xfrm>
            <a:off x="4500720" y="2852640"/>
            <a:ext cx="4643280" cy="4005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08000" y="420372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那些倒下的胡杨，保持着最宽余的卧姿，敲敲它的枝干，还能发出“梆梆”的声音，别以为它是刚刚倒下的，真的，也许它倒下有一千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111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592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77080" y="11592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>
            <a:hlinkClick r:id="rId2" action="ppaction://hlinksldjump"/>
          </p:cNvPr>
          <p:cNvSpPr/>
          <p:nvPr/>
        </p:nvSpPr>
        <p:spPr>
          <a:xfrm>
            <a:off x="8028000" y="6597720"/>
            <a:ext cx="358920" cy="260280"/>
          </a:xfrm>
          <a:prstGeom prst="leftArrow">
            <a:avLst>
              <a:gd name="adj1" fmla="val 50000"/>
              <a:gd name="adj2" fmla="val 344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>
            <a:hlinkClick r:id="rId3" action="ppaction://hlinksldjump"/>
          </p:cNvPr>
          <p:cNvSpPr/>
          <p:nvPr/>
        </p:nvSpPr>
        <p:spPr>
          <a:xfrm>
            <a:off x="8532720" y="6669000"/>
            <a:ext cx="360360" cy="189000"/>
          </a:xfrm>
          <a:prstGeom prst="rightArrow">
            <a:avLst>
              <a:gd name="adj1" fmla="val 50000"/>
              <a:gd name="adj2" fmla="val 476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22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012000" y="189000"/>
            <a:ext cx="313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胡杨有一天不行了，像饮弹的巨人那样歪了歪身子，在倒下之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再挺一挺、挺一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这个挺一挺，使胡杨具有了最大限度的能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12000" y="2492280"/>
            <a:ext cx="313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棵大胡杨的倒下，成为沙漠里罕见的大事故。倾斜中的胡杨发出巨大的开裂声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旋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着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倾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着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刮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了旋风。它的老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带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无数沙石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向天空。树身着地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弹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不止，沙漠为之改变波涛的形状，填平一些沟壑，形成新的沙丘，腾起无数沙尘，尘埃久久不能落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胡杨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1111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592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877080" y="11592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2" action="ppaction://hlinksldjump"/>
          </p:cNvPr>
          <p:cNvSpPr/>
          <p:nvPr/>
        </p:nvSpPr>
        <p:spPr>
          <a:xfrm>
            <a:off x="8317080" y="6597720"/>
            <a:ext cx="358560" cy="260280"/>
          </a:xfrm>
          <a:prstGeom prst="leftArrow">
            <a:avLst>
              <a:gd name="adj1" fmla="val 50000"/>
              <a:gd name="adj2" fmla="val 34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715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7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84360" y="208584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种借一事物的特点，来比喻人的一种品质的写法就叫“借物喻人”。无论是写景还是状物，正确运用借物喻人的方法，可使文章立意深远，表情达意更含蓄，可以大大增强文章的表现力和感染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95160" y="119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写法点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195640" y="90792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00000" y="7095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课外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0000" y="191628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、把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杨柳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和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胡杨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对比阅读，分析二者在表达上的异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、联系生活实际，写一篇读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268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《杨柳》和《胡杨》这两篇文章都运用了 多种修辞手法，表达了对景物的喜爱和赞美之情。《杨柳》一文采用“总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分”的结构，先概括自己喜欢杨柳，然后具体陈述喜欢的原因。《胡杨》一文采用层层深入的方法赞美胡杨，结构十分严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近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催（          ）椭（         ） 肢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摧（          ）随（         ） 枝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燥（          ）澡（         ） 炼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躁（          ）操（         ） 练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俱（          ）埃（         ） 缘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惧（          ）挨（         ） 喙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冠（          ）嫌（         ） 嫩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寇（          ）赚（         ） 懒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惊讶（惊奇）舒展（伸展）感叹（感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肢解（分解）雄视（仰视）变幻（变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屹立（挺立）慌忙（急忙）随意（随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挂碍（牵挂）结实（壮实）坚硬（坚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漠视（轻视）设想（假想）确立（确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湮灭（埋没）间隔（间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076400" y="532116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干燥（湿润）     坚硬（松软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舒展（收缩）     浓密（稀疏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罕见（常见）     具体（抽象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漠视（在意）     屹立（倒下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230-46DA-4FF6-8907-49B532AF0F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胡杨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胡杨2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胡9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6659640" y="16207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胡杨5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79280" y="62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种树，可以“活着一千年不死，死了一千年不倒，倒下一千年不烂”。这种树就是胡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920" y="37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一种生命，屹立着，或者倒下，无论活着还是死去，都使人不能漠视它的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第一句是文章的总起句，形象概括了胡杨的特点。千年不死，千年不倒，千年不烂，运用了排比、夸张的修辞手法，语言简练，意境深远，具有极强的吸引力，促使读者产生浓厚的阅读兴趣。抒发了作者对胡杨顽强的生命力的敬畏之情，赞美了大自然的神奇伟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第二句在文章中起画龙点睛的作用。这是作者看到了大漠深处的胡杨后的深刻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胡杨树在缺水的大漠中顽强地生长着，与大漠中极其恶劣的自然条件抗争着。无论是挺立着还是倒下，活着还是死去，都充满了顽强和百折不挠的抗争精神，都强烈地震撼着人们的心灵，使人油然敬佩，忍不住高声赞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558720"/>
            <a:ext cx="842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小组合作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胡杨是一种怎样的树？它为什么能让作者产生这样深深的敬意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472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方法点拨：请带着这个问题小组合作研读课文，找出相关的词句划记出来，并在组内交流感想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659640" y="6568920"/>
            <a:ext cx="288720" cy="289080"/>
          </a:xfrm>
          <a:custGeom>
            <a:avLst/>
            <a:gdLst>
              <a:gd name="textAreaLeft" fmla="*/ 36000 w 288720"/>
              <a:gd name="textAreaRight" fmla="*/ 252720 w 288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rId1" action="ppaction://hlinksldjump"/>
          </p:cNvPr>
          <p:cNvSpPr/>
          <p:nvPr/>
        </p:nvSpPr>
        <p:spPr>
          <a:xfrm>
            <a:off x="7093080" y="6568920"/>
            <a:ext cx="288720" cy="289080"/>
          </a:xfrm>
          <a:custGeom>
            <a:avLst/>
            <a:gdLst>
              <a:gd name="textAreaLeft" fmla="*/ 36000 w 288720"/>
              <a:gd name="textAreaRight" fmla="*/ 252720 w 288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>
            <a:hlinkClick r:id="rId2" action="ppaction://hlinksldjump"/>
          </p:cNvPr>
          <p:cNvSpPr/>
          <p:nvPr/>
        </p:nvSpPr>
        <p:spPr>
          <a:xfrm>
            <a:off x="7524720" y="6568920"/>
            <a:ext cx="289080" cy="289080"/>
          </a:xfrm>
          <a:custGeom>
            <a:avLst/>
            <a:gdLst>
              <a:gd name="textAreaLeft" fmla="*/ 36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>
            <a:hlinkClick r:id="rId3" action="ppaction://hlinksldjump"/>
          </p:cNvPr>
          <p:cNvSpPr/>
          <p:nvPr/>
        </p:nvSpPr>
        <p:spPr>
          <a:xfrm>
            <a:off x="8028000" y="6568920"/>
            <a:ext cx="289080" cy="289080"/>
          </a:xfrm>
          <a:custGeom>
            <a:avLst/>
            <a:gdLst>
              <a:gd name="textAreaLeft" fmla="*/ 36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>
            <a:hlinkClick r:id="rId4" action="ppaction://hlinksldjump"/>
          </p:cNvPr>
          <p:cNvSpPr/>
          <p:nvPr/>
        </p:nvSpPr>
        <p:spPr>
          <a:xfrm>
            <a:off x="8459640" y="6568920"/>
            <a:ext cx="289080" cy="289080"/>
          </a:xfrm>
          <a:custGeom>
            <a:avLst/>
            <a:gdLst>
              <a:gd name="textAreaLeft" fmla="*/ 36000 w 289080"/>
              <a:gd name="textAreaRight" fmla="*/ 253080 w 289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588000" y="0"/>
            <a:ext cx="25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胡杨是沙漠里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巨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大胡杨的主干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两三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才能抱拢。胡杨立于大漠深处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森森然，万力不可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远远地见到它，觉得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不可逼视，心跳得慌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516720" y="5300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大生命是搬不动的，更是不可肢解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胡杨2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19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6:37Z</dcterms:modified>
  <cp:revision>6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