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3527-5170-460E-8695-C7183B3720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AA17-64DD-4021-854E-EB5C29EF2E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FBE-A844-451E-9675-CB38CA56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011-7661-4AEB-B7BA-4FFE35FF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FC8-B01E-4B07-815B-4B2EE261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4EE-E59A-4BC7-8E0F-D306BF6E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E88-0577-42E6-A6B2-61DEE619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860-62B5-48CB-800F-775FC807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ECC-DFBC-4FD2-83FF-3D4E6970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AAC-2379-4B21-9DB9-39A92129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11D-C000-4EB1-8AA9-CD724FE5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E16-D692-4C14-8351-7D0701DD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326-4F5B-4CD9-B6A1-6B67E78D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D0F-8C0C-4576-BD5B-1B25EB2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E051-0E20-4F6F-9A55-3DD9FC03A8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3" descr=""/>
          <p:cNvPicPr/>
          <p:nvPr/>
        </p:nvPicPr>
        <p:blipFill>
          <a:blip r:embed="rId2"/>
          <a:stretch/>
        </p:blipFill>
        <p:spPr>
          <a:xfrm>
            <a:off x="2328840" y="1197000"/>
            <a:ext cx="4898880" cy="156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5704934827972350033"/>
          <p:cNvPicPr/>
          <p:nvPr/>
        </p:nvPicPr>
        <p:blipFill>
          <a:blip r:embed="rId3"/>
          <a:stretch/>
        </p:blipFill>
        <p:spPr>
          <a:xfrm>
            <a:off x="625320" y="33336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1" name="矩形 7" descr=""/>
          <p:cNvPicPr/>
          <p:nvPr/>
        </p:nvPicPr>
        <p:blipFill>
          <a:blip r:embed="rId4"/>
          <a:stretch/>
        </p:blipFill>
        <p:spPr>
          <a:xfrm>
            <a:off x="1862280" y="609300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108000" y="44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上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激情展示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9280" y="981000"/>
            <a:ext cx="705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有感情地朗读课文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要求：声音洪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正确流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有  感  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其他同学认真听，正确评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95280" y="84528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大胆说出你的观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这篇课文主要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篇课文主要讲了下雨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   ）为       （  ）（  ）（   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....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打伞，自己却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(   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一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你喜欢荷叶姐姐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（   ）荷叶姐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因为荷叶姐姐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9640" y="245268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这篇课文主要讲了下雨了，（荷叶姐姐）为（小鱼）、（蜻蜓）、（青蛙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.....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打伞，自己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淋湿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)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的一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79280" y="2852640"/>
            <a:ext cx="972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556080" y="105264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这篇课文主要写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9"/>
          <p:cNvSpPr/>
          <p:nvPr/>
        </p:nvSpPr>
        <p:spPr>
          <a:xfrm>
            <a:off x="1300320" y="1800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9"/>
          <p:cNvPicPr/>
          <p:nvPr/>
        </p:nvPicPr>
        <p:blipFill>
          <a:blip r:embed="rId1"/>
          <a:srcRect l="0" t="0" r="0" b="317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24000" y="7639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我（喜欢）荷叶姐姐，因为荷叶姐姐（助人为乐，有爱心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8000" y="117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2050920" y="4653000"/>
            <a:ext cx="1009800" cy="131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 rot="2400000">
            <a:off x="3419280" y="4508640"/>
            <a:ext cx="1002960" cy="865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 rot="3540000">
            <a:off x="4598640" y="4554360"/>
            <a:ext cx="653760" cy="56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 rot="2580000">
            <a:off x="3995280" y="4581000"/>
            <a:ext cx="703440" cy="605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3492360" y="6021360"/>
            <a:ext cx="1149480" cy="647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4170960" y="3067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荷叶姐姐为了别人遮雨自己却淋湿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031120" y="1092960"/>
            <a:ext cx="28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条小鱼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来，躲在她的伞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991240" y="1593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群蜻蜓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来，躲在她的伞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895760" y="2169360"/>
            <a:ext cx="337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只青蛙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来，躲在她的伞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2477520" y="270360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—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来，躲在她的伞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箭头 197"/>
          <p:cNvSpPr/>
          <p:nvPr/>
        </p:nvSpPr>
        <p:spPr>
          <a:xfrm flipV="1">
            <a:off x="6227640" y="227664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7067880" y="1887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略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468360" y="1341360"/>
            <a:ext cx="8497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自学目标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会正确书写本课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个生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会组词，会理解，会运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469800" y="549360"/>
            <a:ext cx="85662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内容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观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个生字，说说它们在田字格中所占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自学课本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个生字，说一说笔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这些字中的哪些笔画是你认识的？哪些不认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95160" y="189000"/>
            <a:ext cx="166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思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116000" y="24210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</a:rPr>
              <a:t>、学生独立思考。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</a:rPr>
              <a:t>、在练习本上试着写一写生字笔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803520" y="333360"/>
            <a:ext cx="19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议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1280" y="213372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</a:rPr>
              <a:t>、小学友给小老师说一说记忆生字的方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</a:rPr>
              <a:t>、小老师教给小学友学习生字的方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695160" y="189000"/>
            <a:ext cx="166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展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79280" y="1341360"/>
            <a:ext cx="79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姐（姐姐）（表姐）（姐夫）（姐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她（她的）（她们）（是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却（却是）（了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亮（闪亮）（亮光）（明亮）（亮晶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闪（闪光）（闪烁）（一闪）（电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高（高兴）（高歌）（长高）（高招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6086520" y="2349360"/>
            <a:ext cx="1582200" cy="1440000"/>
            <a:chOff x="6086520" y="2349360"/>
            <a:chExt cx="1582200" cy="1440000"/>
          </a:xfrm>
        </p:grpSpPr>
        <p:sp>
          <p:nvSpPr>
            <p:cNvPr id="140" name="Rectangle 3"/>
            <p:cNvSpPr/>
            <p:nvPr/>
          </p:nvSpPr>
          <p:spPr>
            <a:xfrm>
              <a:off x="6100200" y="2349360"/>
              <a:ext cx="15685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"/>
            <p:cNvSpPr/>
            <p:nvPr/>
          </p:nvSpPr>
          <p:spPr>
            <a:xfrm>
              <a:off x="6885360" y="2349360"/>
              <a:ext cx="0" cy="144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6086520" y="3057480"/>
              <a:ext cx="1568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6"/>
          <p:cNvGrpSpPr/>
          <p:nvPr/>
        </p:nvGrpSpPr>
        <p:grpSpPr>
          <a:xfrm>
            <a:off x="4572000" y="2276640"/>
            <a:ext cx="1452600" cy="1439640"/>
            <a:chOff x="4572000" y="2276640"/>
            <a:chExt cx="1452600" cy="1439640"/>
          </a:xfrm>
        </p:grpSpPr>
        <p:sp>
          <p:nvSpPr>
            <p:cNvPr id="144" name="Rectangle 7"/>
            <p:cNvSpPr/>
            <p:nvPr/>
          </p:nvSpPr>
          <p:spPr>
            <a:xfrm>
              <a:off x="4584600" y="227664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5305320" y="227664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4572000" y="298440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"/>
          <p:cNvGrpSpPr/>
          <p:nvPr/>
        </p:nvGrpSpPr>
        <p:grpSpPr>
          <a:xfrm>
            <a:off x="2916360" y="2276640"/>
            <a:ext cx="1452600" cy="1441080"/>
            <a:chOff x="2916360" y="2276640"/>
            <a:chExt cx="1452600" cy="1441080"/>
          </a:xfrm>
        </p:grpSpPr>
        <p:sp>
          <p:nvSpPr>
            <p:cNvPr id="148" name="Rectangle 11"/>
            <p:cNvSpPr/>
            <p:nvPr/>
          </p:nvSpPr>
          <p:spPr>
            <a:xfrm>
              <a:off x="2928960" y="2276640"/>
              <a:ext cx="1440000" cy="144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3649680" y="2276640"/>
              <a:ext cx="0" cy="144108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>
              <a:off x="2916360" y="298512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4"/>
          <p:cNvSpPr/>
          <p:nvPr/>
        </p:nvSpPr>
        <p:spPr>
          <a:xfrm>
            <a:off x="395280" y="836640"/>
            <a:ext cx="331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【评】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5"/>
          <p:cNvGrpSpPr/>
          <p:nvPr/>
        </p:nvGrpSpPr>
        <p:grpSpPr>
          <a:xfrm>
            <a:off x="1116000" y="2276640"/>
            <a:ext cx="1452600" cy="1441080"/>
            <a:chOff x="1116000" y="2276640"/>
            <a:chExt cx="1452600" cy="1441080"/>
          </a:xfrm>
        </p:grpSpPr>
        <p:sp>
          <p:nvSpPr>
            <p:cNvPr id="153" name="Rectangle 16"/>
            <p:cNvSpPr/>
            <p:nvPr/>
          </p:nvSpPr>
          <p:spPr>
            <a:xfrm>
              <a:off x="1128600" y="2276640"/>
              <a:ext cx="1440000" cy="144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7"/>
            <p:cNvSpPr/>
            <p:nvPr/>
          </p:nvSpPr>
          <p:spPr>
            <a:xfrm>
              <a:off x="1849320" y="2276640"/>
              <a:ext cx="0" cy="144108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8"/>
            <p:cNvSpPr/>
            <p:nvPr/>
          </p:nvSpPr>
          <p:spPr>
            <a:xfrm>
              <a:off x="1116000" y="298512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9"/>
          <p:cNvSpPr/>
          <p:nvPr/>
        </p:nvSpPr>
        <p:spPr>
          <a:xfrm>
            <a:off x="1116000" y="2205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2916360" y="2276640"/>
            <a:ext cx="1439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4572000" y="2205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2"/>
          <p:cNvGrpSpPr/>
          <p:nvPr/>
        </p:nvGrpSpPr>
        <p:grpSpPr>
          <a:xfrm>
            <a:off x="4643280" y="4365720"/>
            <a:ext cx="1452600" cy="1441080"/>
            <a:chOff x="4643280" y="4365720"/>
            <a:chExt cx="1452600" cy="1441080"/>
          </a:xfrm>
        </p:grpSpPr>
        <p:sp>
          <p:nvSpPr>
            <p:cNvPr id="160" name="Rectangle 23"/>
            <p:cNvSpPr/>
            <p:nvPr/>
          </p:nvSpPr>
          <p:spPr>
            <a:xfrm>
              <a:off x="4655880" y="4365720"/>
              <a:ext cx="1440000" cy="144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4"/>
            <p:cNvSpPr/>
            <p:nvPr/>
          </p:nvSpPr>
          <p:spPr>
            <a:xfrm>
              <a:off x="5376600" y="4365720"/>
              <a:ext cx="0" cy="144108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>
              <a:off x="4643280" y="507420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4716360" y="4365720"/>
            <a:ext cx="1440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1187280" y="4221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2916360" y="4149720"/>
            <a:ext cx="143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1116000" y="2276640"/>
            <a:ext cx="1440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0"/>
          <p:cNvGrpSpPr/>
          <p:nvPr/>
        </p:nvGrpSpPr>
        <p:grpSpPr>
          <a:xfrm>
            <a:off x="1260360" y="4365720"/>
            <a:ext cx="1452600" cy="1439640"/>
            <a:chOff x="1260360" y="4365720"/>
            <a:chExt cx="1452600" cy="1439640"/>
          </a:xfrm>
        </p:grpSpPr>
        <p:sp>
          <p:nvSpPr>
            <p:cNvPr id="168" name="Rectangle 31"/>
            <p:cNvSpPr/>
            <p:nvPr/>
          </p:nvSpPr>
          <p:spPr>
            <a:xfrm>
              <a:off x="1272960" y="436572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2"/>
            <p:cNvSpPr/>
            <p:nvPr/>
          </p:nvSpPr>
          <p:spPr>
            <a:xfrm>
              <a:off x="1993680" y="43657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3"/>
            <p:cNvSpPr/>
            <p:nvPr/>
          </p:nvSpPr>
          <p:spPr>
            <a:xfrm>
              <a:off x="1260360" y="50734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4"/>
          <p:cNvGrpSpPr/>
          <p:nvPr/>
        </p:nvGrpSpPr>
        <p:grpSpPr>
          <a:xfrm>
            <a:off x="2987640" y="4365720"/>
            <a:ext cx="1452600" cy="1439640"/>
            <a:chOff x="2987640" y="4365720"/>
            <a:chExt cx="1452600" cy="1439640"/>
          </a:xfrm>
        </p:grpSpPr>
        <p:sp>
          <p:nvSpPr>
            <p:cNvPr id="172" name="Rectangle 35"/>
            <p:cNvSpPr/>
            <p:nvPr/>
          </p:nvSpPr>
          <p:spPr>
            <a:xfrm>
              <a:off x="3000240" y="436572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6"/>
            <p:cNvSpPr/>
            <p:nvPr/>
          </p:nvSpPr>
          <p:spPr>
            <a:xfrm>
              <a:off x="3720960" y="43657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7"/>
            <p:cNvSpPr/>
            <p:nvPr/>
          </p:nvSpPr>
          <p:spPr>
            <a:xfrm>
              <a:off x="2987640" y="50734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1"/>
          <p:cNvSpPr/>
          <p:nvPr/>
        </p:nvSpPr>
        <p:spPr>
          <a:xfrm>
            <a:off x="673200" y="594684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4309200" y="1771920"/>
            <a:ext cx="86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幼圆"/>
              </a:rPr>
              <a:t>一把大伞绿又圆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幼圆"/>
              </a:rPr>
              <a:t>夏天站在水里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722480" y="4147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荷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5课 草g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803160" y="189000"/>
            <a:ext cx="116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【检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95280" y="19177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辨字组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50920" y="328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姐（  ）他（  ）却（  ）亮（  ）闪（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组（  ）她（  ）确（  ）高（  ）间（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A235-D145-487C-A261-F652DDCFAF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00831223585615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525429_122531073584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4632997_112544005726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64739244660385517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2360" y="333360"/>
            <a:ext cx="8893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备学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、读课文，要求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声音洪亮、正确流利、有感情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、在课文中圈出要求认识和书写的字，读一读，再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、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这篇课文主要写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你喜欢荷叶姐姐吗？为什么？结合文中内容，谈谈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900000" y="189000"/>
            <a:ext cx="57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备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1268280"/>
            <a:ext cx="727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自己大声地朗读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要求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: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声音洪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正确流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  感  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你需要帮助，请进入专题网群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荷叶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11280" y="1197000"/>
            <a:ext cx="8172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、在课文读出所圈的生字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口头组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89661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有感情读课文，标出自然段。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）这篇课文主要写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篇课文主要讲了下雨了，（     ）为（        ）、（       ）、（       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.....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打伞，自己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(      )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一件事。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）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你喜欢荷叶姐姐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我（   ）荷叶姐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因为荷叶姐姐（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：如果你完成了，可以找组内同样完成任务的小伙伴进行交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伙伴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之间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读一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900000" y="126828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姐  她   却  亮  闪  高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荷  伞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翠  蜻   蜓  遮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淋  湿  照  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547640" y="3645000"/>
            <a:ext cx="5772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jiě  jie    zh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姐   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眨 着 眼 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6086520" y="2349360"/>
            <a:ext cx="1582200" cy="1440000"/>
            <a:chOff x="6086520" y="2349360"/>
            <a:chExt cx="1582200" cy="1440000"/>
          </a:xfrm>
        </p:grpSpPr>
        <p:sp>
          <p:nvSpPr>
            <p:cNvPr id="70" name="Rectangle 3"/>
            <p:cNvSpPr/>
            <p:nvPr/>
          </p:nvSpPr>
          <p:spPr>
            <a:xfrm>
              <a:off x="6100200" y="2349360"/>
              <a:ext cx="15685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4"/>
            <p:cNvSpPr/>
            <p:nvPr/>
          </p:nvSpPr>
          <p:spPr>
            <a:xfrm>
              <a:off x="6885360" y="2349360"/>
              <a:ext cx="0" cy="144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"/>
            <p:cNvSpPr/>
            <p:nvPr/>
          </p:nvSpPr>
          <p:spPr>
            <a:xfrm>
              <a:off x="6086520" y="3057480"/>
              <a:ext cx="1568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6"/>
          <p:cNvGrpSpPr/>
          <p:nvPr/>
        </p:nvGrpSpPr>
        <p:grpSpPr>
          <a:xfrm>
            <a:off x="6110280" y="655560"/>
            <a:ext cx="1452600" cy="1440000"/>
            <a:chOff x="6110280" y="655560"/>
            <a:chExt cx="1452600" cy="1440000"/>
          </a:xfrm>
        </p:grpSpPr>
        <p:sp>
          <p:nvSpPr>
            <p:cNvPr id="74" name="Rectangle 7"/>
            <p:cNvSpPr/>
            <p:nvPr/>
          </p:nvSpPr>
          <p:spPr>
            <a:xfrm>
              <a:off x="6122880" y="655560"/>
              <a:ext cx="1440000" cy="1440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6843600" y="655560"/>
              <a:ext cx="0" cy="144000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6110280" y="13636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454640" y="655560"/>
            <a:ext cx="1452600" cy="1441080"/>
            <a:chOff x="4454640" y="655560"/>
            <a:chExt cx="1452600" cy="1441080"/>
          </a:xfrm>
        </p:grpSpPr>
        <p:sp>
          <p:nvSpPr>
            <p:cNvPr id="78" name="Rectangle 11"/>
            <p:cNvSpPr/>
            <p:nvPr/>
          </p:nvSpPr>
          <p:spPr>
            <a:xfrm>
              <a:off x="4467240" y="655560"/>
              <a:ext cx="1440000" cy="144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5187960" y="655560"/>
              <a:ext cx="0" cy="144108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4454640" y="136404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5"/>
          <p:cNvGrpSpPr/>
          <p:nvPr/>
        </p:nvGrpSpPr>
        <p:grpSpPr>
          <a:xfrm>
            <a:off x="2654280" y="655560"/>
            <a:ext cx="1452600" cy="1441080"/>
            <a:chOff x="2654280" y="655560"/>
            <a:chExt cx="1452600" cy="1441080"/>
          </a:xfrm>
        </p:grpSpPr>
        <p:sp>
          <p:nvSpPr>
            <p:cNvPr id="82" name="Rectangle 16"/>
            <p:cNvSpPr/>
            <p:nvPr/>
          </p:nvSpPr>
          <p:spPr>
            <a:xfrm>
              <a:off x="2666880" y="655560"/>
              <a:ext cx="1440000" cy="144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3387600" y="655560"/>
              <a:ext cx="0" cy="144108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2654280" y="136404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2654280" y="58428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4454640" y="584280"/>
            <a:ext cx="1439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6110280" y="58428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2"/>
          <p:cNvGrpSpPr/>
          <p:nvPr/>
        </p:nvGrpSpPr>
        <p:grpSpPr>
          <a:xfrm>
            <a:off x="6181560" y="2744640"/>
            <a:ext cx="1452600" cy="1441080"/>
            <a:chOff x="6181560" y="2744640"/>
            <a:chExt cx="1452600" cy="1441080"/>
          </a:xfrm>
        </p:grpSpPr>
        <p:sp>
          <p:nvSpPr>
            <p:cNvPr id="89" name="Rectangle 23"/>
            <p:cNvSpPr/>
            <p:nvPr/>
          </p:nvSpPr>
          <p:spPr>
            <a:xfrm>
              <a:off x="6194160" y="2744640"/>
              <a:ext cx="1440000" cy="144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6914880" y="2744640"/>
              <a:ext cx="0" cy="144108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181560" y="345312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26"/>
          <p:cNvSpPr/>
          <p:nvPr/>
        </p:nvSpPr>
        <p:spPr>
          <a:xfrm>
            <a:off x="6181560" y="2600280"/>
            <a:ext cx="1440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97200" y="260028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4525920" y="2600280"/>
            <a:ext cx="144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2654280" y="584280"/>
            <a:ext cx="1440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0"/>
          <p:cNvGrpSpPr/>
          <p:nvPr/>
        </p:nvGrpSpPr>
        <p:grpSpPr>
          <a:xfrm>
            <a:off x="2798640" y="2744640"/>
            <a:ext cx="1452600" cy="1440000"/>
            <a:chOff x="2798640" y="2744640"/>
            <a:chExt cx="1452600" cy="1440000"/>
          </a:xfrm>
        </p:grpSpPr>
        <p:sp>
          <p:nvSpPr>
            <p:cNvPr id="97" name="Rectangle 31"/>
            <p:cNvSpPr/>
            <p:nvPr/>
          </p:nvSpPr>
          <p:spPr>
            <a:xfrm>
              <a:off x="2811240" y="2744640"/>
              <a:ext cx="1440000" cy="1440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3531960" y="2744640"/>
              <a:ext cx="0" cy="144000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798640" y="345276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4"/>
          <p:cNvGrpSpPr/>
          <p:nvPr/>
        </p:nvGrpSpPr>
        <p:grpSpPr>
          <a:xfrm>
            <a:off x="4525920" y="2744640"/>
            <a:ext cx="1452600" cy="1440000"/>
            <a:chOff x="4525920" y="2744640"/>
            <a:chExt cx="1452600" cy="1440000"/>
          </a:xfrm>
        </p:grpSpPr>
        <p:sp>
          <p:nvSpPr>
            <p:cNvPr id="101" name="Rectangle 35"/>
            <p:cNvSpPr/>
            <p:nvPr/>
          </p:nvSpPr>
          <p:spPr>
            <a:xfrm>
              <a:off x="4538520" y="2744640"/>
              <a:ext cx="1440000" cy="1440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6"/>
            <p:cNvSpPr/>
            <p:nvPr/>
          </p:nvSpPr>
          <p:spPr>
            <a:xfrm>
              <a:off x="5259240" y="2744640"/>
              <a:ext cx="0" cy="144000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7"/>
            <p:cNvSpPr/>
            <p:nvPr/>
          </p:nvSpPr>
          <p:spPr>
            <a:xfrm>
              <a:off x="4525920" y="345276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4:59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8:32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8e95000000000001024100</vt:lpwstr>
  </property>
</Properties>
</file>