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CB9B-4FEF-4059-8E0F-045A6ECCC8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42E6-DBD1-4786-8EBE-C50138AB84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522-08A7-4601-B526-C8C17BB6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730-AC2D-4E24-8E92-4FEC091B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1E4-6423-43F9-8381-3BCF8B16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6D7-99B2-4B95-A66A-29858897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5E0-4697-41A0-BF7F-A08E5EE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BF5-6C7C-4180-9277-782D16F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4F4-7042-497F-817B-4960D34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6CF-A795-4C81-A875-AA129E3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BF1-3B14-400B-BC1A-C0027F08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818-BEFE-4067-9F2E-12A0758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29D-B5BE-453C-A5C9-1D4850EE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0CF-2651-4E77-AA88-0AA7756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51FF-1152-47A1-9C68-23C8D1B5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162000" y="-196920"/>
            <a:ext cx="9468000" cy="7251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4"/>
          <p:cNvSpPr/>
          <p:nvPr/>
        </p:nvSpPr>
        <p:spPr>
          <a:xfrm>
            <a:off x="1979640" y="2349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华文中宋"/>
                <a:ea typeface="华文中宋"/>
              </a:rPr>
              <a:t>会植树的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63360" y="5986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208" name="AutoShape 6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2449440" y="1298520"/>
              <a:ext cx="6000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9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212" name="Oval 10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1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215" name="未知"/>
                <p:cNvSpPr/>
                <p:nvPr/>
              </p:nvSpPr>
              <p:spPr>
                <a:xfrm rot="18580800">
                  <a:off x="1929240" y="9453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5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16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219" name="AutoShape 17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8"/>
            <p:cNvSpPr/>
            <p:nvPr/>
          </p:nvSpPr>
          <p:spPr>
            <a:xfrm>
              <a:off x="2449440" y="3139920"/>
              <a:ext cx="60008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9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0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223" name="Oval 21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22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23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226" name="未知"/>
                <p:cNvSpPr/>
                <p:nvPr/>
              </p:nvSpPr>
              <p:spPr>
                <a:xfrm rot="18580800">
                  <a:off x="1929240" y="27867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26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27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230" name="AutoShape 28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9"/>
            <p:cNvSpPr/>
            <p:nvPr/>
          </p:nvSpPr>
          <p:spPr>
            <a:xfrm>
              <a:off x="2449440" y="5057640"/>
              <a:ext cx="60008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0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234" name="Oval 32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3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34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237" name="未知"/>
                <p:cNvSpPr/>
                <p:nvPr/>
              </p:nvSpPr>
              <p:spPr>
                <a:xfrm rot="18580800">
                  <a:off x="1929240" y="4704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37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Group 38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241" name="Group 39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242" name="Picture 40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AutoShape 41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42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AutoShape 43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5"/>
          <p:cNvSpPr/>
          <p:nvPr/>
        </p:nvSpPr>
        <p:spPr>
          <a:xfrm>
            <a:off x="4147560" y="15764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以外貌取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5361480" y="308772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切事物并非美丽就可爱，而是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爱才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9"/>
          <p:cNvSpPr/>
          <p:nvPr/>
        </p:nvSpPr>
        <p:spPr>
          <a:xfrm>
            <a:off x="3963600" y="517680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命虽然短暂，做事却很执着、一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苟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E39D-0C67-41DF-AD4E-56C7A29396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468360" y="907920"/>
            <a:ext cx="2705040" cy="4969080"/>
            <a:chOff x="468360" y="907920"/>
            <a:chExt cx="2705040" cy="4969080"/>
          </a:xfrm>
        </p:grpSpPr>
        <p:pic>
          <p:nvPicPr>
            <p:cNvPr id="52" name="Picture 3" descr="22dm_95"/>
            <p:cNvPicPr/>
            <p:nvPr/>
          </p:nvPicPr>
          <p:blipFill>
            <a:blip r:embed="rId1"/>
            <a:stretch/>
          </p:blipFill>
          <p:spPr>
            <a:xfrm>
              <a:off x="1776600" y="4060800"/>
              <a:ext cx="139356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4"/>
            <p:cNvSpPr/>
            <p:nvPr/>
          </p:nvSpPr>
          <p:spPr>
            <a:xfrm>
              <a:off x="468360" y="907920"/>
              <a:ext cx="2705040" cy="496908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69080"/>
                <a:gd name="textAreaBottom" fmla="*/ 4929840 h 4969080"/>
              </a:gdLst>
              <a:ahLst/>
              <a:rect l="textAreaLeft" t="textAreaTop" r="textAreaRight" b="textAreaBottom"/>
              <a:pathLst>
                <a:path w="21600" h="39676">
                  <a:moveTo>
                    <a:pt x="1072" y="0"/>
                  </a:moveTo>
                  <a:arcTo wR="1072" hR="1072" stAng="16200000" swAng="-5400000"/>
                  <a:lnTo>
                    <a:pt x="0" y="38604"/>
                  </a:lnTo>
                  <a:arcTo wR="1072" hR="1072" stAng="10800000" swAng="-5400000"/>
                  <a:lnTo>
                    <a:pt x="20528" y="39676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5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59" name="Oval 10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3419640" y="2565360"/>
            <a:ext cx="266400" cy="300240"/>
            <a:chOff x="3419640" y="2565360"/>
            <a:chExt cx="266400" cy="300240"/>
          </a:xfrm>
        </p:grpSpPr>
        <p:sp>
          <p:nvSpPr>
            <p:cNvPr id="65" name="Oval 16"/>
            <p:cNvSpPr/>
            <p:nvPr/>
          </p:nvSpPr>
          <p:spPr>
            <a:xfrm>
              <a:off x="3419640" y="2565360"/>
              <a:ext cx="266400" cy="3002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435840" y="2643480"/>
              <a:ext cx="232560" cy="2916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3426120" y="2670840"/>
              <a:ext cx="253080" cy="2916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3520080" y="2732400"/>
              <a:ext cx="6228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3549960" y="2787480"/>
              <a:ext cx="0" cy="78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3419640" y="3573360"/>
            <a:ext cx="266400" cy="266760"/>
            <a:chOff x="3419640" y="3573360"/>
            <a:chExt cx="266400" cy="266760"/>
          </a:xfrm>
        </p:grpSpPr>
        <p:sp>
          <p:nvSpPr>
            <p:cNvPr id="71" name="Oval 22"/>
            <p:cNvSpPr/>
            <p:nvPr/>
          </p:nvSpPr>
          <p:spPr>
            <a:xfrm>
              <a:off x="3419640" y="357336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3435840" y="364284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3426120" y="366732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3520080" y="372168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3549960" y="37706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419640" y="4437000"/>
            <a:ext cx="266400" cy="266760"/>
            <a:chOff x="3419640" y="4437000"/>
            <a:chExt cx="266400" cy="266760"/>
          </a:xfrm>
        </p:grpSpPr>
        <p:sp>
          <p:nvSpPr>
            <p:cNvPr id="77" name="Oval 28"/>
            <p:cNvSpPr/>
            <p:nvPr/>
          </p:nvSpPr>
          <p:spPr>
            <a:xfrm>
              <a:off x="3419640" y="44370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435840" y="45064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426120" y="45309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3520080" y="45853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3549960" y="46342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3"/>
          <p:cNvSpPr/>
          <p:nvPr/>
        </p:nvSpPr>
        <p:spPr>
          <a:xfrm>
            <a:off x="900000" y="1989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3708360" y="1401120"/>
            <a:ext cx="51008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茫茫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g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 大约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uē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盘旋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 翻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f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铁钉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īng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爪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zh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坑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 大概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衔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i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á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接   黑黝黝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3419640" y="5300640"/>
            <a:ext cx="266400" cy="266760"/>
            <a:chOff x="3419640" y="5300640"/>
            <a:chExt cx="266400" cy="266760"/>
          </a:xfrm>
        </p:grpSpPr>
        <p:sp>
          <p:nvSpPr>
            <p:cNvPr id="85" name="Oval 36"/>
            <p:cNvSpPr/>
            <p:nvPr/>
          </p:nvSpPr>
          <p:spPr>
            <a:xfrm>
              <a:off x="3419640" y="530064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435840" y="537012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3426120" y="539460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3520080" y="544896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0"/>
            <p:cNvSpPr/>
            <p:nvPr/>
          </p:nvSpPr>
          <p:spPr>
            <a:xfrm>
              <a:off x="3549960" y="5497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5148360" y="1341360"/>
            <a:ext cx="3403440" cy="4680000"/>
          </a:xfrm>
          <a:custGeom>
            <a:avLst/>
            <a:gdLst>
              <a:gd name="textAreaLeft" fmla="*/ 87840 w 3403440"/>
              <a:gd name="textAreaRight" fmla="*/ 3315600 w 3403440"/>
              <a:gd name="textAreaTop" fmla="*/ 87840 h 4680000"/>
              <a:gd name="textAreaBottom" fmla="*/ 4592160 h 4680000"/>
            </a:gdLst>
            <a:ahLst/>
            <a:rect l="textAreaLeft" t="textAreaTop" r="textAreaRight" b="textAreaBottom"/>
            <a:pathLst>
              <a:path w="21600" h="29701">
                <a:moveTo>
                  <a:pt x="1904" y="0"/>
                </a:moveTo>
                <a:arcTo wR="1904" hR="1904" stAng="16200000" swAng="-5400000"/>
                <a:lnTo>
                  <a:pt x="0" y="27797"/>
                </a:lnTo>
                <a:arcTo wR="1904" hR="1904" stAng="10800000" swAng="-5400000"/>
                <a:lnTo>
                  <a:pt x="19696" y="29701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39640" y="134136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97" name="AutoShape 10"/>
            <p:cNvSpPr/>
            <p:nvPr/>
          </p:nvSpPr>
          <p:spPr>
            <a:xfrm rot="5400000">
              <a:off x="2213640" y="1163160"/>
              <a:ext cx="359280" cy="31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 rot="16200000">
              <a:off x="1990440" y="1166040"/>
              <a:ext cx="359280" cy="31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108" name="AutoShape 21"/>
            <p:cNvSpPr/>
            <p:nvPr/>
          </p:nvSpPr>
          <p:spPr>
            <a:xfrm rot="5400000">
              <a:off x="6874560" y="1175760"/>
              <a:ext cx="359280" cy="31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2"/>
            <p:cNvSpPr/>
            <p:nvPr/>
          </p:nvSpPr>
          <p:spPr>
            <a:xfrm rot="16200000">
              <a:off x="6651360" y="1178640"/>
              <a:ext cx="359280" cy="31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33"/>
          <p:cNvSpPr/>
          <p:nvPr/>
        </p:nvSpPr>
        <p:spPr>
          <a:xfrm>
            <a:off x="1547640" y="1700280"/>
            <a:ext cx="1656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茫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茂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松软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灰色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黑黝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尖尖的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5796000" y="1773360"/>
            <a:ext cx="2055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土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沙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树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爪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羽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2771640" y="2133720"/>
            <a:ext cx="3095640" cy="79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2700360" y="2852640"/>
            <a:ext cx="3095640" cy="64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5"/>
          <p:cNvSpPr/>
          <p:nvPr/>
        </p:nvSpPr>
        <p:spPr>
          <a:xfrm>
            <a:off x="270036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6"/>
          <p:cNvSpPr/>
          <p:nvPr/>
        </p:nvSpPr>
        <p:spPr>
          <a:xfrm flipV="1">
            <a:off x="2771640" y="2276280"/>
            <a:ext cx="2952720" cy="122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8"/>
          <p:cNvSpPr/>
          <p:nvPr/>
        </p:nvSpPr>
        <p:spPr>
          <a:xfrm>
            <a:off x="2771640" y="4149720"/>
            <a:ext cx="3095640" cy="1295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9"/>
          <p:cNvSpPr/>
          <p:nvPr/>
        </p:nvSpPr>
        <p:spPr>
          <a:xfrm flipV="1">
            <a:off x="3132000" y="4221000"/>
            <a:ext cx="2735280" cy="5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2843280" y="4869000"/>
            <a:ext cx="2952720" cy="57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1"/>
          <p:cNvSpPr txBox="1"/>
          <p:nvPr/>
        </p:nvSpPr>
        <p:spPr>
          <a:xfrm>
            <a:off x="611280" y="476280"/>
            <a:ext cx="14000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找朋友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2_80"/>
          <p:cNvPicPr/>
          <p:nvPr/>
        </p:nvPicPr>
        <p:blipFill>
          <a:blip r:embed="rId1"/>
          <a:stretch/>
        </p:blipFill>
        <p:spPr>
          <a:xfrm>
            <a:off x="179280" y="155736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684360" y="5013360"/>
            <a:ext cx="25380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187280" y="4292640"/>
            <a:ext cx="50652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95640" y="141300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仔细读一读课文第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~3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340000" y="256536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植树鸟的外形什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484360" y="364500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09548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1547640" y="3357720"/>
            <a:ext cx="50652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3230640" y="3397320"/>
            <a:ext cx="399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全身披着灰色的羽毛，尖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喙像一根铁钉，尾羽有一尺长，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开的纸扇，两只黑黝黝的爪子特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粗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植树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8"/>
          <p:cNvSpPr/>
          <p:nvPr/>
        </p:nvSpPr>
        <p:spPr>
          <a:xfrm>
            <a:off x="565200" y="293832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22_80"/>
          <p:cNvPicPr/>
          <p:nvPr/>
        </p:nvPicPr>
        <p:blipFill>
          <a:blip r:embed="rId1"/>
          <a:stretch/>
        </p:blipFill>
        <p:spPr>
          <a:xfrm>
            <a:off x="179280" y="249228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1619280" y="4149720"/>
            <a:ext cx="25380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684360" y="907920"/>
            <a:ext cx="49500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449440" y="115884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小卡西看到他们时喜欢它们吗？后来呢？（接着读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4~10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195640" y="220500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卡西觉得这些鸟一点也不漂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195640" y="306864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卡西目送着远去的鸟群，对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说：“这些鸟的样子并不好看，但是，我特别喜欢它们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411280" y="469260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么可爱的小鸟啊！是它们给我们送来了越来越大的绿洲！”小卡西深情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468360" y="5229360"/>
            <a:ext cx="49536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1225440" y="2205000"/>
            <a:ext cx="7169400" cy="1373400"/>
            <a:chOff x="1225440" y="2205000"/>
            <a:chExt cx="7169400" cy="1373400"/>
          </a:xfrm>
        </p:grpSpPr>
        <p:grpSp>
          <p:nvGrpSpPr>
            <p:cNvPr id="165" name="Group 10"/>
            <p:cNvGrpSpPr/>
            <p:nvPr/>
          </p:nvGrpSpPr>
          <p:grpSpPr>
            <a:xfrm>
              <a:off x="1225440" y="2373840"/>
              <a:ext cx="531360" cy="418680"/>
              <a:chOff x="1225440" y="2373840"/>
              <a:chExt cx="531360" cy="418680"/>
            </a:xfrm>
          </p:grpSpPr>
          <p:sp>
            <p:nvSpPr>
              <p:cNvPr id="166" name="Oval 11"/>
              <p:cNvSpPr/>
              <p:nvPr/>
            </p:nvSpPr>
            <p:spPr>
              <a:xfrm>
                <a:off x="1379160" y="259884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2"/>
              <p:cNvSpPr/>
              <p:nvPr/>
            </p:nvSpPr>
            <p:spPr>
              <a:xfrm rot="19159200">
                <a:off x="1258920" y="25200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3"/>
              <p:cNvSpPr/>
              <p:nvPr/>
            </p:nvSpPr>
            <p:spPr>
              <a:xfrm rot="20197200">
                <a:off x="1353960" y="239256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4"/>
              <p:cNvSpPr/>
              <p:nvPr/>
            </p:nvSpPr>
            <p:spPr>
              <a:xfrm rot="1320000">
                <a:off x="1522080" y="238752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 rot="13740000">
                <a:off x="1614600" y="251100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16"/>
            <p:cNvSpPr/>
            <p:nvPr/>
          </p:nvSpPr>
          <p:spPr>
            <a:xfrm>
              <a:off x="1835280" y="2205000"/>
              <a:ext cx="6559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其他鸟立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接到命令似的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均匀、整齐地排列开来，大约每平方米停一只，像用尺子量过一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7"/>
          <p:cNvGrpSpPr/>
          <p:nvPr/>
        </p:nvGrpSpPr>
        <p:grpSpPr>
          <a:xfrm>
            <a:off x="1298520" y="3500280"/>
            <a:ext cx="7168680" cy="587520"/>
            <a:chOff x="1298520" y="3500280"/>
            <a:chExt cx="7168680" cy="587520"/>
          </a:xfrm>
        </p:grpSpPr>
        <p:grpSp>
          <p:nvGrpSpPr>
            <p:cNvPr id="173" name="Group 18"/>
            <p:cNvGrpSpPr/>
            <p:nvPr/>
          </p:nvGrpSpPr>
          <p:grpSpPr>
            <a:xfrm>
              <a:off x="1298520" y="3669120"/>
              <a:ext cx="531360" cy="418680"/>
              <a:chOff x="1298520" y="3669120"/>
              <a:chExt cx="531360" cy="418680"/>
            </a:xfrm>
          </p:grpSpPr>
          <p:sp>
            <p:nvSpPr>
              <p:cNvPr id="174" name="Oval 19"/>
              <p:cNvSpPr/>
              <p:nvPr/>
            </p:nvSpPr>
            <p:spPr>
              <a:xfrm>
                <a:off x="1451880" y="389412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 rot="19159200">
                <a:off x="1332000" y="381528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1"/>
              <p:cNvSpPr/>
              <p:nvPr/>
            </p:nvSpPr>
            <p:spPr>
              <a:xfrm rot="20197200">
                <a:off x="1427040" y="368784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2"/>
              <p:cNvSpPr/>
              <p:nvPr/>
            </p:nvSpPr>
            <p:spPr>
              <a:xfrm rot="1320000">
                <a:off x="1594800" y="368280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23"/>
              <p:cNvSpPr/>
              <p:nvPr/>
            </p:nvSpPr>
            <p:spPr>
              <a:xfrm rot="13740000">
                <a:off x="1687680" y="380628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4"/>
            <p:cNvSpPr/>
            <p:nvPr/>
          </p:nvSpPr>
          <p:spPr>
            <a:xfrm>
              <a:off x="1908000" y="3500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1298520" y="4724280"/>
            <a:ext cx="7168680" cy="587520"/>
            <a:chOff x="1298520" y="4724280"/>
            <a:chExt cx="7168680" cy="587520"/>
          </a:xfrm>
        </p:grpSpPr>
        <p:grpSp>
          <p:nvGrpSpPr>
            <p:cNvPr id="181" name="Group 26"/>
            <p:cNvGrpSpPr/>
            <p:nvPr/>
          </p:nvGrpSpPr>
          <p:grpSpPr>
            <a:xfrm>
              <a:off x="1298520" y="4893120"/>
              <a:ext cx="531360" cy="418680"/>
              <a:chOff x="1298520" y="4893120"/>
              <a:chExt cx="531360" cy="418680"/>
            </a:xfrm>
          </p:grpSpPr>
          <p:sp>
            <p:nvSpPr>
              <p:cNvPr id="182" name="Oval 27"/>
              <p:cNvSpPr/>
              <p:nvPr/>
            </p:nvSpPr>
            <p:spPr>
              <a:xfrm>
                <a:off x="1451880" y="511812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28"/>
              <p:cNvSpPr/>
              <p:nvPr/>
            </p:nvSpPr>
            <p:spPr>
              <a:xfrm rot="19159200">
                <a:off x="1332000" y="503928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9"/>
              <p:cNvSpPr/>
              <p:nvPr/>
            </p:nvSpPr>
            <p:spPr>
              <a:xfrm rot="20197200">
                <a:off x="1427040" y="491184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0"/>
              <p:cNvSpPr/>
              <p:nvPr/>
            </p:nvSpPr>
            <p:spPr>
              <a:xfrm rot="1320000">
                <a:off x="1594800" y="490680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31"/>
              <p:cNvSpPr/>
              <p:nvPr/>
            </p:nvSpPr>
            <p:spPr>
              <a:xfrm rot="13740000">
                <a:off x="1687680" y="503028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32"/>
            <p:cNvSpPr/>
            <p:nvPr/>
          </p:nvSpPr>
          <p:spPr>
            <a:xfrm>
              <a:off x="1908000" y="4724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35"/>
          <p:cNvSpPr/>
          <p:nvPr/>
        </p:nvSpPr>
        <p:spPr>
          <a:xfrm>
            <a:off x="3593160" y="1052640"/>
            <a:ext cx="39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什么原因使小卡西态度发生如此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了转变呢？（请你再读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4~6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2409120" y="4365720"/>
            <a:ext cx="476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啄”  “刨”   “挖” “飞”  “衔”  “放”   “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沙漠中的绿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美国北部的纳得华地区，是一片茫茫的沙漠，沙漠中间有一块绿洲，绿洲上生长着茂密的树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349360" y="3573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你想对植树鸟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2186640" y="1989000"/>
            <a:ext cx="6299640" cy="1373400"/>
            <a:chOff x="2186640" y="1989000"/>
            <a:chExt cx="6299640" cy="1373400"/>
          </a:xfrm>
        </p:grpSpPr>
        <p:grpSp>
          <p:nvGrpSpPr>
            <p:cNvPr id="198" name="Group 8"/>
            <p:cNvGrpSpPr/>
            <p:nvPr/>
          </p:nvGrpSpPr>
          <p:grpSpPr>
            <a:xfrm>
              <a:off x="2186640" y="2100960"/>
              <a:ext cx="308160" cy="376920"/>
              <a:chOff x="2186640" y="2100960"/>
              <a:chExt cx="308160" cy="376920"/>
            </a:xfrm>
          </p:grpSpPr>
          <p:sp>
            <p:nvSpPr>
              <p:cNvPr id="199" name="未知"/>
              <p:cNvSpPr/>
              <p:nvPr/>
            </p:nvSpPr>
            <p:spPr>
              <a:xfrm rot="18580800">
                <a:off x="2236320" y="2119320"/>
                <a:ext cx="90720" cy="17244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2400000">
                <a:off x="2357280" y="2112840"/>
                <a:ext cx="9612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"/>
              <p:cNvSpPr/>
              <p:nvPr/>
            </p:nvSpPr>
            <p:spPr>
              <a:xfrm>
                <a:off x="2342160" y="2253240"/>
                <a:ext cx="1800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12"/>
            <p:cNvSpPr/>
            <p:nvPr/>
          </p:nvSpPr>
          <p:spPr>
            <a:xfrm>
              <a:off x="2638080" y="1989000"/>
              <a:ext cx="5848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爸爸说：“这些鸟的寿命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只有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三年。明年它们再来的时候会有三分之一的鸟死去。可是，老的一代死去了，新的一代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又会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跟着来种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"/>
          <p:cNvSpPr/>
          <p:nvPr/>
        </p:nvSpPr>
        <p:spPr>
          <a:xfrm>
            <a:off x="1409760" y="5751360"/>
            <a:ext cx="61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8:13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39Z</dcterms:modified>
  <cp:revision>1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