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hammer.wav" ContentType="audio/x-wav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laser.wav" ContentType="audio/x-wav"/>
  <Override PartName="/ppt/media/image4.jpeg" ContentType="image/jpeg"/>
  <Override PartName="/ppt/media/image16.jpeg" ContentType="image/jpeg"/>
  <Override PartName="/ppt/media/chimes.wav" ContentType="audio/x-wav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9984-5CF6-48A8-A653-B6E7AC92F2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3F22-F062-4B5E-8485-9BB131CDA1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551-8DF9-4E31-AC51-CE7108CD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3AE-1622-4B63-ACA1-CF513B5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4D7-8A84-4C84-A05C-26143DE7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821-080E-4A4B-81AD-8B21F118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51E-2AAB-498B-BFFF-DD96CE2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9C8-4FF8-4C07-8620-A096C96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97C-5843-46FC-8A60-810C99B7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E7F-15A4-43DC-926D-DC8B431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73F-7529-4023-9678-4EF6ECA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B6E-B6D3-4211-9F15-B599A41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B78-91F6-4557-A983-02B64EA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895-A43D-4108-A7AC-759843D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97C-7283-4545-8E80-8A30AC5D1B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H:/&#31934;&#24425;&#30340;&#22823;&#35937;&#34920;&#28436;/&#22823;&#35937;%20%20&#28436;&#31034;&#25991;&#31295;1.ppt" TargetMode="External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xt Box 3"/>
          <p:cNvSpPr/>
          <p:nvPr/>
        </p:nvSpPr>
        <p:spPr>
          <a:xfrm>
            <a:off x="1547640" y="40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224000" y="1455840"/>
            <a:ext cx="680544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latin typeface="华文中宋"/>
              </a:rPr>
              <a:t>精彩的大象表演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60480" y="50796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湘教版三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8" descr=""/>
          <p:cNvPicPr/>
          <p:nvPr/>
        </p:nvPicPr>
        <p:blipFill>
          <a:blip r:embed="rId2"/>
          <a:stretch/>
        </p:blipFill>
        <p:spPr>
          <a:xfrm>
            <a:off x="0" y="625644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图片38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33520" y="475920"/>
            <a:ext cx="822960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习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找中心句，体会它们在文中的作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 请同学们自由地读读课文第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，找一找中心句，并画上横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 你最喜欢大象表演的哪个节目？找到那一段，并读好那一段。读后，可以和同桌或小组的同学说说喜欢这一段的理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u=1517758530,159609782&amp;fm=52&amp;gp=0"/>
          <p:cNvPicPr/>
          <p:nvPr/>
        </p:nvPicPr>
        <p:blipFill>
          <a:blip r:embed="rId1"/>
          <a:stretch/>
        </p:blipFill>
        <p:spPr>
          <a:xfrm>
            <a:off x="250920" y="981000"/>
            <a:ext cx="259236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22633"/>
          <p:cNvPicPr/>
          <p:nvPr/>
        </p:nvPicPr>
        <p:blipFill>
          <a:blip r:embed="rId2"/>
          <a:stretch/>
        </p:blipFill>
        <p:spPr>
          <a:xfrm>
            <a:off x="6372360" y="3789360"/>
            <a:ext cx="2590560" cy="226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u=418429092,2073548718&amp;fm=52&amp;gp=0"/>
          <p:cNvPicPr/>
          <p:nvPr/>
        </p:nvPicPr>
        <p:blipFill>
          <a:blip r:embed="rId3"/>
          <a:stretch/>
        </p:blipFill>
        <p:spPr>
          <a:xfrm>
            <a:off x="3276720" y="2421000"/>
            <a:ext cx="2520720" cy="2313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6560" y="3718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象踢足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804000" y="602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象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419640" y="5086440"/>
            <a:ext cx="23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象与人拔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>
            <a:hlinkClick r:id="rId4" action="ppaction://hlinksldjump"/>
          </p:cNvPr>
          <p:cNvSpPr/>
          <p:nvPr/>
        </p:nvSpPr>
        <p:spPr>
          <a:xfrm>
            <a:off x="1258920" y="4581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>
            <a:hlinkClick r:id="rId5" action="ppaction://hlinksldjump"/>
          </p:cNvPr>
          <p:cNvSpPr/>
          <p:nvPr/>
        </p:nvSpPr>
        <p:spPr>
          <a:xfrm>
            <a:off x="4356000" y="587700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rId6" action="ppaction://hlinksldjump"/>
          </p:cNvPr>
          <p:cNvSpPr/>
          <p:nvPr/>
        </p:nvSpPr>
        <p:spPr>
          <a:xfrm>
            <a:off x="7451640" y="659772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10800"/>
                </a:moveTo>
                <a:lnTo>
                  <a:pt x="24893" y="3794"/>
                </a:lnTo>
                <a:lnTo>
                  <a:pt x="24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79280" y="26028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品读课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图片3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图片7"/>
          <p:cNvPicPr/>
          <p:nvPr/>
        </p:nvPicPr>
        <p:blipFill>
          <a:blip r:embed="rId2"/>
          <a:stretch/>
        </p:blipFill>
        <p:spPr>
          <a:xfrm>
            <a:off x="-247680" y="-237960"/>
            <a:ext cx="9710640" cy="7281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68360" y="620640"/>
            <a:ext cx="7559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有趣的是大象踢足球。有头大象看来临门一脚的功夫欠佳，几次射门，都踢飞了。它索性用鼻子钩着球，绕开驯象师，把球放在离球门不远的地上，用又粗又笨的脚轻轻一拨，破门了。这头憨厚而又聪明的大象，让观众们笑得前俯后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7020000" y="2781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476360" y="357336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5219640" y="35733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611280" y="4941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403280" y="1413000"/>
            <a:ext cx="47530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348000" y="573408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-247680" y="90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中心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9800" y="10800"/>
                </a:moveTo>
                <a:lnTo>
                  <a:pt x="23812" y="3794"/>
                </a:lnTo>
                <a:lnTo>
                  <a:pt x="23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00000" y="765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和大象的拔河比赛尤为激动人心。几十个小伙子组成一方，一齐拉紧了绳子，要和另一端的一头大象比试。“一、二、三！”比赛开始了。年轻人一齐发力，齐刷刷地向后倒去。大象却是一副若无其事的样子。绳子中间的红结慢慢向年轻人这方移动。观众们有节奏地高喊“加油！加油”，期待着出现战胜大象的奇迹。大象岂肯示弱，它猛一使劲，众人一方招架不住，几十个人摔倒在地，只得认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0" y="765000"/>
            <a:ext cx="8028000" cy="576000"/>
            <a:chOff x="0" y="765000"/>
            <a:chExt cx="8028000" cy="576000"/>
          </a:xfrm>
        </p:grpSpPr>
        <p:sp>
          <p:nvSpPr>
            <p:cNvPr id="97" name="Line 5"/>
            <p:cNvSpPr/>
            <p:nvPr/>
          </p:nvSpPr>
          <p:spPr>
            <a:xfrm flipV="1">
              <a:off x="1835280" y="1267920"/>
              <a:ext cx="6192720" cy="730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0" y="76500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（中心句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7">
            <a:hlinkClick r:id="rId1" action="ppaction://hlinksldjump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10800"/>
                </a:moveTo>
                <a:lnTo>
                  <a:pt x="30197" y="3794"/>
                </a:lnTo>
                <a:lnTo>
                  <a:pt x="301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4360" y="476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6920" y="549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让人提心吊胆的是大象过人表演。场子中央并排放着八张凉席，凉席之间的距离不超过一米。有幸睡上凉席的八个人中，有年轻小伙子，有上了年纪的老者，还有一个黄头发蓝眼睛的女郎。他们一个个凝神屏息，等待着惊心动魄的那一刻。只见两头披红戴绿的大象，一前一后，抬起粗壮如柱的腿，稳健而准确地跨过了一个个人体。有头大象用长鼻子在一个少年身上从头到脚扫了一遍，又抬起一只脚按在少年的肚子上。全场突然静了下来，人们都为那少年捏了一把汗。这时，大象在少年肚子上轻轻按摩了两下，又继续前行，有惊无险的一幕过去了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692360" y="1052640"/>
            <a:ext cx="5400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6920" y="476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见两头披红戴绿的大象，一前一后，抬起粗壮如柱的腿，稳健而准确地跨过了一个个人体。有头大象用长鼻子在一个少年身上从头到脚扫了一遍，又抬起一只脚按在少年的肚子上。全场突然静了下来，人们都为那少年捏了一把汗。这时，大象在少年肚子上轻轻按摩了两下，又继续前行，有惊无险的一幕过去了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2"/>
          </p:cNvPr>
          <p:cNvSpPr/>
          <p:nvPr/>
        </p:nvSpPr>
        <p:spPr>
          <a:xfrm>
            <a:off x="7451640" y="5877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9800" y="10800"/>
                </a:moveTo>
                <a:lnTo>
                  <a:pt x="23812" y="3794"/>
                </a:lnTo>
                <a:lnTo>
                  <a:pt x="23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2268360" y="162864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835280" y="213372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7380360" y="270828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5076720" y="3284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771640" y="3284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图片38"/>
          <p:cNvPicPr/>
          <p:nvPr/>
        </p:nvPicPr>
        <p:blipFill>
          <a:blip r:embed="rId1"/>
          <a:stretch/>
        </p:blipFill>
        <p:spPr>
          <a:xfrm>
            <a:off x="-32400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点学习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为什么最喜欢大象过人表演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从哪些词句中体会到看大象过人表演让人“提心吊胆”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凝神屏息”是怎样的一种表情？谁来表演？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惊心动魄”的那一刻指的是哪一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大象表演 2"/>
          <p:cNvPicPr/>
          <p:nvPr/>
        </p:nvPicPr>
        <p:blipFill>
          <a:blip r:embed="rId2"/>
          <a:stretch/>
        </p:blipFill>
        <p:spPr>
          <a:xfrm>
            <a:off x="5867280" y="-171360"/>
            <a:ext cx="3600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图片38"/>
          <p:cNvPicPr/>
          <p:nvPr/>
        </p:nvPicPr>
        <p:blipFill>
          <a:blip r:embed="rId1"/>
          <a:stretch/>
        </p:blipFill>
        <p:spPr>
          <a:xfrm>
            <a:off x="-32400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大象抬起一只脚按在少年的肚子上时，全场为什么突然安静了下来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你当时在场观看，你会怎样想，会有怎样的表现？有惊无险的一幕过去了之后，你的心情又是怎样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到这里，谁能联系课文说说“提心吊胆、惊心动魄”的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了这一段，谁能说说，课文是怎样围绕“提心吊胆”来写具体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图片3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表演结束后，大象对送来香蕉的观众彬彬有礼的鞠躬致谢。有些观众没带事物，就投以钱币，大象见了，就用鼻子卷起来，跑到附近的水果摊买香蕉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417680" y="4757760"/>
            <a:ext cx="68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l00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98172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小练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77164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nextslide"/>
          </p:cNvPr>
          <p:cNvSpPr/>
          <p:nvPr/>
        </p:nvSpPr>
        <p:spPr>
          <a:xfrm rot="21465600">
            <a:off x="7308360" y="5516640"/>
            <a:ext cx="719280" cy="43344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276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大象还可能会表演一些什么节目，仿照课文先概括说后具体说的方式写一段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l00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71640" y="2349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家还认识我们的生字吗？下面请同学们一起来读一读这些生字，看看你还认识多少个生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24000" y="549360"/>
            <a:ext cx="41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复习生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_imgload 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 rot="372600">
            <a:off x="1042560" y="2276280"/>
            <a:ext cx="58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1" strike="noStrike">
              <a:ln cap="rnd"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453-12B7-4D35-83C8-C574F6A4BF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_imgload 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24000" y="1125360"/>
            <a:ext cx="69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泰国        享受       的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扇动        献计       绕开               柱子        聪明       比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提心吊胆           精彩纷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名不虚传           凝神屏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图片38"/>
          <p:cNvPicPr/>
          <p:nvPr/>
        </p:nvPicPr>
        <p:blipFill>
          <a:blip r:embed="rId1"/>
          <a:stretch/>
        </p:blipFill>
        <p:spPr>
          <a:xfrm>
            <a:off x="-304920" y="-1411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85800" y="2438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同学们，你们看过动物表演吗？谁来说说？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3419640" y="5157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图片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鹦鹉"/>
          <p:cNvPicPr/>
          <p:nvPr/>
        </p:nvPicPr>
        <p:blipFill>
          <a:blip r:embed="rId2"/>
          <a:stretch/>
        </p:blipFill>
        <p:spPr>
          <a:xfrm>
            <a:off x="914400" y="1052640"/>
            <a:ext cx="73152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图片38"/>
          <p:cNvPicPr/>
          <p:nvPr/>
        </p:nvPicPr>
        <p:blipFill>
          <a:blip r:embed="rId1"/>
          <a:stretch/>
        </p:blipFill>
        <p:spPr>
          <a:xfrm>
            <a:off x="-30492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鱼"/>
          <p:cNvPicPr/>
          <p:nvPr/>
        </p:nvPicPr>
        <p:blipFill>
          <a:blip r:embed="rId2"/>
          <a:stretch/>
        </p:blipFill>
        <p:spPr>
          <a:xfrm>
            <a:off x="1752480" y="838080"/>
            <a:ext cx="57340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图片3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大象表演  该"/>
          <p:cNvPicPr/>
          <p:nvPr/>
        </p:nvPicPr>
        <p:blipFill>
          <a:blip r:embed="rId2"/>
          <a:stretch/>
        </p:blipFill>
        <p:spPr>
          <a:xfrm>
            <a:off x="129528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图片3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细读课文，加深理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说说你知道了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泰国看大象表演，真是令人欢乐开怀的美妙享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楷体_GBK"/>
              </a:rPr>
              <a:t>本段点明了观看大象表演的地点是在泰国，并概括写看表演的总体感受是“令人欢乐开怀”的“美妙享受”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楷体_GBK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0:29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43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