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478-1ED8-4728-8A13-2A1102646E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A674-2554-43BB-8F6B-19188BB072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9CBB-05F3-4373-920A-F99BA689DF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43F-567D-4570-94B7-44D42C38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393-7F5A-4B7E-8558-9345A034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70C-7B53-482C-9B67-C4D1CBBD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9B9-2B8A-4889-ACB7-694B9084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BBB-7C3E-4EDE-A85E-F35BA64E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C43-243C-49BA-B600-673941B9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58D-0D88-48D4-B045-7D0B7C12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286-075E-4444-9FEE-9C9F2EA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686-7CB9-4D37-9E15-6E74179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5A7-6D4B-418D-AF4B-C8F8364D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8A5-E498-4D88-BD2F-8E6828A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EC7-570A-4DEB-ACAD-B369DAB3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A1FE-E7C5-4A0C-81CD-26B680C638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22AC-84F0-4948-A31B-C424956EF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图片6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189080" y="102888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97080" y="2730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84360" y="453960"/>
            <a:ext cx="482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116000" y="1832040"/>
            <a:ext cx="6912000" cy="17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中宋"/>
              </a:rPr>
              <a:t>江南第一楼</a:t>
            </a:r>
            <a:endParaRPr b="1" lang="en-US" sz="5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3195360" y="5889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5">
            <a:hlinkClick r:id="rId2" action="ppaction://hlinksldjump"/>
          </p:cNvPr>
          <p:cNvSpPr/>
          <p:nvPr/>
        </p:nvSpPr>
        <p:spPr>
          <a:xfrm>
            <a:off x="4356000" y="6453360"/>
            <a:ext cx="763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图片2"/>
          <p:cNvPicPr/>
          <p:nvPr/>
        </p:nvPicPr>
        <p:blipFill>
          <a:blip r:embed="rId1"/>
          <a:stretch/>
        </p:blipFill>
        <p:spPr>
          <a:xfrm>
            <a:off x="0" y="47520"/>
            <a:ext cx="4429080" cy="676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7960" y="47160"/>
            <a:ext cx="446076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爸爸指着湖中一座翡翠似的小山说：“你看那小山，犹如白银盘中的青螺，这就是著名的君山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>
            <a:hlinkClick r:id="rId2" action="ppaction://hlinksldjump"/>
          </p:cNvPr>
          <p:cNvSpPr/>
          <p:nvPr/>
        </p:nvSpPr>
        <p:spPr>
          <a:xfrm>
            <a:off x="7236000" y="6524640"/>
            <a:ext cx="14436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99ff"/>
                </a:solidFill>
                <a:latin typeface="Arial"/>
              </a:rPr>
              <a:t>思考：</a:t>
            </a:r>
            <a:br>
              <a:rPr sz="7200"/>
            </a:br>
            <a:r>
              <a:rPr b="0" lang="zh-CN" sz="7200" spc="-1" strike="noStrike">
                <a:solidFill>
                  <a:srgbClr val="3399ff"/>
                </a:solidFill>
                <a:latin typeface="Arial"/>
              </a:rPr>
              <a:t>     作者是按照什么顺序参观岳阳楼的，请大家在课文中把有关的词语画出来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课30"/>
          <p:cNvPicPr/>
          <p:nvPr/>
        </p:nvPicPr>
        <p:blipFill>
          <a:blip r:embed="rId1"/>
          <a:stretch/>
        </p:blipFill>
        <p:spPr>
          <a:xfrm>
            <a:off x="-54000" y="9360"/>
            <a:ext cx="9683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1912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353240" y="2221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作者的游览顺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923760"/>
            <a:ext cx="73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200" spc="-1" strike="noStrike" u="sng">
                <a:solidFill>
                  <a:srgbClr val="3333cc"/>
                </a:solidFill>
                <a:uFillTx/>
                <a:latin typeface="Arial"/>
              </a:rPr>
              <a:t>沿着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弯曲的小路，</a:t>
            </a:r>
            <a:r>
              <a:rPr b="0" lang="zh-CN" sz="4200" spc="-1" strike="noStrike" u="sng">
                <a:solidFill>
                  <a:srgbClr val="3333cc"/>
                </a:solidFill>
                <a:uFillTx/>
                <a:latin typeface="Arial"/>
              </a:rPr>
              <a:t>穿过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一座牌楼，</a:t>
            </a:r>
            <a:r>
              <a:rPr b="0" lang="zh-CN" sz="4200" spc="-1" strike="noStrike" u="sng">
                <a:solidFill>
                  <a:srgbClr val="3333cc"/>
                </a:solidFill>
                <a:uFillTx/>
                <a:latin typeface="Arial"/>
              </a:rPr>
              <a:t>来到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了宽阔的平台，绿荫丛中三座金碧辉煌的楼阁，品字形排列在我们面前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200" spc="-1" strike="noStrike" u="sng">
                <a:solidFill>
                  <a:srgbClr val="99cc00"/>
                </a:solidFill>
                <a:uFillTx/>
                <a:latin typeface="Arial"/>
              </a:rPr>
              <a:t>踏进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岳阳楼大门，迎面是</a:t>
            </a:r>
            <a:r>
              <a:rPr b="0" lang="zh-CN" sz="4200" spc="-1" strike="noStrike">
                <a:solidFill>
                  <a:srgbClr val="000000"/>
                </a:solidFill>
                <a:latin typeface="DFKai-SB"/>
                <a:ea typeface="DFKai-SB"/>
              </a:rPr>
              <a:t>…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DFKai-SB"/>
              </a:rPr>
              <a:t>3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바탕"/>
              </a:rPr>
              <a:t>、</a:t>
            </a:r>
            <a:r>
              <a:rPr b="0" lang="zh-CN" sz="4200" spc="-1" strike="noStrike" u="sng">
                <a:solidFill>
                  <a:srgbClr val="99cc00"/>
                </a:solidFill>
                <a:uFillTx/>
                <a:latin typeface="Arial"/>
                <a:ea typeface="바탕"/>
              </a:rPr>
              <a:t>从屏风后的楼梯登楼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바탕"/>
              </a:rPr>
              <a:t>，就看到</a:t>
            </a:r>
            <a:r>
              <a:rPr b="0" lang="zh-CN" sz="4200" spc="-1" strike="noStrike">
                <a:solidFill>
                  <a:srgbClr val="000000"/>
                </a:solidFill>
                <a:latin typeface="바탕"/>
                <a:ea typeface="바탕"/>
              </a:rPr>
              <a:t>……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바탕"/>
              </a:rPr>
              <a:t>凭栏远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236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填一填，读一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平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色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楼阁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诗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洞庭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         ）的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588960" y="131760"/>
            <a:ext cx="67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课件背景7"/>
          <p:cNvPicPr/>
          <p:nvPr/>
        </p:nvPicPr>
        <p:blipFill>
          <a:blip r:embed="rId1"/>
          <a:stretch/>
        </p:blipFill>
        <p:spPr>
          <a:xfrm>
            <a:off x="317520" y="235080"/>
            <a:ext cx="8508960" cy="638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课件背景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510560" y="549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拓展实践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44720" y="1484280"/>
            <a:ext cx="764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学习课文抓住事物特点、按游览顺序的方法，写写家乡的一处风景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8633-DE30-4603-A8A1-4002626EB6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，谁能读正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牌楼     金碧辉煌      宋代      忧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副      传诵          范仲淹     犹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湘水      娥皇          仙梅亭     君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12720" y="35244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听课文朗读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为什么人们称岳阳楼为“江南第一楼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课文哪一段进行了概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57200" y="288144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6720" y="2708280"/>
            <a:ext cx="8747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Arial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浩翰的洞庭，壮美的楼阁，加上不朽的诗文，动人的传说，岳阳楼啊，我明白了，为什么人们称你为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“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江南第一楼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”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2000" y="6505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组讨论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一段中分别写得是课文中的那一段的内容？把你喜欢的段落记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2000" y="2707920"/>
            <a:ext cx="849636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浩翰的洞庭，壮美的楼阁，加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不朽的诗文，动人的传说，岳阳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啊，我明白了，为什么人们称你为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“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江南第一楼</a:t>
            </a:r>
            <a:r>
              <a:rPr b="0" lang="zh-CN" sz="3600" spc="-1" strike="noStrike">
                <a:solidFill>
                  <a:srgbClr val="333399"/>
                </a:solidFill>
                <a:latin typeface="바탕"/>
                <a:ea typeface="바탕"/>
              </a:rPr>
              <a:t>”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바탕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>
            <a:hlinkClick r:id="rId1" action="ppaction://hlinksldjump"/>
          </p:cNvPr>
          <p:cNvSpPr/>
          <p:nvPr/>
        </p:nvSpPr>
        <p:spPr>
          <a:xfrm flipV="1">
            <a:off x="2627280" y="328140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>
            <a:hlinkClick r:id="rId2" action="ppaction://hlinksldjump"/>
          </p:cNvPr>
          <p:cNvSpPr/>
          <p:nvPr/>
        </p:nvSpPr>
        <p:spPr>
          <a:xfrm>
            <a:off x="5435640" y="328140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3" action="ppaction://hlinksldjump"/>
          </p:cNvPr>
          <p:cNvSpPr/>
          <p:nvPr/>
        </p:nvSpPr>
        <p:spPr>
          <a:xfrm flipH="1" flipV="1">
            <a:off x="2627280" y="392904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>
            <a:hlinkClick r:id="rId4" action="ppaction://hlinksldjump"/>
          </p:cNvPr>
          <p:cNvSpPr/>
          <p:nvPr/>
        </p:nvSpPr>
        <p:spPr>
          <a:xfrm flipH="1">
            <a:off x="5435640" y="392904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7"/>
          <p:cNvSpPr/>
          <p:nvPr/>
        </p:nvSpPr>
        <p:spPr>
          <a:xfrm>
            <a:off x="250920" y="20430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4896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076360" y="764640"/>
            <a:ext cx="374508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沿着弯曲的小路，穿过一座牌楼，来到了宽阔的平台，绿阴丛中三座金碧辉煌的楼阁，品字形排列在我们面前。左右是副楼，一座叫“仙梅亭”，一座叫“三醉楼”。中间是主楼，正上方一块大匾，刻着“岳阳楼”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字。建筑呈正方形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三层三檐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，用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四根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大柱支撑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十二个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琉璃瓦飞檐高高翘起，好似飞凤展翅，闪烁着金色的光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>
            <a:hlinkClick r:id="rId2" action="ppaction://hlinksldjump"/>
          </p:cNvPr>
          <p:cNvSpPr/>
          <p:nvPr/>
        </p:nvSpPr>
        <p:spPr>
          <a:xfrm>
            <a:off x="5940360" y="652464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11"/>
          <p:cNvPicPr/>
          <p:nvPr/>
        </p:nvPicPr>
        <p:blipFill>
          <a:blip r:embed="rId1"/>
          <a:stretch/>
        </p:blipFill>
        <p:spPr>
          <a:xfrm>
            <a:off x="0" y="88920"/>
            <a:ext cx="5037120" cy="6724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37120" y="27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</a:rPr>
              <a:t>踏进岳阳楼大门，迎面是用十二块紫檀木拼成的巨幅屏风，上面刻着宋代范仲淹的《岳阳记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rId2" action="ppaction://hlinksldjump"/>
          </p:cNvPr>
          <p:cNvSpPr/>
          <p:nvPr/>
        </p:nvSpPr>
        <p:spPr>
          <a:xfrm>
            <a:off x="4861080" y="6308640"/>
            <a:ext cx="745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先天下之忧而忧，后天下之乐而乐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  ——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范仲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2" action="ppaction://hlinksldjump"/>
          </p:cNvPr>
          <p:cNvSpPr/>
          <p:nvPr/>
        </p:nvSpPr>
        <p:spPr>
          <a:xfrm flipH="1">
            <a:off x="6727680" y="2708280"/>
            <a:ext cx="76320" cy="763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1"/>
          <p:cNvPicPr/>
          <p:nvPr/>
        </p:nvPicPr>
        <p:blipFill>
          <a:blip r:embed="rId1"/>
          <a:stretch/>
        </p:blipFill>
        <p:spPr>
          <a:xfrm>
            <a:off x="0" y="88920"/>
            <a:ext cx="5037120" cy="6726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37120" y="8892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从屏风后的楼梯登楼，就看到四面窗格上都是雕着各种花卉图案，十分精美。楼四周回廊环绕，凭栏远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113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洞庭湖水天一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7:49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