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920-B91C-4E24-BEA4-BAC90B2506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2B4-3BDE-465A-8246-1419E39967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75F-6440-44F9-8158-1408D3DC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795-EE48-422F-AD95-F48BF53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5CB-7D31-4FEA-A1E9-5D508F4F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285-41CA-4924-AE3B-504963F1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C3D6-16B2-4DB6-818D-4E2FD9C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E0F5-34D2-4655-8BDB-7C1778F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F23A-62FC-469C-BBD4-5E722FBC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4A30-375A-412B-9C10-F3C983B3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1CC1-5005-466F-B6D2-F638F2F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D771-0E65-4D11-919A-6A534DF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91AB-D6BB-4A0B-8084-D4D8B12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5D3-4C5C-4320-A7EC-CCDD967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0883-D846-46C7-AA13-4DE03C7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BA5-E9EC-4843-8FAD-2A2CDBC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59B-E7AD-44BA-818A-9205265E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1CA-055D-4481-A2EF-9066A862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0864-22DE-424E-9C4F-A551AD77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D937-6946-42A0-B8FD-F4DCF8B7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E0FD-99A8-43F0-A181-A56D9B93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4BA3-10AE-47DC-9231-9676528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D382-6C1F-4992-AD32-48F53A3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A28A-B350-4067-9FC0-A7C5D7A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EE9-D706-47F6-9852-AF9F65B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9C6F-AE70-4E1C-8705-9C0C519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F767-DAA8-4B3D-9BDD-4F8BD8D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412F-5027-4B3D-AB8E-485D734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9377-8B0F-47CB-97DB-96B1A81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3691-0B2F-4E4E-B1EE-C2C3BB1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9553-E391-48BE-95CA-042F6255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84C4-57C0-42BE-844F-0674EE83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A4B6-3F14-44AA-8058-C01C7F17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99D5-14DB-429E-9307-C4A1DFA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1E64-E7C7-4061-921A-98AEABE9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614-F096-4B98-A842-A5819A2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4694-5D95-4508-94BA-3165B2B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74AF-6AB0-4819-A99B-1F2FED12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DAF8-06FC-419A-A8C2-7A0478A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6D71-4352-45EB-9710-3CC43AA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EA3C-79EF-4512-A1B9-A9B44ED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0328-9A9E-4F8C-9359-37B9BBD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FEE0-4B0E-4AD8-A88B-993188DC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0411-6731-40FD-A36F-31C0BA0E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E85A-3D65-404F-9EDB-E2CDFA07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869-D5CE-4652-9E58-D45E2F4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8FF-09F3-4CC8-AA39-3282E97B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A74-1EE1-4C04-93FF-8ADBD72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AE1-1975-4E59-99BE-62555115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2DB-C8D7-4458-B6BC-061E93C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47C0-3C21-4A2F-B6E2-CAE9792340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683-4A27-46B6-9B9B-0E1AEBC2A1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3B5-C023-4F66-ADD3-3B62B913CB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BBC6-3476-46D7-86D1-192AD7681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.baidu.com/i?ct=503316480&amp;z=0&amp;tn=baiduimagedetail&amp;word=&#1062;%C1%B3&amp;in=21833&amp;cl=2&amp;lm=-1&amp;pn=1&amp;rn=1&amp;di=33256831413&amp;ln=1&amp;fr=&amp;ic=0&amp;s=0&amp;se=1&amp;sme=0&amp;tab=&amp;width=&amp;height=&amp;face=0&amp;fb=0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</a:rPr>
              <a:t>20</a:t>
            </a:r>
            <a:r>
              <a:rPr b="1" lang="en-US" sz="9600" spc="-1" strike="noStrike">
                <a:solidFill>
                  <a:srgbClr val="ff0000"/>
                </a:solidFill>
                <a:latin typeface="微软雅黑"/>
              </a:rPr>
              <a:t>.</a:t>
            </a:r>
            <a:r>
              <a:rPr b="1" lang="zh-CN" sz="9600" spc="-1" strike="noStrike">
                <a:solidFill>
                  <a:srgbClr val="ff0000"/>
                </a:solidFill>
                <a:latin typeface="微软雅黑"/>
              </a:rPr>
              <a:t>九色鹿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189684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62720" cy="6858000"/>
            <a:chOff x="0" y="0"/>
            <a:chExt cx="9162720" cy="6858000"/>
          </a:xfrm>
        </p:grpSpPr>
        <p:pic>
          <p:nvPicPr>
            <p:cNvPr id="216" name="Picture 3" descr="saomia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2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4"/>
            <p:cNvSpPr/>
            <p:nvPr/>
          </p:nvSpPr>
          <p:spPr>
            <a:xfrm>
              <a:off x="0" y="1628640"/>
              <a:ext cx="5693400" cy="522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5"/>
          <p:cNvSpPr/>
          <p:nvPr/>
        </p:nvSpPr>
        <p:spPr>
          <a:xfrm>
            <a:off x="108000" y="318960"/>
            <a:ext cx="7451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一天，有个猎人不小心掉进河里，他吓得大叫：“救命啊！这时，九色鹿从森林里冲出来，救起了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>
            <a:hlinkClick r:id="rId2" action="ppaction://hlinksldjump"/>
          </p:cNvPr>
          <p:cNvSpPr/>
          <p:nvPr/>
        </p:nvSpPr>
        <p:spPr>
          <a:xfrm>
            <a:off x="755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62728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084720" y="234936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948360" y="29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476360" y="4581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  <a:ea typeface="宋体"/>
              </a:rPr>
              <a:t>见义勇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dc108c126a759220ff477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saomiao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755640" y="2708280"/>
            <a:ext cx="799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　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</a:rPr>
              <a:t>猎人跪下来向九色鹿道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>
            <a:hlinkClick r:id="rId3" action="ppaction://hlinksldjump"/>
          </p:cNvPr>
          <p:cNvSpPr/>
          <p:nvPr/>
        </p:nvSpPr>
        <p:spPr>
          <a:xfrm>
            <a:off x="900000" y="57340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219640" y="263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03280" y="321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52)"/>
                                      </p:to>
                                    </p:set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52)"/>
                                      </p:to>
                                    </p:se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dc108c126a759220ff477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saomiao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971640" y="162864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</a:rPr>
              <a:t>九色鹿说：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</a:rPr>
              <a:t>不必客气，只是你不要对别人说见过我。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>
            <a:hlinkClick r:id="rId3" action="ppaction://hlinksldjump"/>
          </p:cNvPr>
          <p:cNvSpPr/>
          <p:nvPr/>
        </p:nvSpPr>
        <p:spPr>
          <a:xfrm>
            <a:off x="755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012000" y="1916280"/>
            <a:ext cx="165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940360" y="1700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900000" y="2997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140360" y="3789360"/>
            <a:ext cx="352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心地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不图回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dc108c126a759220ff477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saomiao"/>
          <p:cNvPicPr/>
          <p:nvPr/>
        </p:nvPicPr>
        <p:blipFill>
          <a:blip r:embed="rId2"/>
          <a:stretch/>
        </p:blipFill>
        <p:spPr>
          <a:xfrm>
            <a:off x="0" y="38750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042920" y="1989000"/>
            <a:ext cx="86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猎人点头说：“我保证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告诉别人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>
            <a:hlinkClick r:id="rId3" action="ppaction://hlinksldjump"/>
          </p:cNvPr>
          <p:cNvSpPr/>
          <p:nvPr/>
        </p:nvSpPr>
        <p:spPr>
          <a:xfrm>
            <a:off x="684360" y="5805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348000" y="4724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猎人他说到做到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71480" y="2205000"/>
            <a:ext cx="791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（猎人能信守承诺吗？九色鹿的善良得到猎人的真心回报吗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1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-66600" y="-309600"/>
            <a:ext cx="92106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4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>
            <a:hlinkClick r:id="rId2" action="ppaction://hlinksldjump"/>
          </p:cNvPr>
          <p:cNvSpPr/>
          <p:nvPr/>
        </p:nvSpPr>
        <p:spPr>
          <a:xfrm>
            <a:off x="7236000" y="6237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58920" y="620640"/>
            <a:ext cx="8785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第二天，国王贴出布告，说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知道九色鹿在哪里，就送他一百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黄金。猎人为了得到黄金，就带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国王的军队到河边去。他假装掉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河里，果然，九色鹿又出来救他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国王立刻下令围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114_jpg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0" y="-452520"/>
            <a:ext cx="921708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>
            <a:hlinkClick r:id="rId2" action="ppaction://hlinksldjump"/>
          </p:cNvPr>
          <p:cNvSpPr/>
          <p:nvPr/>
        </p:nvSpPr>
        <p:spPr>
          <a:xfrm>
            <a:off x="7236000" y="6237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24000" y="83664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九色鹿把背上的猎人丢进河里，对国王说：“我救过这个人，他却带你们来捉我，真是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忘恩负义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呀！”说完，他就跑了，美丽的身影像一道彩虹，消失在森林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jsl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8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0880" y="105264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国王听了九色鹿的话会怎么想，怎么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3240" y="2208240"/>
            <a:ext cx="9140760" cy="4641840"/>
            <a:chOff x="3240" y="2208240"/>
            <a:chExt cx="9140760" cy="4641840"/>
          </a:xfrm>
        </p:grpSpPr>
        <p:pic>
          <p:nvPicPr>
            <p:cNvPr id="257" name="Picture 5" descr="saomiao"/>
            <p:cNvPicPr/>
            <p:nvPr/>
          </p:nvPicPr>
          <p:blipFill>
            <a:blip r:embed="rId1"/>
            <a:stretch/>
          </p:blipFill>
          <p:spPr>
            <a:xfrm>
              <a:off x="3240" y="3224520"/>
              <a:ext cx="9140760" cy="29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u=2369772614,1881254890&amp;fm=59[1]"/>
            <p:cNvPicPr/>
            <p:nvPr/>
          </p:nvPicPr>
          <p:blipFill>
            <a:blip r:embed="rId2"/>
            <a:stretch/>
          </p:blipFill>
          <p:spPr>
            <a:xfrm>
              <a:off x="3240" y="2208240"/>
              <a:ext cx="3814920" cy="4641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jsl04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6300720" y="836640"/>
            <a:ext cx="25909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同学们，学完这篇课文，你们想对九色鹿说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7-02-08_165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468360" y="1052640"/>
            <a:ext cx="5398920" cy="47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125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朗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900000" y="1916280"/>
            <a:ext cx="129564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隶书"/>
              </a:rPr>
              <a:t>要求：</a:t>
            </a:r>
            <a:endParaRPr b="1" lang="en-US" sz="4400" spc="1" strike="noStrike">
              <a:ln w="1260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2781360"/>
            <a:ext cx="504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画出生字词，读准生字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读通读顺句子，难读的地方多读几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不懂的地方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拓展：续编故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件事发生不久，一天，九色鹿又来到河边，突然，耳边传来“救命啊，救命”的呼喊。九色鹿飞快地跑过来，发现在汹涌的波涛里挣扎的又是那个猎人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dccf6729d72dcb1ad42af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826920" y="476280"/>
            <a:ext cx="95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文中的谁？不喜欢文中的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987640" y="141300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九色鹿：见义勇为、不图回报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心地善良、美丽可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u=1147978630,2836266171&amp;fm=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20060803101716662"/>
          <p:cNvPicPr/>
          <p:nvPr/>
        </p:nvPicPr>
        <p:blipFill>
          <a:blip r:embed="rId4"/>
          <a:stretch/>
        </p:blipFill>
        <p:spPr>
          <a:xfrm>
            <a:off x="755640" y="3716280"/>
            <a:ext cx="2238480" cy="22384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3132000" y="3860640"/>
            <a:ext cx="374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猎人</a:t>
            </a: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：见利忘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恩将仇报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背信弃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404040" y="60418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0b6a4d35973574125ab5f57e"/>
          <p:cNvPicPr/>
          <p:nvPr/>
        </p:nvPicPr>
        <p:blipFill>
          <a:blip r:embed="rId1"/>
          <a:stretch/>
        </p:blipFill>
        <p:spPr>
          <a:xfrm>
            <a:off x="4400640" y="460440"/>
            <a:ext cx="4246560" cy="5400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452520" y="476280"/>
            <a:ext cx="374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404"/>
                </a:solidFill>
                <a:latin typeface="Arial"/>
              </a:rPr>
              <a:t>在生活中，我  们应该怎样做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58640" y="4437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404"/>
                </a:solidFill>
                <a:latin typeface="Arial"/>
              </a:rPr>
              <a:t>如果猎人再一次落水，你会救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6720" y="2438280"/>
            <a:ext cx="38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以诚实守信为荣，以见利忘义为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877080" y="595008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920" y="981000"/>
            <a:ext cx="86724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作业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行楷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4"/>
                </a:solidFill>
                <a:latin typeface="仿宋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仿宋_GB2312"/>
                <a:ea typeface="楷体_GB2312"/>
              </a:rPr>
              <a:t>把</a:t>
            </a:r>
            <a:r>
              <a:rPr b="1" lang="en-US" sz="4000" spc="-1" strike="noStrike">
                <a:solidFill>
                  <a:srgbClr val="cc00ff"/>
                </a:solidFill>
                <a:latin typeface="仿宋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仿宋_GB2312"/>
                <a:ea typeface="楷体_GB2312"/>
              </a:rPr>
              <a:t>九色鹿</a:t>
            </a:r>
            <a:r>
              <a:rPr b="1" lang="en-US" sz="4000" spc="-1" strike="noStrike">
                <a:solidFill>
                  <a:srgbClr val="cc00ff"/>
                </a:solidFill>
                <a:latin typeface="仿宋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cc00ff"/>
                </a:solidFill>
                <a:latin typeface="仿宋_GB2312"/>
                <a:ea typeface="楷体_GB2312"/>
              </a:rPr>
              <a:t>的故事讲给爸爸妈妈听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仿宋_GB2312"/>
                <a:ea typeface="楷体_GB2312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/>
          <p:cNvSpPr/>
          <p:nvPr/>
        </p:nvSpPr>
        <p:spPr>
          <a:xfrm>
            <a:off x="2556000" y="2133720"/>
            <a:ext cx="1008000" cy="43164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加一加，再组词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肚子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1549440" y="2062080"/>
            <a:ext cx="504720" cy="576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箭头 228"/>
          <p:cNvSpPr/>
          <p:nvPr/>
        </p:nvSpPr>
        <p:spPr>
          <a:xfrm>
            <a:off x="2052720" y="2421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1403280" y="3141720"/>
            <a:ext cx="504720" cy="576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箭头 233"/>
          <p:cNvSpPr/>
          <p:nvPr/>
        </p:nvSpPr>
        <p:spPr>
          <a:xfrm>
            <a:off x="205272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2413080" y="3213000"/>
            <a:ext cx="1152360" cy="4320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1403280" y="4437000"/>
            <a:ext cx="720720" cy="28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箭头 240"/>
          <p:cNvSpPr/>
          <p:nvPr/>
        </p:nvSpPr>
        <p:spPr>
          <a:xfrm>
            <a:off x="2197080" y="45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2629080" y="4365720"/>
            <a:ext cx="1008000" cy="43164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6156360" y="2133720"/>
            <a:ext cx="431640" cy="358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6300720" y="4365720"/>
            <a:ext cx="432000" cy="358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229440" y="3141720"/>
            <a:ext cx="43164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箭头 246"/>
          <p:cNvSpPr/>
          <p:nvPr/>
        </p:nvSpPr>
        <p:spPr>
          <a:xfrm>
            <a:off x="6588000" y="22766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7093080" y="2060640"/>
            <a:ext cx="1224000" cy="50472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7164360" y="3068640"/>
            <a:ext cx="1224000" cy="43344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9"/>
          <p:cNvSpPr/>
          <p:nvPr/>
        </p:nvSpPr>
        <p:spPr>
          <a:xfrm>
            <a:off x="7308720" y="4365720"/>
            <a:ext cx="1224000" cy="43164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箭头 250"/>
          <p:cNvSpPr/>
          <p:nvPr/>
        </p:nvSpPr>
        <p:spPr>
          <a:xfrm>
            <a:off x="66610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箭头 251"/>
          <p:cNvSpPr/>
          <p:nvPr/>
        </p:nvSpPr>
        <p:spPr>
          <a:xfrm>
            <a:off x="673272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填一填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8920" y="198864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命”：共（）画，第七画是（），组词（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（）结构，部首是（），组词（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共（）画，第一画是（），组词（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80680" y="620280"/>
            <a:ext cx="463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拼一拼，写一写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uán shuō         mìng lìng       chōng c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           )         (           )          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ūn  duì                 shī qù             zhèng  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      )              (           )          (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一比，组词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4000" y="19886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中（  ）  义（  ）  车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冲（  ）  意（  ）  军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知（  ）  心（  ）  外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失（  ）  必（  ）  处（  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"/>
          <p:cNvSpPr/>
          <p:nvPr/>
        </p:nvSpPr>
        <p:spPr>
          <a:xfrm>
            <a:off x="1522440" y="5875200"/>
            <a:ext cx="57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2C7-4403-433A-BA20-997638B20F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84360" y="1125360"/>
            <a:ext cx="8208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c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宋体"/>
              </a:rPr>
              <a:t>ǎ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i    b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</a:rPr>
              <a:t>ē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n    hóng    xiè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3333cc"/>
                </a:solidFill>
                <a:latin typeface="Arial"/>
              </a:rPr>
              <a:t>彩    奔      虹    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kè      sù       d</a:t>
            </a:r>
            <a:r>
              <a:rPr b="1" lang="zh-CN" sz="5400" spc="-1" strike="noStrike">
                <a:solidFill>
                  <a:srgbClr val="cc00ff"/>
                </a:solidFill>
                <a:latin typeface="宋体"/>
                <a:ea typeface="宋体"/>
              </a:rPr>
              <a:t>à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i     xi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宋体"/>
              </a:rPr>
              <a:t>ā</a:t>
            </a: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客    诉     带     消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42920" y="414972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627280" y="765000"/>
            <a:ext cx="38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新魏"/>
              </a:rPr>
              <a:t>我  会  读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200931415312853"/>
          <p:cNvPicPr/>
          <p:nvPr/>
        </p:nvPicPr>
        <p:blipFill>
          <a:blip r:embed="rId2"/>
          <a:stretch/>
        </p:blipFill>
        <p:spPr>
          <a:xfrm>
            <a:off x="0" y="0"/>
            <a:ext cx="2303640" cy="2158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0" y="2060640"/>
            <a:ext cx="8856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chu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  <a:ea typeface="宋体"/>
              </a:rPr>
              <a:t>á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mìng  chōng</a:t>
            </a: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ì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传      命     冲    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  <a:ea typeface="宋体"/>
              </a:rPr>
              <a:t>à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jūn      yì       sh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告     军     义     失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grass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0" y="1125360"/>
            <a:ext cx="9505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彩虹   飞奔   感谢   做客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告诉   带头   消息   传说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命令　冲进   必要   告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军人   失去    忘恩负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68360" y="333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你 会 读 这 些 词 语 吗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9916bfd2b4e4179aa8ec9abb"/>
          <p:cNvPicPr/>
          <p:nvPr/>
        </p:nvPicPr>
        <p:blipFill>
          <a:blip r:embed="rId2"/>
          <a:stretch/>
        </p:blipFill>
        <p:spPr>
          <a:xfrm>
            <a:off x="7020000" y="260280"/>
            <a:ext cx="1798560" cy="2806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6877080" y="595008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348000" y="537372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（恩将仇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7"/>
          <p:cNvSpPr/>
          <p:nvPr/>
        </p:nvSpPr>
        <p:spPr>
          <a:xfrm>
            <a:off x="2916360" y="3284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自由读第一自然段，说一说九色鹿是什么样子的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8920" y="3213000"/>
            <a:ext cx="8742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传说森林里有一只鹿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他身上有九种色彩，奔跑起来，好像一道美丽的彩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nap2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3708360" y="1341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楷体_GB2312"/>
              </a:rPr>
              <a:t>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</a:rPr>
              <a:t>他身上有九种色彩，奔跑起来，好像一道美丽的彩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>
            <a:hlinkClick r:id="rId3" action="ppaction://hlinksldjump"/>
          </p:cNvPr>
          <p:cNvSpPr/>
          <p:nvPr/>
        </p:nvSpPr>
        <p:spPr>
          <a:xfrm>
            <a:off x="539640" y="551664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908000" y="4662360"/>
            <a:ext cx="68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作者把九色鹿比作什么？这样写有什么好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用“好像”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月亮弯弯好像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公路弯弯好像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——————好像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——————好像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03640" y="98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香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jiāo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861080" y="1052640"/>
            <a:ext cx="18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lián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227640" y="111744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492360" y="1916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条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403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太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286160" y="285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个大火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260360" y="37180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象的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284720" y="37180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把扇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619280" y="4508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mó g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111560" y="4624560"/>
            <a:ext cx="21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把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844720" y="44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140360" y="5516640"/>
            <a:ext cx="24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611280" y="5589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yàn zi de wě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5148360" y="544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剪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7840" y="1412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然段。想一想，发生了一件什么事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58880" y="2952720"/>
            <a:ext cx="79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（猎人能信守承诺吗？九色鹿的善良得到猎人的真心回报吗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6:58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6:58Z</dcterms:modified>
  <cp:revision>1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